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AAE-CA45-4ED0-8899-F7E0E78E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07B6-396F-4064-9CF3-BC524DEF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C3F-D3E8-40D5-B065-599F7ED4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CDF-E99C-4187-B24F-20604A7CF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A017-E517-428C-B872-24A771E3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ED9-6D70-4295-9C6D-F5872123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F6FB-01C9-4B2D-A477-CDBCCBA5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3F3-FA59-4468-829B-710A760E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A686-B0EF-473E-8FA7-7567B04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B2A-BB40-4FD0-AF33-E6B3CB2E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8A6-657D-4E7C-A4FC-E84859AD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E67-3CFF-46C2-B620-979C22F9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9F84C3-C3F7-4C27-8DCE-30A4A2602A1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-3048120" y="-1714680"/>
            <a:ext cx="18287640" cy="102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  <Words>0</Words>
  <Paragraphs>0</Paragraphs>
  <Company>diakov.ne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9:39:14Z</dcterms:created>
  <dc:creator>RePack by Diakov</dc:creator>
  <dc:description/>
  <dc:language>en-US</dc:language>
  <cp:lastModifiedBy>RePack by Diakov</cp:lastModifiedBy>
  <dcterms:modified xsi:type="dcterms:W3CDTF">2016-12-15T09:58:57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</vt:r8>
  </property>
</Properties>
</file>