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3B5-4DC3-483A-9483-ECD493CA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E70-AD60-4349-8F6D-510375C6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B41-31A1-4D39-AF11-16029131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A4D-F788-4D3F-B054-3B820DFC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6EA-26DD-41C0-A5F4-28885B8F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9D9-8FB2-4035-89AA-6C8456E0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B75-B3AA-42EF-9560-1802B600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388-0623-4EF7-A228-0DDDB1EF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E53-B7B9-4E89-8874-8B0B1994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EDD-4010-46A9-84A0-F9E4F80E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4FF-32AF-4F9A-B8B1-3057094A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993-17B6-433D-8B29-956988D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F02201-F152-4D76-AD99-3F4DEC566B1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"/>
          <p:cNvPicPr/>
          <p:nvPr/>
        </p:nvPicPr>
        <p:blipFill>
          <a:blip r:embed="rId1"/>
          <a:stretch/>
        </p:blipFill>
        <p:spPr>
          <a:xfrm>
            <a:off x="-3048120" y="-1714680"/>
            <a:ext cx="18287640" cy="102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  <Words>0</Words>
  <Paragraphs>0</Paragraphs>
  <Company>diakov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9:39:14Z</dcterms:created>
  <dc:creator>RePack by Diakov</dc:creator>
  <dc:description/>
  <dc:language>en-US</dc:language>
  <cp:lastModifiedBy>RePack by Diakov</cp:lastModifiedBy>
  <dcterms:modified xsi:type="dcterms:W3CDTF">2016-12-15T09:58:57Z</dcterms:modified>
  <cp:revision>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</vt:r8>
  </property>
</Properties>
</file>