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14D-DA1C-468E-9C80-0F0A885D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2CD-B220-433C-9502-04ADC20D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D65-30CF-4F5B-8776-69A45F79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191-3A5C-433D-9B35-43EA0594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29EF-F1B7-4167-B8ED-AA564F06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F53A-0C92-4E78-A720-025ED72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DB3-984D-4FE3-9F71-198B810C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BEAE-FF06-4988-96CD-1EB2CF1F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467B-E4CA-4D3A-A0FB-51456FB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6404-F633-4B68-8C07-EBB70DC8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3C3-6F7E-42BD-865F-0220AE8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B3B-6180-44C4-9A2A-63ACD35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33E-A71A-49BC-95C0-67129D0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411-A45A-4DE2-8C02-3AFE0F4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5A8F-BD73-4C59-8354-8AAEBD35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B033-A4D0-4AB8-B5D3-CC91C233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57A7-50AC-4FBA-856A-511C0533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852-BF85-479E-9277-92C47DE5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D42-5C6E-4B06-B084-C7FC901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4F0-2005-40BE-B98E-3B1C6114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1FB-885F-4C3A-84E6-5B260144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083-0781-485B-BA7C-2AEB9968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F86-282D-4396-8026-9A54084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9E9-02E4-4327-889E-D9DF4B9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49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93d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EA11-B966-4945-9D13-49BCBCD36E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49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93d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3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36B7-058B-41A1-B3DA-1FAAC8DC5D33}" type="slidenum">
              <a:rPr b="0" lang="ru-RU" sz="1400" spc="-1" strike="noStrike">
                <a:solidFill>
                  <a:srgbClr val="00003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a693d5"/>
                </a:solidFill>
                <a:latin typeface="Times New Roman"/>
              </a:rPr>
              <a:t>Іван Семенович</a:t>
            </a:r>
            <a:br>
              <a:rPr sz="7200"/>
            </a:br>
            <a:r>
              <a:rPr b="0" lang="uk-UA" sz="7200" spc="-1" strike="noStrike">
                <a:solidFill>
                  <a:srgbClr val="a693d5"/>
                </a:solidFill>
                <a:latin typeface="Times New Roman"/>
              </a:rPr>
              <a:t> Нечуй-Левицький </a:t>
            </a:r>
            <a:r>
              <a:rPr b="0" lang="ru-RU" sz="7200" spc="-1" strike="noStrike">
                <a:solidFill>
                  <a:srgbClr val="a693d5"/>
                </a:solidFill>
                <a:latin typeface="Times New Roman"/>
              </a:rPr>
              <a:t>(1838 - 1918)</a:t>
            </a:r>
            <a:r>
              <a:rPr b="0" lang="ru-RU" sz="4000" spc="-1" strike="noStrike">
                <a:solidFill>
                  <a:srgbClr val="a693d5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35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3e"/>
                </a:solidFill>
                <a:latin typeface="Times New Roman"/>
              </a:rPr>
              <a:t>Видатний майстер художньої прози</a:t>
            </a:r>
            <a:endParaRPr b="1" lang="en-US" sz="40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8720" y="33300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a693d5"/>
                </a:solidFill>
                <a:latin typeface="Times New Roman"/>
              </a:rPr>
              <a:t>Найбільш плідні роки творчості</a:t>
            </a:r>
            <a:endParaRPr b="0" lang="en-US" sz="48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27" name="Picture 7" descr="Іван Нечуй-Левицький на фото кінця 1890-х"/>
          <p:cNvPicPr/>
          <p:nvPr/>
        </p:nvPicPr>
        <p:blipFill>
          <a:blip r:embed="rId1"/>
          <a:stretch/>
        </p:blipFill>
        <p:spPr>
          <a:xfrm>
            <a:off x="1306440" y="1341360"/>
            <a:ext cx="2830680" cy="3440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755640" y="4947840"/>
            <a:ext cx="407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Фото кінця 90-х років.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Письменник помер 2 квітня 1918 року в Дегтярівському притулку в Києві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pic>
        <p:nvPicPr>
          <p:cNvPr id="129" name="Picture 9" descr="І"/>
          <p:cNvPicPr/>
          <p:nvPr/>
        </p:nvPicPr>
        <p:blipFill>
          <a:blip r:embed="rId2"/>
          <a:stretch/>
        </p:blipFill>
        <p:spPr>
          <a:xfrm>
            <a:off x="5384880" y="1835280"/>
            <a:ext cx="34401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6302160" y="6092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Фото 1895 року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1874 у року — роман «Хмари».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1875 року — драматичні твори «Маруся Богуславка», «На Кожум'яках».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Пізніше «Микола Джеря» (1878 р.), «Кайдашева сім'я» (1879 р.)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1885 року І. Нечуй-Левицький йде у відставку й перебирається до Києва, де присвячує себе виключно літературі. 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У Києві він написав оповідання «Пропащі» (1888 р.),  казку «Скривджені» (1892 р.),  повість «Поміж порогами» (1893 р.). 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На початку століття письменник звертається до малих форм прози, пише статті, нариси.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Видання книг</a:t>
            </a: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33" name="Picture 9" descr="кай сімм"/>
          <p:cNvPicPr/>
          <p:nvPr/>
        </p:nvPicPr>
        <p:blipFill>
          <a:blip r:embed="rId1"/>
          <a:stretch/>
        </p:blipFill>
        <p:spPr>
          <a:xfrm>
            <a:off x="1547640" y="9079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йдааа"/>
          <p:cNvPicPr/>
          <p:nvPr/>
        </p:nvPicPr>
        <p:blipFill>
          <a:blip r:embed="rId2"/>
          <a:stretch/>
        </p:blipFill>
        <p:spPr>
          <a:xfrm>
            <a:off x="3492360" y="1341360"/>
            <a:ext cx="1686240" cy="261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ккк"/>
          <p:cNvPicPr/>
          <p:nvPr/>
        </p:nvPicPr>
        <p:blipFill>
          <a:blip r:embed="rId3"/>
          <a:stretch/>
        </p:blipFill>
        <p:spPr>
          <a:xfrm>
            <a:off x="7236000" y="981000"/>
            <a:ext cx="152532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кайдашшш"/>
          <p:cNvPicPr/>
          <p:nvPr/>
        </p:nvPicPr>
        <p:blipFill>
          <a:blip r:embed="rId4"/>
          <a:stretch/>
        </p:blipFill>
        <p:spPr>
          <a:xfrm>
            <a:off x="1258920" y="3068640"/>
            <a:ext cx="1573200" cy="22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Світогляд українського народу"/>
          <p:cNvPicPr/>
          <p:nvPr/>
        </p:nvPicPr>
        <p:blipFill>
          <a:blip r:embed="rId5"/>
          <a:stretch/>
        </p:blipFill>
        <p:spPr>
          <a:xfrm>
            <a:off x="3924360" y="3716280"/>
            <a:ext cx="186696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книга кайдаш"/>
          <p:cNvPicPr/>
          <p:nvPr/>
        </p:nvPicPr>
        <p:blipFill>
          <a:blip r:embed="rId6"/>
          <a:srcRect l="6263" t="4192" r="12541" b="6471"/>
          <a:stretch/>
        </p:blipFill>
        <p:spPr>
          <a:xfrm>
            <a:off x="7020000" y="3357720"/>
            <a:ext cx="1871640" cy="28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запорожці"/>
          <p:cNvPicPr/>
          <p:nvPr/>
        </p:nvPicPr>
        <p:blipFill>
          <a:blip r:embed="rId7"/>
          <a:stretch/>
        </p:blipFill>
        <p:spPr>
          <a:xfrm>
            <a:off x="5435640" y="1341360"/>
            <a:ext cx="1636560" cy="251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диск левицьк"/>
          <p:cNvPicPr/>
          <p:nvPr/>
        </p:nvPicPr>
        <p:blipFill>
          <a:blip r:embed="rId8"/>
          <a:stretch/>
        </p:blipFill>
        <p:spPr>
          <a:xfrm>
            <a:off x="2124000" y="5229360"/>
            <a:ext cx="1636920" cy="1417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f3a9f732"/>
          <p:cNvPicPr/>
          <p:nvPr/>
        </p:nvPicPr>
        <p:blipFill>
          <a:blip r:embed="rId9"/>
          <a:srcRect l="4537" t="16667" r="3056" b="16667"/>
          <a:stretch/>
        </p:blipFill>
        <p:spPr>
          <a:xfrm>
            <a:off x="5867280" y="5300640"/>
            <a:ext cx="144144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a693d5"/>
                </a:solidFill>
                <a:latin typeface="Times New Roman"/>
              </a:rPr>
              <a:t>“</a:t>
            </a:r>
            <a:r>
              <a:rPr b="0" lang="uk-UA" sz="6000" spc="-1" strike="noStrike">
                <a:solidFill>
                  <a:srgbClr val="a693d5"/>
                </a:solidFill>
                <a:latin typeface="Times New Roman"/>
              </a:rPr>
              <a:t>Хмари”</a:t>
            </a: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43" name="Picture 8" descr="кн хмари"/>
          <p:cNvPicPr/>
          <p:nvPr/>
        </p:nvPicPr>
        <p:blipFill>
          <a:blip r:embed="rId1"/>
          <a:stretch/>
        </p:blipFill>
        <p:spPr>
          <a:xfrm>
            <a:off x="7308720" y="1484280"/>
            <a:ext cx="131760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хмари"/>
          <p:cNvPicPr/>
          <p:nvPr/>
        </p:nvPicPr>
        <p:blipFill>
          <a:blip r:embed="rId2"/>
          <a:srcRect l="1361" t="1907" r="2545" b="7630"/>
          <a:stretch/>
        </p:blipFill>
        <p:spPr>
          <a:xfrm>
            <a:off x="539640" y="1557360"/>
            <a:ext cx="6624720" cy="4448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marry-s"/>
          <p:cNvPicPr/>
          <p:nvPr/>
        </p:nvPicPr>
        <p:blipFill>
          <a:blip r:embed="rId3"/>
          <a:stretch/>
        </p:blipFill>
        <p:spPr>
          <a:xfrm>
            <a:off x="6948360" y="4097160"/>
            <a:ext cx="1895760" cy="276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“</a:t>
            </a: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Кайдашева сім</a:t>
            </a:r>
            <a:r>
              <a:rPr b="0" lang="en-US" sz="5400" spc="-1" strike="noStrike">
                <a:solidFill>
                  <a:srgbClr val="a693d5"/>
                </a:solidFill>
                <a:latin typeface="Times New Roman"/>
              </a:rPr>
              <a:t>’</a:t>
            </a:r>
            <a:r>
              <a:rPr b="0" lang="ru-RU" sz="5400" spc="-1" strike="noStrike">
                <a:solidFill>
                  <a:srgbClr val="a693d5"/>
                </a:solidFill>
                <a:latin typeface="Times New Roman"/>
              </a:rPr>
              <a:t>я</a:t>
            </a: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47" name="Picture 9" descr="88"/>
          <p:cNvPicPr/>
          <p:nvPr/>
        </p:nvPicPr>
        <p:blipFill>
          <a:blip r:embed="rId1"/>
          <a:stretch/>
        </p:blipFill>
        <p:spPr>
          <a:xfrm>
            <a:off x="250920" y="4365720"/>
            <a:ext cx="3030480" cy="227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Kajdasheva cimja 2"/>
          <p:cNvPicPr/>
          <p:nvPr/>
        </p:nvPicPr>
        <p:blipFill>
          <a:blip r:embed="rId2"/>
          <a:srcRect l="3570" t="0" r="11096" b="0"/>
          <a:stretch/>
        </p:blipFill>
        <p:spPr>
          <a:xfrm>
            <a:off x="5508720" y="1268280"/>
            <a:ext cx="3456000" cy="2505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вистава"/>
          <p:cNvPicPr/>
          <p:nvPr/>
        </p:nvPicPr>
        <p:blipFill>
          <a:blip r:embed="rId3"/>
          <a:stretch/>
        </p:blipFill>
        <p:spPr>
          <a:xfrm>
            <a:off x="5435640" y="4076640"/>
            <a:ext cx="3473280" cy="260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kajdashi3"/>
          <p:cNvPicPr/>
          <p:nvPr/>
        </p:nvPicPr>
        <p:blipFill>
          <a:blip r:embed="rId4"/>
          <a:stretch/>
        </p:blipFill>
        <p:spPr>
          <a:xfrm>
            <a:off x="179280" y="692280"/>
            <a:ext cx="24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kajdashi2"/>
          <p:cNvPicPr/>
          <p:nvPr/>
        </p:nvPicPr>
        <p:blipFill>
          <a:blip r:embed="rId5"/>
          <a:stretch/>
        </p:blipFill>
        <p:spPr>
          <a:xfrm>
            <a:off x="2771640" y="1413000"/>
            <a:ext cx="2575080" cy="3431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a693d5"/>
                </a:solidFill>
                <a:latin typeface="Times New Roman"/>
              </a:rPr>
              <a:t>Від гумору до справ духовних</a:t>
            </a:r>
            <a:endParaRPr b="0" lang="en-US" sz="48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53" name="Picture 6" descr="Баба Палажка"/>
          <p:cNvPicPr/>
          <p:nvPr/>
        </p:nvPicPr>
        <p:blipFill>
          <a:blip r:embed="rId1"/>
          <a:stretch/>
        </p:blipFill>
        <p:spPr>
          <a:xfrm>
            <a:off x="1403280" y="4221000"/>
            <a:ext cx="204948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Параска Палажка"/>
          <p:cNvPicPr/>
          <p:nvPr/>
        </p:nvPicPr>
        <p:blipFill>
          <a:blip r:embed="rId2"/>
          <a:stretch/>
        </p:blipFill>
        <p:spPr>
          <a:xfrm>
            <a:off x="2124000" y="1523880"/>
            <a:ext cx="3529080" cy="2438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Ювілейне видання Біблії Куліша, Нечуя-Левицького та Пулюя"/>
          <p:cNvPicPr/>
          <p:nvPr/>
        </p:nvPicPr>
        <p:blipFill>
          <a:blip r:embed="rId3"/>
          <a:stretch/>
        </p:blipFill>
        <p:spPr>
          <a:xfrm>
            <a:off x="6156360" y="1700280"/>
            <a:ext cx="233820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5940360" y="544500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Ювілейне видання Біблії Куліша,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Нечуя-Левицького та Пулюя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492360" y="458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«Баба Параска та </a:t>
            </a:r>
            <a:br>
              <a:rPr sz="1800"/>
            </a:b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баба Палажка»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2560" cy="62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До кінця життя І. Левицький жив майже у злиднях, у маленькій квартирі на Пушкінській вулиці.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Лише влітку виїздив до родичів у село або в Білу Церкву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До останніх сил працював, щоб завершити літературні праці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Останні дні провів на Дегтярівці, у так званому «шпиталі для одиноких людей», де й помер без догляду 1918 року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Поховано його на Байковому кладовищі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Письменника поховано на Байковому кладовищі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60" name="Picture 8" descr="Надгробок Івана Нечуй-Левицького на Байковому цвинтарі в Києві"/>
          <p:cNvPicPr/>
          <p:nvPr/>
        </p:nvPicPr>
        <p:blipFill>
          <a:blip r:embed="rId1"/>
          <a:stretch/>
        </p:blipFill>
        <p:spPr>
          <a:xfrm>
            <a:off x="3059280" y="1557360"/>
            <a:ext cx="367164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Вперше монографію С.Єфремова було видано 1925 року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62" name="Picture 7" descr="ief-nech1"/>
          <p:cNvPicPr/>
          <p:nvPr/>
        </p:nvPicPr>
        <p:blipFill>
          <a:blip r:embed="rId1"/>
          <a:stretch/>
        </p:blipFill>
        <p:spPr>
          <a:xfrm>
            <a:off x="1979640" y="1773360"/>
            <a:ext cx="2976480" cy="468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ief-nech2"/>
          <p:cNvPicPr/>
          <p:nvPr/>
        </p:nvPicPr>
        <p:blipFill>
          <a:blip r:embed="rId2"/>
          <a:stretch/>
        </p:blipFill>
        <p:spPr>
          <a:xfrm>
            <a:off x="5384880" y="1773360"/>
            <a:ext cx="3270240" cy="4665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1252080" y="692280"/>
            <a:ext cx="7151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Презентацію 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“Іван Семенович Нечуй-Левицький</a:t>
            </a:r>
            <a:endParaRPr b="0" lang="en-US" sz="32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Видатний майстер художньої прози”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підготувала 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вчитель української мови та літератури 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Теклинської ЗОШ </a:t>
            </a:r>
            <a:r>
              <a:rPr b="0" lang="en-US" sz="3200" spc="-1" strike="noStrike">
                <a:solidFill>
                  <a:srgbClr val="00003e"/>
                </a:solidFill>
                <a:latin typeface="Times New Roman"/>
              </a:rPr>
              <a:t>I</a:t>
            </a: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3e"/>
                </a:solidFill>
                <a:latin typeface="Times New Roman"/>
              </a:rPr>
              <a:t>II</a:t>
            </a: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 ступенів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Смілянської районної ради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Черкаської області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Хмелярчук Людмила Петрівна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2009</a:t>
            </a:r>
            <a:r>
              <a:rPr b="0" lang="en-US" sz="3200" spc="-1" strike="noStrike">
                <a:solidFill>
                  <a:srgbClr val="00003e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р.</a:t>
            </a:r>
            <a:endParaRPr b="0" lang="en-US" sz="32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51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Іван Нечуй-Левицький</a:t>
            </a:r>
            <a:endParaRPr b="0" lang="en-US" sz="5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95" name="Picture 6" descr="nechui-levicki"/>
          <p:cNvPicPr/>
          <p:nvPr/>
        </p:nvPicPr>
        <p:blipFill>
          <a:blip r:embed="rId1"/>
          <a:srcRect l="2080" t="2366" r="3840" b="6450"/>
          <a:stretch/>
        </p:blipFill>
        <p:spPr>
          <a:xfrm>
            <a:off x="3564000" y="333360"/>
            <a:ext cx="331164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0"/>
            <a:ext cx="9142560" cy="67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Народився 25 листопада 1838 року в Стеблеві, в сім'ї сільського священика.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Батько його був освіченою людиною, мав велику домашню книгозбірню і на власні кошти влаштував школу для селян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На сьомому році життя Івана віддали в науку до дядька, який вчителював у духовному училищі при Богуславському монастирі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Після училища в чотирнадцятилітньому віці вступив до Київської духовної семінарії, де навчався з 1853 по 1859 рік.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1861 року Левицький вступає до Київської духовної академії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1865 року І. Левицький закінчує академію із званням магістра, але відмовляється від духовної кар'єри й викладає російську мову, літературу, історію та географію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Корсунь-Шевченківський район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98" name="Picture 6" descr="Korsun-shevchenkivskyi"/>
          <p:cNvPicPr/>
          <p:nvPr/>
        </p:nvPicPr>
        <p:blipFill>
          <a:blip r:embed="rId1"/>
          <a:stretch/>
        </p:blipFill>
        <p:spPr>
          <a:xfrm>
            <a:off x="2484360" y="1700280"/>
            <a:ext cx="5668920" cy="434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Смт. Стеблів ( нині Корсунь-Шевченківського району) – батьківщина Нечуя-Левицького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00" name="Picture 13" descr="%D0%E8%F1%F3%ED%EE%EA24"/>
          <p:cNvPicPr/>
          <p:nvPr/>
        </p:nvPicPr>
        <p:blipFill>
          <a:blip r:embed="rId1"/>
          <a:srcRect l="6539" t="0" r="0" b="0"/>
          <a:stretch/>
        </p:blipFill>
        <p:spPr>
          <a:xfrm>
            <a:off x="5435640" y="3573360"/>
            <a:ext cx="3560760" cy="264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Музей"/>
          <p:cNvPicPr/>
          <p:nvPr/>
        </p:nvPicPr>
        <p:blipFill>
          <a:blip r:embed="rId2"/>
          <a:stretch/>
        </p:blipFill>
        <p:spPr>
          <a:xfrm>
            <a:off x="684360" y="2565360"/>
            <a:ext cx="4457520" cy="300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5"/>
          <p:cNvSpPr/>
          <p:nvPr/>
        </p:nvSpPr>
        <p:spPr>
          <a:xfrm>
            <a:off x="5724360" y="1916280"/>
            <a:ext cx="30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Біля музею встановлений пам</a:t>
            </a: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’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ятник письменнику (скульптор Г. Кальченко, архітектор А. Ігнащенко; бронза, граніт).</a:t>
            </a:r>
            <a:r>
              <a:rPr b="0" lang="uk-UA" sz="1800" spc="-1" strike="noStrike">
                <a:solidFill>
                  <a:srgbClr val="0000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250920" y="566064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3e"/>
                </a:solidFill>
                <a:latin typeface="Times New Roman"/>
              </a:rPr>
              <a:t>   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Музей знаходиться у відновленій пам</a:t>
            </a: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’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ятці історії – будинку, в якому мешкала родина 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І.С. Нечуя-Левицького.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971640" y="1844280"/>
            <a:ext cx="38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Літературно-меморіальний музей </a:t>
            </a:r>
            <a:r>
              <a:rPr b="1" lang="uk-UA" sz="1800" spc="-1" strike="noStrike" u="sng">
                <a:solidFill>
                  <a:srgbClr val="00003e"/>
                </a:solidFill>
                <a:uFillTx/>
                <a:latin typeface="Times New Roman"/>
              </a:rPr>
              <a:t>І.С. Нечуя-Левицького</a:t>
            </a:r>
            <a:r>
              <a:rPr b="0" lang="ru-RU" sz="1800" spc="-1" strike="noStrike">
                <a:solidFill>
                  <a:srgbClr val="0000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wheel spokes="2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Експозиція музею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06" name="Picture 9" descr="Експозиція літературно-меморіального музею "/>
          <p:cNvPicPr/>
          <p:nvPr/>
        </p:nvPicPr>
        <p:blipFill>
          <a:blip r:embed="rId1"/>
          <a:stretch/>
        </p:blipFill>
        <p:spPr>
          <a:xfrm>
            <a:off x="250920" y="1341360"/>
            <a:ext cx="3097080" cy="231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Експозиція літературно-меморіального музею І"/>
          <p:cNvPicPr/>
          <p:nvPr/>
        </p:nvPicPr>
        <p:blipFill>
          <a:blip r:embed="rId2"/>
          <a:stretch/>
        </p:blipFill>
        <p:spPr>
          <a:xfrm>
            <a:off x="324000" y="3860640"/>
            <a:ext cx="3240000" cy="242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Експозиція літературно-меморіального музею І"/>
          <p:cNvPicPr/>
          <p:nvPr/>
        </p:nvPicPr>
        <p:blipFill>
          <a:blip r:embed="rId3"/>
          <a:stretch/>
        </p:blipFill>
        <p:spPr>
          <a:xfrm>
            <a:off x="5916600" y="123660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Експозиція літературно-меморіального музею І"/>
          <p:cNvPicPr/>
          <p:nvPr/>
        </p:nvPicPr>
        <p:blipFill>
          <a:blip r:embed="rId4"/>
          <a:stretch/>
        </p:blipFill>
        <p:spPr>
          <a:xfrm>
            <a:off x="5975280" y="400536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Експозиція літературно-меморіального музею І"/>
          <p:cNvPicPr/>
          <p:nvPr/>
        </p:nvPicPr>
        <p:blipFill>
          <a:blip r:embed="rId5"/>
          <a:stretch/>
        </p:blipFill>
        <p:spPr>
          <a:xfrm>
            <a:off x="3132000" y="1700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Експозиція літературно-меморіального музею І"/>
          <p:cNvPicPr/>
          <p:nvPr/>
        </p:nvPicPr>
        <p:blipFill>
          <a:blip r:embed="rId6"/>
          <a:stretch/>
        </p:blipFill>
        <p:spPr>
          <a:xfrm>
            <a:off x="3132000" y="458784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Рось у Стеблеві, колись і зараз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13" name="Picture 8" descr="Рось у Стеблеві"/>
          <p:cNvPicPr/>
          <p:nvPr/>
        </p:nvPicPr>
        <p:blipFill>
          <a:blip r:embed="rId1"/>
          <a:stretch/>
        </p:blipFill>
        <p:spPr>
          <a:xfrm>
            <a:off x="1187280" y="4005360"/>
            <a:ext cx="3660840" cy="25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Рось у Стеблеві"/>
          <p:cNvPicPr/>
          <p:nvPr/>
        </p:nvPicPr>
        <p:blipFill>
          <a:blip r:embed="rId2"/>
          <a:stretch/>
        </p:blipFill>
        <p:spPr>
          <a:xfrm>
            <a:off x="826920" y="1413000"/>
            <a:ext cx="3824280" cy="248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Рось у Стеблеві"/>
          <p:cNvPicPr/>
          <p:nvPr/>
        </p:nvPicPr>
        <p:blipFill>
          <a:blip r:embed="rId3"/>
          <a:stretch/>
        </p:blipFill>
        <p:spPr>
          <a:xfrm>
            <a:off x="5292720" y="1413000"/>
            <a:ext cx="3733920" cy="243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Рось у Стеблеві"/>
          <p:cNvPicPr/>
          <p:nvPr/>
        </p:nvPicPr>
        <p:blipFill>
          <a:blip r:embed="rId4"/>
          <a:stretch/>
        </p:blipFill>
        <p:spPr>
          <a:xfrm>
            <a:off x="5076720" y="4005360"/>
            <a:ext cx="36640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693d5"/>
                </a:solidFill>
                <a:latin typeface="Times New Roman"/>
              </a:rPr>
              <a:t>Навчання в Київській духовній академії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18" name="Picture 4" descr="КИЇВСЬ~1"/>
          <p:cNvPicPr/>
          <p:nvPr/>
        </p:nvPicPr>
        <p:blipFill>
          <a:blip r:embed="rId1"/>
          <a:stretch/>
        </p:blipFill>
        <p:spPr>
          <a:xfrm>
            <a:off x="4500720" y="4005360"/>
            <a:ext cx="4537080" cy="24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Іван Левицький під час навчання в Київській духовній академії (1861–1865)"/>
          <p:cNvPicPr/>
          <p:nvPr/>
        </p:nvPicPr>
        <p:blipFill>
          <a:blip r:embed="rId2"/>
          <a:stretch/>
        </p:blipFill>
        <p:spPr>
          <a:xfrm>
            <a:off x="1477800" y="1413000"/>
            <a:ext cx="277200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284720" y="206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Іван Нечуй-Левицький під час навчання в Київській духовній академії (1861-1865).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Потім рік викладає в духовній семінарії в Полтаві, там починає писати прозу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Життя присвятив навчанню та літературі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22" name="Picture 18" descr="1892-й Нечуй-Левицький уже сім років на пенсії живе в Києві"/>
          <p:cNvPicPr/>
          <p:nvPr/>
        </p:nvPicPr>
        <p:blipFill>
          <a:blip r:embed="rId1"/>
          <a:stretch/>
        </p:blipFill>
        <p:spPr>
          <a:xfrm>
            <a:off x="6012000" y="1413000"/>
            <a:ext cx="2457360" cy="367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Із 1866-го по 1873-й Нечуй викладає у дівочих гімназіях Царства Польського, далі 12 років у Кишиневі"/>
          <p:cNvPicPr/>
          <p:nvPr/>
        </p:nvPicPr>
        <p:blipFill>
          <a:blip r:embed="rId2"/>
          <a:stretch/>
        </p:blipFill>
        <p:spPr>
          <a:xfrm>
            <a:off x="1979640" y="1916280"/>
            <a:ext cx="2571840" cy="3601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5796000" y="5300280"/>
            <a:ext cx="32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1992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 р. Іван Нечуй-Левицький уже 8 років на пенсії, живе в Києві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1476360" y="5667120"/>
            <a:ext cx="38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З 1966-го по 1873-й Нечуй викладає в дівочих гімназіях Царства Польського, далі 12 років у Кишиневі. Фото 1870-х.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0:14:39Z</dcterms:created>
  <dc:creator>Ark</dc:creator>
  <dc:description/>
  <dc:language>en-US</dc:language>
  <cp:lastModifiedBy>Admin</cp:lastModifiedBy>
  <dcterms:modified xsi:type="dcterms:W3CDTF">2011-09-05T18:05:08Z</dcterms:modified>
  <cp:revision>4</cp:revision>
  <dc:subject/>
  <dc:title>Іван Нечуй-Левицький</dc:title>
</cp:coreProperties>
</file>