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62F-2B3C-4708-A206-2481B703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9B6-AD3B-40DA-AD30-4D32C415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F0E4-B19F-4C8C-BC4B-494E9E7F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81E-58F0-4BE6-803E-5F1705EA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F459-E14C-47B0-BF26-428B2A34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A1FF-3A98-4EE4-8A95-BF1ECB53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167D-8EEE-4890-A07D-CAAC40BF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2543-7C20-4320-8189-29168C13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A9DD-1D3B-4F25-B29A-3D082950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240" cy="49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650F-34AA-4E20-A14D-E2063686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E34C-3BF0-48D5-82C6-32B11437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000-3710-4578-B7F3-D567BDF4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C30A-8DF4-44E6-BC08-7520406B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83C4-BF10-4A16-AEFB-F63C63F1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525D-7BAE-4548-9FF2-770376C1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D516-D253-4B3C-A414-ED58FA90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A68B-2E7E-4914-B011-BFBC062B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FDBAF-F035-4ACB-8622-7D620B69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22677-4A00-46D7-834A-872E918C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D6B53-14BB-4E8C-9BD8-4868875B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D7802-5067-4789-AF0D-30C70F85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96FFD-8D76-4496-A1A4-40E19F80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7F9A-37FA-4633-8C0B-8831E148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240" cy="49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63DBC-05C8-4FC4-93EF-994EC25E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AD298-F1C8-4540-BDEB-527492E7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10A63-CA37-4587-96A5-4EF5BEAD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F04E9-1A7E-4AFB-9632-2AA5A618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87E4F-CDF2-4B3E-9256-AFC8277C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5392E-322A-4F99-8E71-99B05405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51117-A6D0-456F-A4F3-46CAA9F1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652-E4FD-41A7-BF88-092DCA08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6C9-763F-430E-952C-4FF512E8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240" cy="49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400E-4093-4BEC-B3D4-AD0EEB51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AF3-9F6B-4FC4-B4EE-B6D6FE0E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827D-89DE-4261-B70C-5F073422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72C2-A7CA-41ED-A0F4-6DA6B896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3BE298-75DF-4585-9BE0-F2AFC3A7F49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e5b6f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909A14-550C-445A-8C4E-DEE7F970727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4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e5b6f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feb80a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ea157a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feb80a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D37B00-6C8B-4EFA-9129-86AD0E1B160A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My day without TV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3899880"/>
            <a:ext cx="4952520" cy="11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3000"/>
          </a:bodyPr>
          <a:p>
            <a:pPr marL="57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7600" spc="-1" strike="noStrike">
                <a:solidFill>
                  <a:srgbClr val="4e5b6f"/>
                </a:solidFill>
                <a:latin typeface="BatangChe"/>
                <a:ea typeface="BatangChe"/>
              </a:rPr>
              <a:t>Zikranets Vitalina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marL="57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7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 Black"/>
              </a:rPr>
              <a:t>I rarely watch TV. Abandon the TV for one day - not a problem for me. Nowadays I choose a phone or computer, to watch a movie or comedy. On the TV I have only a few channels that I watch. The Internet is much easier and more convenient to find exactly what you like to watch.</a:t>
            </a:r>
            <a:br>
              <a:rPr sz="1800"/>
            </a:b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 Black"/>
              </a:rPr>
              <a:t>In general, I rarely watch TV, because my schedule will not change very much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6" name="Picture 3" descr="D:\ВИТАЛИНЫ\журналы\filmy-dlja-zhenshhin9.jpg"/>
          <p:cNvPicPr/>
          <p:nvPr/>
        </p:nvPicPr>
        <p:blipFill>
          <a:blip r:embed="rId1"/>
          <a:stretch/>
        </p:blipFill>
        <p:spPr>
          <a:xfrm>
            <a:off x="1763640" y="2709000"/>
            <a:ext cx="5976360" cy="396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200" spc="-1" strike="noStrike">
                <a:solidFill>
                  <a:srgbClr val="0070c0"/>
                </a:solidFill>
                <a:latin typeface="Book Antiqua"/>
              </a:rPr>
              <a:t>When I have extra time, I love to take your favorite book and sit in a chair. Or taking your favorite book go to the cafe where I could enjoy the peace and their favorite cocoa.</a:t>
            </a:r>
            <a:br>
              <a:rPr sz="4000"/>
            </a:b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8" name="Picture 2" descr="D:\ВИТАЛИНЫ\журналы\199173737.jpg"/>
          <p:cNvPicPr/>
          <p:nvPr/>
        </p:nvPicPr>
        <p:blipFill>
          <a:blip r:embed="rId1"/>
          <a:stretch/>
        </p:blipFill>
        <p:spPr>
          <a:xfrm>
            <a:off x="539640" y="1917000"/>
            <a:ext cx="3456000" cy="4610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D:\ВИТАЛИНЫ\журналы\f4dfd9977df373a23e6f0ee329984487.jpg"/>
          <p:cNvPicPr/>
          <p:nvPr/>
        </p:nvPicPr>
        <p:blipFill>
          <a:blip r:embed="rId2"/>
          <a:stretch/>
        </p:blipFill>
        <p:spPr>
          <a:xfrm>
            <a:off x="4212000" y="1917000"/>
            <a:ext cx="4611960" cy="46119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1000"/>
          </a:bodyPr>
          <a:p>
            <a:pPr indent="0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007eea"/>
                </a:solidFill>
                <a:latin typeface="Arabic Typesetting"/>
              </a:rPr>
              <a:t>Is it good if people are not watching TV?</a:t>
            </a:r>
            <a:endParaRPr b="0" lang="ru-RU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I think it's not quite right. Yes, of course, vision deteriorates when watching TV. But scientists have proved, television is much more favorable effect on us than phone and computer. I think that esle we watch TV is not very long, and not so much, everything will be fine. For example, I use the television very rarely, and only a few look a few channels to watch and spend more time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2" name="Picture 4" descr="D:\ВИТАЛИНЫ\КАРТИНКИ\милые картинки\0lAZR0VLMrQ.jpg"/>
          <p:cNvPicPr/>
          <p:nvPr/>
        </p:nvPicPr>
        <p:blipFill>
          <a:blip r:embed="rId1"/>
          <a:stretch/>
        </p:blipFill>
        <p:spPr>
          <a:xfrm>
            <a:off x="467640" y="3905640"/>
            <a:ext cx="2952000" cy="2952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D:\ВИТАЛИНЫ\КАРТИНКИ\милые картинки\wEDK0BovVjg.jpg"/>
          <p:cNvPicPr/>
          <p:nvPr/>
        </p:nvPicPr>
        <p:blipFill>
          <a:blip r:embed="rId2"/>
          <a:stretch/>
        </p:blipFill>
        <p:spPr>
          <a:xfrm>
            <a:off x="5940000" y="3861000"/>
            <a:ext cx="2996640" cy="2996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35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46096"/>
                </a:solidFill>
                <a:latin typeface="Arial Unicode MS"/>
                <a:ea typeface="Arial Unicode MS"/>
              </a:rPr>
              <a:t>Thank you for attention! </a:t>
            </a:r>
            <a:br>
              <a:rPr sz="4000"/>
            </a:br>
            <a:r>
              <a:rPr b="0" lang="en-US" sz="4000" spc="-1" strike="noStrike">
                <a:solidFill>
                  <a:srgbClr val="646096"/>
                </a:solidFill>
                <a:latin typeface="Arial Unicode MS"/>
                <a:ea typeface="Arial Unicode MS"/>
              </a:rPr>
              <a:t>Strictly do not judge, I wrote that came to mind.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Городская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46</TotalTime>
  <Application>LibreOffice/7.4.7.2$Linux_X86_64 LibreOffice_project/40$Build-2</Application>
  <AppVersion>15.0000</AppVersion>
  <Words>206</Words>
  <Paragraphs>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1T05:59:34Z</dcterms:created>
  <dc:creator>user</dc:creator>
  <dc:description/>
  <dc:language>en-US</dc:language>
  <cp:lastModifiedBy>user</cp:lastModifiedBy>
  <dcterms:modified xsi:type="dcterms:W3CDTF">2016-02-11T06:56:48Z</dcterms:modified>
  <cp:revision>6</cp:revision>
  <dc:subject/>
  <dc:title>My day without TV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5</vt:r8>
  </property>
</Properties>
</file>