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2C1-7158-478B-ACDB-6D342371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A7B-BB46-4FB8-93F9-6FB44FEC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AE3-D263-4A7E-ADDB-D5E1EA21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DA9-D334-40AB-A336-CB4A0E1C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B93F-6E83-4B4B-BC51-3F4745FC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1F4A-363D-4DB2-A435-62EB1461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7434-1BE6-4402-B20D-4294B483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35D2-7373-4479-8B77-04E005AD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7190-88C1-406B-97EC-3BF79A16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792C-4E94-4A6E-AA48-9E57D0CA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D024-E97C-4EAB-95CE-1EB260B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E0C-3625-4838-9AB2-51388464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A5EF-A29C-4BA9-95D5-9AB85C8A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E1EB-C702-4D46-B81A-8DD7B920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1CE5-43F0-4CF2-BA5D-BAF8362E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5A83-B5DF-46F8-A875-0B4E683A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82AD-EBDE-4880-AB9B-5F60B8BD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88B26-F600-49CB-B988-0B27CAF8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83A4A-E68E-42E6-8787-6658DEB5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3A73-E4CC-4869-9E9C-742E227A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462A-921B-495F-9E1A-11B9E80E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6D8D-0DAF-4270-B95B-231737FB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35B-5469-48A5-839E-D5F3E83C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CA053-427B-4A7B-BEA2-3511769E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1FD36-96D1-4FFC-B403-1687A734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C5AD-3922-45EE-BF07-3464FA1C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52B4-0F5D-4581-A630-3FB996E5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96A13-0BBC-460F-A975-BEFEDEF3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EA76-1BF4-43E6-B568-7E32158D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9BB9E-D41D-42B9-A4D1-A80E22A2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CF2-C14D-4CF2-B7FA-083234FF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71A-182A-4A33-985E-A270675A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B10-8EE6-40A1-94ED-BC3AE9D8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830-F2A7-4F07-8E2A-F64EC8E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FC9-DFBA-4072-BAF8-326378E6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4D3-7944-48A1-80BE-FE13610D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146531-EFD7-4310-9909-E2760581749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C3BA9F-87BD-4285-A595-905594C2B58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4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ea157a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F2A866-2EF4-4721-BB0F-C90C54524C0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y day without TV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3899880"/>
            <a:ext cx="4952520" cy="11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3000"/>
          </a:bodyPr>
          <a:p>
            <a:pPr marL="57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7600" spc="-1" strike="noStrike">
                <a:solidFill>
                  <a:srgbClr val="4e5b6f"/>
                </a:solidFill>
                <a:latin typeface="BatangChe"/>
                <a:ea typeface="BatangChe"/>
              </a:rPr>
              <a:t>Zikranets Vitalina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marL="57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7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 Black"/>
              </a:rPr>
              <a:t>I rarely watch TV. Abandon the TV for one day - not a problem for me. Nowadays I choose a phone or computer, to watch a movie or comedy. On the TV I have only a few channels that I watch. The Internet is much easier and more convenient to find exactly what you like to watch.</a:t>
            </a:r>
            <a:br>
              <a:rPr sz="1800"/>
            </a:b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 Black"/>
              </a:rPr>
              <a:t>In general, I rarely watch TV, because my schedule will not change very much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6" name="Picture 3" descr="D:\ВИТАЛИНЫ\журналы\filmy-dlja-zhenshhin9.jpg"/>
          <p:cNvPicPr/>
          <p:nvPr/>
        </p:nvPicPr>
        <p:blipFill>
          <a:blip r:embed="rId1"/>
          <a:stretch/>
        </p:blipFill>
        <p:spPr>
          <a:xfrm>
            <a:off x="1763640" y="2709000"/>
            <a:ext cx="5976360" cy="396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0070c0"/>
                </a:solidFill>
                <a:latin typeface="Book Antiqua"/>
              </a:rPr>
              <a:t>When I have extra time, I love to take your favorite book and sit in a chair. Or taking your favorite book go to the cafe where I could enjoy the peace and their favorite cocoa.</a:t>
            </a:r>
            <a:br>
              <a:rPr sz="4000"/>
            </a:b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8" name="Picture 2" descr="D:\ВИТАЛИНЫ\журналы\199173737.jpg"/>
          <p:cNvPicPr/>
          <p:nvPr/>
        </p:nvPicPr>
        <p:blipFill>
          <a:blip r:embed="rId1"/>
          <a:stretch/>
        </p:blipFill>
        <p:spPr>
          <a:xfrm>
            <a:off x="539640" y="1917000"/>
            <a:ext cx="3456000" cy="4610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D:\ВИТАЛИНЫ\журналы\f4dfd9977df373a23e6f0ee329984487.jpg"/>
          <p:cNvPicPr/>
          <p:nvPr/>
        </p:nvPicPr>
        <p:blipFill>
          <a:blip r:embed="rId2"/>
          <a:stretch/>
        </p:blipFill>
        <p:spPr>
          <a:xfrm>
            <a:off x="4212000" y="1917000"/>
            <a:ext cx="4611960" cy="46119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7eea"/>
                </a:solidFill>
                <a:latin typeface="Arabic Typesetting"/>
              </a:rPr>
              <a:t>Is it good if people are not watching TV?</a:t>
            </a:r>
            <a:endParaRPr b="0" lang="ru-RU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I think it's not quite right. Yes, of course, vision deteriorates when watching TV. But scientists have proved, television is much more favorable effect on us than phone and computer. I think that esle we watch TV is not very long, and not so much, everything will be fine. For example, I use the television very rarely, and only a few look a few channels to watch and spend more time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2" name="Picture 4" descr="D:\ВИТАЛИНЫ\КАРТИНКИ\милые картинки\0lAZR0VLMrQ.jpg"/>
          <p:cNvPicPr/>
          <p:nvPr/>
        </p:nvPicPr>
        <p:blipFill>
          <a:blip r:embed="rId1"/>
          <a:stretch/>
        </p:blipFill>
        <p:spPr>
          <a:xfrm>
            <a:off x="467640" y="3905640"/>
            <a:ext cx="2952000" cy="295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D:\ВИТАЛИНЫ\КАРТИНКИ\милые картинки\wEDK0BovVjg.jpg"/>
          <p:cNvPicPr/>
          <p:nvPr/>
        </p:nvPicPr>
        <p:blipFill>
          <a:blip r:embed="rId2"/>
          <a:stretch/>
        </p:blipFill>
        <p:spPr>
          <a:xfrm>
            <a:off x="5940000" y="3861000"/>
            <a:ext cx="2996640" cy="2996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35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46096"/>
                </a:solidFill>
                <a:latin typeface="Arial Unicode MS"/>
                <a:ea typeface="Arial Unicode MS"/>
              </a:rPr>
              <a:t>Thank you for attention! </a:t>
            </a:r>
            <a:br>
              <a:rPr sz="4000"/>
            </a:br>
            <a:r>
              <a:rPr b="0" lang="en-US" sz="4000" spc="-1" strike="noStrike">
                <a:solidFill>
                  <a:srgbClr val="646096"/>
                </a:solidFill>
                <a:latin typeface="Arial Unicode MS"/>
                <a:ea typeface="Arial Unicode MS"/>
              </a:rPr>
              <a:t>Strictly do not judge, I wrote that came to mind.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Городск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46</TotalTime>
  <Application>LibreOffice/7.4.7.2$Linux_X86_64 LibreOffice_project/40$Build-2</Application>
  <AppVersion>15.0000</AppVersion>
  <Words>206</Words>
  <Paragraphs>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05:59:34Z</dcterms:created>
  <dc:creator>user</dc:creator>
  <dc:description/>
  <dc:language>en-US</dc:language>
  <cp:lastModifiedBy>user</cp:lastModifiedBy>
  <dcterms:modified xsi:type="dcterms:W3CDTF">2016-02-11T06:56:48Z</dcterms:modified>
  <cp:revision>6</cp:revision>
  <dc:subject/>
  <dc:title>My day without TV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</vt:r8>
  </property>
</Properties>
</file>