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1EDA-70A5-4D26-B006-65EF01C5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512-FA90-4E9E-A45B-A54ED440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2A9-AAA6-4E73-9D03-FB308E31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24F-9C1C-4E34-A367-CD8F1421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C97E-0612-49A7-B1CA-4D593695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602F-7346-493B-BDAC-37C953C2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39B3-16A3-4027-93F0-49B4BF8C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D04E-780F-48DE-90B2-39538536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2D8C-BF67-4C3C-81E2-430AA72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66E6-7017-4D15-8D6E-836B804F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CC24-8538-4799-8F8F-5598FFD6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CF2-4F78-4EBC-BAE2-4EB52687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DFB0-E751-4CC2-8B29-02D85718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23A2-1F95-4B40-859D-FDEE44D8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3FF7-264C-40A0-A4BD-6DE78485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519F-E394-4BAA-9190-39A109B1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C9CA-A466-4AA5-BEDE-3113FDD8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B12D-64F8-48A0-9656-C2F2FB3F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3A384-C8C4-460B-9697-B9A169D9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712D-2497-4262-8A51-35146B47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1A47-DD39-42F8-A79C-CAFD1FDC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36CE-677D-4108-B959-497572BD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663-3D16-48C0-8E00-1968987D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B85E-A888-4775-9A7B-AEE62CF1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E80D-1812-4C20-90BF-C1D43B3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EA44-E735-454B-AF69-B847E7D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D080-9F2A-494F-A992-0BB61BB3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92E1-3BFD-48E5-A80F-2203CBB3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A6F55-835F-405C-9C17-6FBCFB2D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AF48-75F1-4047-8E8A-C4613920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AD7-B4F1-495D-A154-A7493297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2D6-ABA8-4394-B12E-C4AAD4B5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240" cy="49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CBD-5DF4-4C3E-BF67-EA7EA3FC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B6C-7C8C-4D33-9FD5-DD15EBB9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B13-B87D-4BBB-9731-6835B268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6D6-9238-4108-A4E8-4A03D184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B5C213-0408-418E-A437-94E0CF53CAE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658368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0B0836-DA3A-4EE7-A22B-722D9884BE8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4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4e5b6f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ea157a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feb80a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4AF2F-907E-4FA6-BE18-9655AF7CAB2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y day without TV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3899880"/>
            <a:ext cx="4952520" cy="11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57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7600" spc="-1" strike="noStrike">
                <a:solidFill>
                  <a:srgbClr val="4e5b6f"/>
                </a:solidFill>
                <a:latin typeface="BatangChe"/>
                <a:ea typeface="BatangChe"/>
              </a:rPr>
              <a:t>Zikranets Vitalina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 marL="57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7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 Black"/>
              </a:rPr>
              <a:t>I rarely watch TV. Abandon the TV for one day - not a problem for me. Nowadays I choose a phone or computer, to watch a movie or comedy. On the TV I have only a few channels that I watch. The Internet is much easier and more convenient to find exactly what you like to watch.</a:t>
            </a:r>
            <a:br>
              <a:rPr sz="1800"/>
            </a:br>
            <a:r>
              <a:rPr b="0" lang="en-US" sz="18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Arial Black"/>
              </a:rPr>
              <a:t>In general, I rarely watch TV, because my schedule will not change very much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6" name="Picture 3" descr="D:\ВИТАЛИНЫ\журналы\filmy-dlja-zhenshhin9.jpg"/>
          <p:cNvPicPr/>
          <p:nvPr/>
        </p:nvPicPr>
        <p:blipFill>
          <a:blip r:embed="rId1"/>
          <a:stretch/>
        </p:blipFill>
        <p:spPr>
          <a:xfrm>
            <a:off x="1763640" y="2709000"/>
            <a:ext cx="5976360" cy="396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200" spc="-1" strike="noStrike">
                <a:solidFill>
                  <a:srgbClr val="0070c0"/>
                </a:solidFill>
                <a:latin typeface="Book Antiqua"/>
              </a:rPr>
              <a:t>When I have extra time, I love to take your favorite book and sit in a chair. Or taking your favorite book go to the cafe where I could enjoy the peace and their favorite cocoa.</a:t>
            </a:r>
            <a:br>
              <a:rPr sz="4000"/>
            </a:b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8" name="Picture 2" descr="D:\ВИТАЛИНЫ\журналы\199173737.jpg"/>
          <p:cNvPicPr/>
          <p:nvPr/>
        </p:nvPicPr>
        <p:blipFill>
          <a:blip r:embed="rId1"/>
          <a:stretch/>
        </p:blipFill>
        <p:spPr>
          <a:xfrm>
            <a:off x="539640" y="1917000"/>
            <a:ext cx="3456000" cy="4610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D:\ВИТАЛИНЫ\журналы\f4dfd9977df373a23e6f0ee329984487.jpg"/>
          <p:cNvPicPr/>
          <p:nvPr/>
        </p:nvPicPr>
        <p:blipFill>
          <a:blip r:embed="rId2"/>
          <a:stretch/>
        </p:blipFill>
        <p:spPr>
          <a:xfrm>
            <a:off x="4212000" y="1917000"/>
            <a:ext cx="4611960" cy="46119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7eea"/>
                </a:solidFill>
                <a:latin typeface="Arabic Typesetting"/>
              </a:rPr>
              <a:t>Is it good if people are not watching TV?</a:t>
            </a:r>
            <a:endParaRPr b="0" lang="ru-RU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40000"/>
                    <a:lumOff val="60000"/>
                  </a:schemeClr>
                </a:solidFill>
                <a:latin typeface="Calibri"/>
              </a:rPr>
              <a:t>I think it's not quite right. Yes, of course, vision deteriorates when watching TV. But scientists have proved, television is much more favorable effect on us than phone and computer. I think that esle we watch TV is not very long, and not so much, everything will be fine. For example, I use the television very rarely, and only a few look a few channels to watch and spend more time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2" name="Picture 4" descr="D:\ВИТАЛИНЫ\КАРТИНКИ\милые картинки\0lAZR0VLMrQ.jpg"/>
          <p:cNvPicPr/>
          <p:nvPr/>
        </p:nvPicPr>
        <p:blipFill>
          <a:blip r:embed="rId1"/>
          <a:stretch/>
        </p:blipFill>
        <p:spPr>
          <a:xfrm>
            <a:off x="467640" y="3905640"/>
            <a:ext cx="2952000" cy="295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ВИТАЛИНЫ\КАРТИНКИ\милые картинки\wEDK0BovVjg.jpg"/>
          <p:cNvPicPr/>
          <p:nvPr/>
        </p:nvPicPr>
        <p:blipFill>
          <a:blip r:embed="rId2"/>
          <a:stretch/>
        </p:blipFill>
        <p:spPr>
          <a:xfrm>
            <a:off x="5940000" y="3861000"/>
            <a:ext cx="2996640" cy="2996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35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646096"/>
                </a:solidFill>
                <a:latin typeface="Arial Unicode MS"/>
                <a:ea typeface="Arial Unicode MS"/>
              </a:rPr>
              <a:t>Thank you for attention! </a:t>
            </a:r>
            <a:br>
              <a:rPr sz="4000"/>
            </a:br>
            <a:r>
              <a:rPr b="0" lang="en-US" sz="4000" spc="-1" strike="noStrike">
                <a:solidFill>
                  <a:srgbClr val="646096"/>
                </a:solidFill>
                <a:latin typeface="Arial Unicode MS"/>
                <a:ea typeface="Arial Unicode MS"/>
              </a:rPr>
              <a:t>Strictly do not judge, I wrote that came to mind.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Городск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46</TotalTime>
  <Application>LibreOffice/7.4.7.2$Linux_X86_64 LibreOffice_project/40$Build-2</Application>
  <AppVersion>15.0000</AppVersion>
  <Words>206</Words>
  <Paragraphs>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1T05:59:34Z</dcterms:created>
  <dc:creator>user</dc:creator>
  <dc:description/>
  <dc:language>en-US</dc:language>
  <cp:lastModifiedBy>user</cp:lastModifiedBy>
  <dcterms:modified xsi:type="dcterms:W3CDTF">2016-02-11T06:56:48Z</dcterms:modified>
  <cp:revision>6</cp:revision>
  <dc:subject/>
  <dc:title>My day without TV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