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2B20D-CE4C-4FB2-8223-2AD26063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7A00-46C0-424F-8323-C583A32B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F0B78-94A3-4127-BB5D-459ED219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EE6F1-BAA2-4FCD-9F11-B6A5A663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4C57-34D2-4996-BEA2-85A03945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15E2-C5C9-4970-B424-0895A90C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CA8D-F8EA-4F92-98DB-2C5EF47B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0BCC-2CC8-43FA-A27E-76B29650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BC0F-E8D5-41FB-89EA-AF315F03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B9B3-D443-4C65-9373-A83C1E1A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212C-E317-4D26-BE5F-4C9509A7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36CA9-1693-47BF-A78D-610E08DE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2CD0-2248-464E-9E33-89165BB3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3FE2-FB9D-43DB-BB21-54593D38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3A64-63CC-4784-BE6F-FC8008AF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7C12-3343-4975-97F7-A5C6211A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B393-EC7B-41B1-AD58-616B42A9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5301-9AD7-43EA-901D-F06C72D8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81D81-049D-4F86-AB9B-D974DEB6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9F119-41DC-4469-9E0E-13B5D353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7EB28-E0ED-4E62-9760-A62401C8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210CF-5115-413F-A8C2-4CB8AEA3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8DB41-C349-4DD1-9238-E5E00E77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435A1-3A8C-4BA6-B017-033A076D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1BD7-1204-484B-AC72-C659D36B819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222C-4325-4B35-BBA3-FE2A6BEC440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010040" cy="5239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43280" y="0"/>
            <a:ext cx="5400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Іван Франк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1484280"/>
            <a:ext cx="678024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«Я син народу, що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гору йде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cc"/>
                </a:solidFill>
                <a:latin typeface="Tahoma"/>
              </a:rPr>
              <a:t>Музей-садиба Івана Франка у Нагуєвичах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619760" cy="46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6720" y="277920"/>
            <a:ext cx="361008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Помер 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Іван Якович 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28 травня 1916р.  Некрологи друкували десятки газет Європи. Похований у Львові на Личаківському кладовищі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60980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cc"/>
                </a:solidFill>
                <a:latin typeface="Tahoma"/>
              </a:rPr>
              <a:t>Глибока шана Великому поводиреві українського народу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2521080" cy="1882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140360" y="1484280"/>
            <a:ext cx="4728960" cy="3073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987640" y="3789360"/>
            <a:ext cx="3738600" cy="2803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7095960" y="3860640"/>
            <a:ext cx="2048040" cy="2730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324000" y="3429000"/>
            <a:ext cx="2276280" cy="303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96000" y="259920"/>
            <a:ext cx="28908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27 серпня 1856 у селі Нагуєвичах на Дрогобиччині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 сім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’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ї сільського коваля, шанованої людини,</a:t>
            </a:r>
            <a:br>
              <a:rPr sz="2400"/>
            </a:br>
            <a:r>
              <a:rPr b="0" lang="uk-UA" sz="2400" spc="-1" strike="noStrike">
                <a:solidFill>
                  <a:srgbClr val="ffffcc"/>
                </a:solidFill>
                <a:latin typeface="Tahoma"/>
              </a:rPr>
              <a:t>Якова Франка </a:t>
            </a:r>
            <a:br>
              <a:rPr sz="2400"/>
            </a:br>
            <a:r>
              <a:rPr b="0" lang="uk-UA" sz="2400" spc="-1" strike="noStrike">
                <a:solidFill>
                  <a:srgbClr val="ffffcc"/>
                </a:solidFill>
                <a:latin typeface="Tahoma"/>
              </a:rPr>
              <a:t>та Марії Кульчицької  народився первісток Ясь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5184720" cy="41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35280" y="259920"/>
            <a:ext cx="3313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Незвичайно здатною дитиною до навчання виявився Йвась. Був обдарованим від природи, мав добру пам’ять, не знав труднощів у навчанні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5113080" cy="40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Освіту здобував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843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очаткова шко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. Ясениця Сільн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Дрогобицька монастирська школа ченців-василіа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Дрогобицька гімназі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Львівський університ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 Відні захищає дисертацію, здобуває вчений ступінь доктора філософії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56360" y="2205000"/>
            <a:ext cx="2539800" cy="1943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59640" y="42354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У гімназі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cc"/>
                </a:solidFill>
                <a:latin typeface="Tahoma"/>
              </a:rPr>
              <a:t>За бібліографічними даними, видано понад 5500 назв творів І.Франка. З них близько 1020 художніх, біля 630 перекладів майже з усіх мов світу, 1200 наукових праць, 1650 публіцистичних статей, більше 1000 листів до вчених та товаришів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447640" cy="1857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2879640" cy="2589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900000" y="3357720"/>
            <a:ext cx="1657440" cy="273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484360" y="2205000"/>
            <a:ext cx="2208240" cy="2365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3924360" y="4365720"/>
            <a:ext cx="2227320" cy="1949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156360" y="3573360"/>
            <a:ext cx="2333520" cy="2333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7236000" y="1268280"/>
            <a:ext cx="1755720" cy="2016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2610000" y="4581360"/>
            <a:ext cx="163332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cc"/>
                </a:solidFill>
                <a:latin typeface="Tahoma"/>
              </a:rPr>
              <a:t>Коло знайомих митця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0" y="1989000"/>
            <a:ext cx="42480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літку 1890 року знайомиться 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.М. Коцюбинськи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та В.С. Стефани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3598920" cy="417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cc"/>
                </a:solidFill>
                <a:latin typeface="Tahoma"/>
              </a:rPr>
              <a:t>Близькими друзями були Борис Грінченко та Павло Грабовський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392720" cy="3008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012000" y="1916280"/>
            <a:ext cx="286524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ahoma"/>
              </a:rPr>
              <a:t>Друзями стали Леся Українка, О.Кобилянська, М.Драгоманов,М.Павлик,М.Старицький,</a:t>
            </a:r>
            <a:br>
              <a:rPr sz="2800"/>
            </a:br>
            <a:r>
              <a:rPr b="0" lang="uk-UA" sz="2800" spc="-1" strike="noStrike">
                <a:solidFill>
                  <a:srgbClr val="ffffcc"/>
                </a:solidFill>
                <a:latin typeface="Tahoma"/>
              </a:rPr>
              <a:t>М.Лисенко,І.Нечуй-Левицьки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192720" cy="405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cc"/>
                </a:solidFill>
                <a:latin typeface="Tahoma"/>
              </a:rPr>
              <a:t>Шлюб Івана Франка та Ольги Хоружинської став політичною злукою Сходу й Заходу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5280" y="1773360"/>
            <a:ext cx="3112920" cy="439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024520" y="1844640"/>
            <a:ext cx="362592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7:57:55Z</dcterms:created>
  <dc:creator>Loner-XP</dc:creator>
  <dc:description/>
  <dc:language>en-US</dc:language>
  <cp:lastModifiedBy>admin</cp:lastModifiedBy>
  <dcterms:modified xsi:type="dcterms:W3CDTF">2015-08-10T11:48:51Z</dcterms:modified>
  <cp:revision>5</cp:revision>
  <dc:subject/>
  <dc:title>Я  син народу, що вгору йде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0a0000000000010250600207f7000400038000</vt:lpwstr>
  </property>
</Properties>
</file>