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0023A-8068-4F55-9B24-E2CD0946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1EDF5-6FDF-4C7A-B71F-3E4183A5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7F846-12E4-4B95-A428-22217CF3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94286-C435-469E-AAA5-A0A49554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6248-F979-4DC9-BAFD-3FF5B08B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2A97-38D6-4D62-82A9-A7F1D971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9573-03E4-46B9-AE07-229198E5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A7DE-54CE-4283-8A02-CC48061F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45B5-F0D1-4924-B43A-E04D95A8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8462-F3D5-462A-9B4C-E55321AB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9D51-D45A-4BF1-BDB9-7D1A8CAE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8AC89-E245-48E0-B5EB-2EAE658A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E91E-01A0-4B58-AE66-56E3C65D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8632-167A-41A9-A610-23CBAA06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C6FF-E034-4DBD-B53E-68CE65CD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DB5E-BB29-44C3-B63E-C8B20EF7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4235-512F-49D2-83CB-83B2CD90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B8C42-CB73-4722-A0BE-8D46D9F8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E5A4C-5461-4497-BD0F-311E036C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F4854-5543-4D25-9E6B-60BE64C2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57473-A313-4A98-9903-C9D694C8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A81F8-1490-4FA0-AEDE-61C98C39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6531B-72B9-4C98-8DAD-3D20D97D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F655F-33B8-4772-884B-44E0FBEF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07E8-EFED-4A6A-82B0-BD0208E4939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7FE0-A4F7-4B50-A224-C700074DDCD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010040" cy="5239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43280" y="0"/>
            <a:ext cx="5400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Tahoma"/>
              </a:rPr>
              <a:t>Іван Франк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1484280"/>
            <a:ext cx="678024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«Я син народу, що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гору йде…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cc"/>
                </a:solidFill>
                <a:latin typeface="Tahoma"/>
              </a:rPr>
              <a:t>Музей-садиба Івана Франка у Нагуєвичах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619760" cy="46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76720" y="277920"/>
            <a:ext cx="361008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Помер 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Іван Якович 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28 травня 1916р.  Некрологи друкували десятки газет Європи. Похований у Львові на Личаківському кладовищі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609800" cy="64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cc"/>
                </a:solidFill>
                <a:latin typeface="Tahoma"/>
              </a:rPr>
              <a:t>Глибока шана Великому поводиреві українського народу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2521080" cy="1882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140360" y="1484280"/>
            <a:ext cx="4728960" cy="3073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987640" y="3789360"/>
            <a:ext cx="3738600" cy="2803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7095960" y="3860640"/>
            <a:ext cx="2048040" cy="2730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324000" y="3429000"/>
            <a:ext cx="2276280" cy="303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96000" y="259920"/>
            <a:ext cx="28908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27 серпня 1856 у селі Нагуєвичах на Дрогобиччині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 сім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’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ї сільського коваля, шанованої людини,</a:t>
            </a:r>
            <a:br>
              <a:rPr sz="2400"/>
            </a:br>
            <a:r>
              <a:rPr b="0" lang="uk-UA" sz="2400" spc="-1" strike="noStrike">
                <a:solidFill>
                  <a:srgbClr val="ffffcc"/>
                </a:solidFill>
                <a:latin typeface="Tahoma"/>
              </a:rPr>
              <a:t>Якова Франка </a:t>
            </a:r>
            <a:br>
              <a:rPr sz="2400"/>
            </a:br>
            <a:r>
              <a:rPr b="0" lang="uk-UA" sz="2400" spc="-1" strike="noStrike">
                <a:solidFill>
                  <a:srgbClr val="ffffcc"/>
                </a:solidFill>
                <a:latin typeface="Tahoma"/>
              </a:rPr>
              <a:t>та Марії Кульчицької  народився первісток Ясь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5184720" cy="414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35280" y="259920"/>
            <a:ext cx="3313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Незвичайно здатною дитиною до навчання виявився Йвась. Був обдарованим від природи, мав добру пам’ять, не знав труднощів у навчанні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5113080" cy="406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Tahoma"/>
              </a:rPr>
              <a:t>Освіту здобував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843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очаткова шко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. Ясениця Сільн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Дрогобицька монастирська школа ченців-василіа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Дрогобицька гімназі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Львівський університ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У Відні захищає дисертацію, здобуває вчений ступінь доктора філософії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56360" y="2205000"/>
            <a:ext cx="2539800" cy="1943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59640" y="42354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У гімназі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cc"/>
                </a:solidFill>
                <a:latin typeface="Tahoma"/>
              </a:rPr>
              <a:t>За бібліографічними даними, видано понад 5500 назв творів І.Франка. З них близько 1020 художніх, біля 630 перекладів майже з усіх мов світу, 1200 наукових праць, 1650 публіцистичних статей, більше 1000 листів до вчених та товаришів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447640" cy="1857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2879640" cy="2589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900000" y="3357720"/>
            <a:ext cx="1657440" cy="273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484360" y="2205000"/>
            <a:ext cx="2208240" cy="2365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3924360" y="4365720"/>
            <a:ext cx="2227320" cy="1949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156360" y="3573360"/>
            <a:ext cx="2333520" cy="2333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7236000" y="1268280"/>
            <a:ext cx="1755720" cy="2016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2610000" y="4581360"/>
            <a:ext cx="163332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cc"/>
                </a:solidFill>
                <a:latin typeface="Tahoma"/>
              </a:rPr>
              <a:t>Коло знайомих митця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0" y="1989000"/>
            <a:ext cx="42480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літку 1890 року знайомиться 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М.М. Коцюбинськи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та В.С. Стефаник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3598920" cy="417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cc"/>
                </a:solidFill>
                <a:latin typeface="Tahoma"/>
              </a:rPr>
              <a:t>Близькими друзями були Борис Грінченко та Павло Грабовський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392720" cy="3008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012000" y="1916280"/>
            <a:ext cx="286524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ahoma"/>
              </a:rPr>
              <a:t>Друзями стали Леся Українка, О.Кобилянська, М.Драгоманов,М.Павлик,М.Старицький,</a:t>
            </a:r>
            <a:br>
              <a:rPr sz="2800"/>
            </a:br>
            <a:r>
              <a:rPr b="0" lang="uk-UA" sz="2800" spc="-1" strike="noStrike">
                <a:solidFill>
                  <a:srgbClr val="ffffcc"/>
                </a:solidFill>
                <a:latin typeface="Tahoma"/>
              </a:rPr>
              <a:t>М.Лисенко,І.Нечуй-Левицький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192720" cy="405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cc"/>
                </a:solidFill>
                <a:latin typeface="Tahoma"/>
              </a:rPr>
              <a:t>Шлюб Івана Франка та Ольги Хоружинської став політичною злукою Сходу й Заходу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65280" y="1773360"/>
            <a:ext cx="3112920" cy="4392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024520" y="1844640"/>
            <a:ext cx="362592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7:57:55Z</dcterms:created>
  <dc:creator>Loner-XP</dc:creator>
  <dc:description/>
  <dc:language>en-US</dc:language>
  <cp:lastModifiedBy>admin</cp:lastModifiedBy>
  <dcterms:modified xsi:type="dcterms:W3CDTF">2015-08-10T11:48:51Z</dcterms:modified>
  <cp:revision>5</cp:revision>
  <dc:subject/>
  <dc:title>Я  син народу, що вгору йде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0a0000000000010250600207f7000400038000</vt:lpwstr>
  </property>
</Properties>
</file>