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734-6272-4EE5-A0C7-D946FB71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F5F-33E5-4C9F-8E3A-6CA38F4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52E-AD2B-4B99-84A2-9CE2AE86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51B-9482-4C77-88D1-474493D1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05B-DEF1-4ACF-9996-333B4A1A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C3BC-5065-45A7-A2C8-A021A8D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A2A6-CC79-43C9-BFD6-E5A2FC6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AF22-4645-47BB-BCE7-BF8E0DEF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65A0-428B-4500-B604-18A02FF2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5E89-9D42-488C-B19F-F66C6E1C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36BB-4D9B-41DC-ADDA-BCC16ABC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277-11A4-43AF-9223-D7243517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A6E0-9B03-4B80-AE4D-94C1A01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B69F-A6A7-4C9D-BBA3-5EDE314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A3DA-E7D7-48CE-92EA-DB799C7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BB6D-8832-438E-91D9-F6D5EAB0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25FA-39A0-4692-B11D-4A58FB7D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376-4F40-453B-B6F0-52D91C10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46E-1BEE-47AC-908B-6D033146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C7F-EC2B-4176-964F-B243C6E2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DA9-8BFF-406B-AC92-CF7C76CB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3F0-77AF-453B-90F3-8CCE908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CFC-1E9D-40AF-8991-11ACE17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C53-B69B-4DA7-BE37-B0A69FC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EAD488-33E6-4E72-A0F5-9A9E2BE5106A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209F1A-37FF-4A49-8FB5-0E47B08FB9B1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6960" y="1389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54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My own TV channel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06960" y="564084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elyanov Maxim 9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TV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channel would be holiday chann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9" name="Picture 2" descr="https://im0-tub-ru.yandex.net/i?id=397fd791deea4352d2698ae94969c82d-l&amp;n=13"/>
          <p:cNvPicPr/>
          <p:nvPr/>
        </p:nvPicPr>
        <p:blipFill>
          <a:blip r:embed="rId1"/>
          <a:stretch/>
        </p:blipFill>
        <p:spPr>
          <a:xfrm>
            <a:off x="2386080" y="3429000"/>
            <a:ext cx="370944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blem for the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emblem of my channel would be the beach, as my channel is associated with relaxation and natur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Picture 6" descr="https://www.askwallpapers.com/mini/201501/3081.jpg"/>
          <p:cNvPicPr/>
          <p:nvPr/>
        </p:nvPicPr>
        <p:blipFill>
          <a:blip r:embed="rId1"/>
          <a:stretch/>
        </p:blipFill>
        <p:spPr>
          <a:xfrm>
            <a:off x="1457280" y="3429000"/>
            <a:ext cx="4638240" cy="26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2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Programmes and transfer on my channe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On my channel will show historical program as well, every 3 hours there will be a programme with a view of the beach and the forest under relaxed music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5" name="Picture 2" descr="https://i.ytimg.com/vi/Vo0KJLyCuSU/mqdefault.jpg"/>
          <p:cNvPicPr/>
          <p:nvPr/>
        </p:nvPicPr>
        <p:blipFill>
          <a:blip r:embed="rId1"/>
          <a:stretch/>
        </p:blipFill>
        <p:spPr>
          <a:xfrm>
            <a:off x="1005120" y="3429000"/>
            <a:ext cx="3673800" cy="206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bilim-all.kz/uploads/images/2017/01/24/400x276/c24ea3ffc4100a4ef0f0642ca6f71dfe.jpg"/>
          <p:cNvPicPr/>
          <p:nvPr/>
        </p:nvPicPr>
        <p:blipFill>
          <a:blip r:embed="rId2"/>
          <a:stretch/>
        </p:blipFill>
        <p:spPr>
          <a:xfrm>
            <a:off x="6095880" y="3412440"/>
            <a:ext cx="3018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and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6</TotalTime>
  <Application>LibreOffice/7.4.7.2$Linux_X86_64 LibreOffice_project/40$Build-2</Application>
  <AppVersion>15.0000</AppVersion>
  <Words>95</Words>
  <Paragraphs>9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5:45:40Z</dcterms:created>
  <dc:creator>Master</dc:creator>
  <dc:description/>
  <dc:language>en-US</dc:language>
  <cp:lastModifiedBy>Master</cp:lastModifiedBy>
  <dcterms:modified xsi:type="dcterms:W3CDTF">2017-12-21T16:21:43Z</dcterms:modified>
  <cp:revision>4</cp:revision>
  <dc:subject/>
  <dc:title>My own TV channe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