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C3C-CCEE-4F75-A6D4-88A66B5A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B7F-5AA2-4ADA-B4F6-C138107A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84F-5FBD-4AA8-A0B0-F8E552F3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C7A-5CD5-46B6-A869-CF0F64A2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304F-035E-43DD-A2E0-2D873417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9F53-FB38-4AA1-9F74-F873E594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9B2A-CC07-4F99-AE9A-E7358928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DA01-665B-431C-8CE6-94324F0C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0551-5402-4917-8F6B-4876264C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E85B-0F45-4005-ABB7-5B055883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2396-9B87-43D4-88CF-60E78703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E2E-2B67-4DD3-AF71-C35A0BA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9F2E-481B-4E6C-A7F2-FBD1E87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A5F-C22E-45EA-ADAF-76D3C323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A21F-36AD-4EAF-82CA-D02B81A9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A4DF-2529-4AE6-86B0-84BC96D1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A3F1-EACC-42AD-8FE2-ABB98067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FFF-AA28-45B1-8AB5-28B4D3D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31D-8E3D-42AF-B5B5-D5582171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850-AC37-48D2-9DF6-E2B70D4C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CCE-028B-40F8-8376-E88142D8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F47-0F05-4266-8592-6D0BFCE0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B41-D68D-4007-9540-F6F3BF88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4E8F-25E5-4B85-834E-BBE3104A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F186E8-F2A3-4F93-BFA1-93FF2E2C5858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9A5552-C827-4CD5-9159-00F705243763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6960" y="1389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54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My own TV channel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06960" y="564084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elyanov Maxim 9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TV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channel would be holiday chann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9" name="Picture 2" descr="https://im0-tub-ru.yandex.net/i?id=397fd791deea4352d2698ae94969c82d-l&amp;n=13"/>
          <p:cNvPicPr/>
          <p:nvPr/>
        </p:nvPicPr>
        <p:blipFill>
          <a:blip r:embed="rId1"/>
          <a:stretch/>
        </p:blipFill>
        <p:spPr>
          <a:xfrm>
            <a:off x="2386080" y="3429000"/>
            <a:ext cx="3709440" cy="27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blem for the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emblem of my channel would be the beach, as my channel is associated with relaxation and natur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2" name="Picture 6" descr="https://www.askwallpapers.com/mini/201501/3081.jpg"/>
          <p:cNvPicPr/>
          <p:nvPr/>
        </p:nvPicPr>
        <p:blipFill>
          <a:blip r:embed="rId1"/>
          <a:stretch/>
        </p:blipFill>
        <p:spPr>
          <a:xfrm>
            <a:off x="1457280" y="3429000"/>
            <a:ext cx="4638240" cy="26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2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Programmes and transfer on my channe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On my channel will show historical program as well, every 3 hours there will be a programme with a view of the beach and the forest under relaxed music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5" name="Picture 2" descr="https://i.ytimg.com/vi/Vo0KJLyCuSU/mqdefault.jpg"/>
          <p:cNvPicPr/>
          <p:nvPr/>
        </p:nvPicPr>
        <p:blipFill>
          <a:blip r:embed="rId1"/>
          <a:stretch/>
        </p:blipFill>
        <p:spPr>
          <a:xfrm>
            <a:off x="1005120" y="3429000"/>
            <a:ext cx="3673800" cy="206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bilim-all.kz/uploads/images/2017/01/24/400x276/c24ea3ffc4100a4ef0f0642ca6f71dfe.jpg"/>
          <p:cNvPicPr/>
          <p:nvPr/>
        </p:nvPicPr>
        <p:blipFill>
          <a:blip r:embed="rId2"/>
          <a:stretch/>
        </p:blipFill>
        <p:spPr>
          <a:xfrm>
            <a:off x="6095880" y="3412440"/>
            <a:ext cx="3018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60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and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36</TotalTime>
  <Application>LibreOffice/7.4.7.2$Linux_X86_64 LibreOffice_project/40$Build-2</Application>
  <AppVersion>15.0000</AppVersion>
  <Words>95</Words>
  <Paragraphs>9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5:45:40Z</dcterms:created>
  <dc:creator>Master</dc:creator>
  <dc:description/>
  <dc:language>en-US</dc:language>
  <cp:lastModifiedBy>Master</cp:lastModifiedBy>
  <dcterms:modified xsi:type="dcterms:W3CDTF">2017-12-21T16:21:43Z</dcterms:modified>
  <cp:revision>4</cp:revision>
  <dc:subject/>
  <dc:title>My own TV channe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