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9A9-584C-4849-B215-1C26FD09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947-A59D-47EF-BDC4-EEC0872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63C-C2C3-40D3-8943-2C17030C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7B8-AB4D-421D-A117-76CCA408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1F00-4DC9-4DE2-9AF5-9252481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BAD8-38F8-4DD3-9116-30DC688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8F9-A548-46E6-8EF5-8D904C66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B53-8522-462B-AF64-83329D1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DA39-2428-480E-BF08-C0A1DD7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DFC4-246C-4E60-BB6E-66A34E5D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660-EF2F-4B8F-8EB0-9DE6AD7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DE0-45CC-4DC2-A502-D065B951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28F1-15E2-4EAC-9594-8B7A375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6A23-F895-49AE-8608-D0B94E1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81E-8338-442E-AB87-9648A80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0BA-D83E-4683-B3BF-06A36CBC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4B84-CB8D-4046-B663-AB0AF5EF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BE0-B42D-46AF-9F57-28EF61A6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967-3DBA-419A-A9DC-FAED5F2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03C-FD58-4B68-99B9-C049EA8B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553-0388-4184-8B93-829C6981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C28-0843-4D35-8DE5-FFCEFB0D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8BE-F6CA-43D2-8BBC-F87F671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DD2-F367-4A5B-979D-DAC46C9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7A947B-9A9A-4790-A67D-E03610F1A69E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FB703C-CCC8-4300-9F9E-985D296E7F0A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elyanov Maxim 9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6</TotalTime>
  <Application>LibreOffice/7.4.7.2$Linux_X86_64 LibreOffice_project/40$Build-2</Application>
  <AppVersion>15.0000</AppVersion>
  <Words>95</Words>
  <Paragraphs>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Master</cp:lastModifiedBy>
  <dcterms:modified xsi:type="dcterms:W3CDTF">2017-12-21T16:21:43Z</dcterms:modified>
  <cp:revision>4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