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994-1926-44BB-987B-D30C1D05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7DB-7334-4724-8AEC-504E6F62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CA5-08A1-4EAF-984F-BFAFCB56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765-C781-4A8D-AEAF-C1942ACB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B8C-2AD7-4C7D-9909-0CA3C234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06B7-7ADB-48B1-8581-289C64AE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E90B-B3CC-4BC7-9CC2-2F7A4057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8E1A-EA14-40B1-9802-18447FEA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8E75-21DD-4D7C-A8D5-D40C32F3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E21E-D2D0-41FC-9C1A-27762701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FAB4-49A7-45AC-98A1-6FED8752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CF8-5B2B-4753-A625-68B056E9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D35A-296C-47FD-8B82-8A14EB8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026B-9AE4-4682-B20A-08E05FC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AA9B-8BD9-46AE-88D7-11849E7A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A776-03FD-4D0F-8D17-26496226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8882-DE40-43B6-8A44-053FA239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E46-F43C-4A99-BB1C-9C60D22D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1F9-501A-4AC4-8395-038A9921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53C-3500-4446-A726-6F675898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3AB-4A9F-4BB7-8DA2-C205A0C8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0A9-914B-486C-9117-AC2C3A20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B53-C991-491F-A708-CF3C4A1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F8B-FADC-406C-832B-C058EF11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C99-F9B9-4B2A-85E4-E0994A7C667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211C-6566-4BA5-B990-CD135BB7D83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7;&#1086;&#1073;&#1088;&#1072;&#1078;&#1077;&#1085;&#1085;&#1103;:&#1052;&#1086;&#1075;&#1080;&#1083;&#1072;-&#1058;&#1080;&#1095;&#1080;&#1085;&#1080;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http://www.ukrlit.vn.ua/biography/tichina.jpg"/>
          <p:cNvPicPr/>
          <p:nvPr/>
        </p:nvPicPr>
        <p:blipFill>
          <a:blip r:embed="rId1"/>
          <a:stretch/>
        </p:blipFill>
        <p:spPr>
          <a:xfrm>
            <a:off x="2895480" y="228600"/>
            <a:ext cx="350532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981080" y="52574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ПАВЛО ТИЧ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(1891 — 1967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0060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Лауреат Державної премії СРСР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(1941),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Державної премії УРСР імені Т. Г. Шевченка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(1962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67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оку отримав звання Герой Соціалістичної Прац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9" descr="i43"/>
          <p:cNvPicPr/>
          <p:nvPr/>
        </p:nvPicPr>
        <p:blipFill>
          <a:blip r:embed="rId1"/>
          <a:stretch/>
        </p:blipFill>
        <p:spPr>
          <a:xfrm>
            <a:off x="457200" y="76212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"/>
          <p:cNvSpPr/>
          <p:nvPr/>
        </p:nvSpPr>
        <p:spPr>
          <a:xfrm>
            <a:off x="723960" y="4569120"/>
            <a:ext cx="32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авло Тичи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итає свої вірш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а Декаді української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літератури та мистецт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951 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Як поет П. Г. Тичина починав у 1906-1910 рр. з наслідування народних пісень та творів Т. Г. Шевче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ерші друковані твори молодого поета з'явилися 1912 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i08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267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5632200" y="4800240"/>
            <a:ext cx="188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серед друзі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913--1914 р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2273400" y="-42840"/>
            <a:ext cx="4707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ерша збірка віршів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«Сонячні кларнети» (191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Bookman Old Style"/>
              </a:rPr>
              <a:t>«Плуг» (1920)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«Вітер з України» (1924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Bookman Old Style"/>
              </a:rPr>
              <a:t>«Чернігів» (1931 р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i13"/>
          <p:cNvPicPr/>
          <p:nvPr/>
        </p:nvPicPr>
        <p:blipFill>
          <a:blip r:embed="rId1"/>
          <a:stretch/>
        </p:blipFill>
        <p:spPr>
          <a:xfrm>
            <a:off x="4800600" y="228600"/>
            <a:ext cx="4038480" cy="5029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5010840" y="548568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, 1920-ті ро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i25"/>
          <p:cNvPicPr/>
          <p:nvPr/>
        </p:nvPicPr>
        <p:blipFill>
          <a:blip r:embed="rId1"/>
          <a:stretch/>
        </p:blipFill>
        <p:spPr>
          <a:xfrm>
            <a:off x="304920" y="304920"/>
            <a:ext cx="3698640" cy="4495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62520" y="495252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, 1930-ті ро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38480" y="6858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риховане протистояння з тоталітаризмом засвідчують окремі поетичні, літературознавчі, публіцистичні твори пізнішого часу: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«Григорій Сковорода» (1939), «Похорон друга» (1942), «Творча сила народу», «Геть брудні руки від України» (194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4191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 галузі поезії, прози, публіцистики, а також у науково-критичних працях Павло Тичина виявив себе одним із найосвіченіших радянських письменників, чия ерудиція охоплювала суміжні з літературою види мистецтва — музику і живопис.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2" descr="i40"/>
          <p:cNvPicPr/>
          <p:nvPr/>
        </p:nvPicPr>
        <p:blipFill>
          <a:blip r:embed="rId1"/>
          <a:stretch/>
        </p:blipFill>
        <p:spPr>
          <a:xfrm>
            <a:off x="4648320" y="304920"/>
            <a:ext cx="4038480" cy="5275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4"/>
          <p:cNvSpPr/>
          <p:nvPr/>
        </p:nvSpPr>
        <p:spPr>
          <a:xfrm>
            <a:off x="5120640" y="5644800"/>
            <a:ext cx="345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з бандурою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 червня 1946 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23920" y="533160"/>
            <a:ext cx="4419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вло Григорович чудово грав на кларнеті, та й у словах вловлював особливе, музичне звучання. Можливо, тому так легко давалося йому вивчення іноземних мов (він вільно володів п'ятнадцятьм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i41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3668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919080" y="495468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з кларнетом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940-ві роки.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4800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мер П. Г. Тичина </a:t>
            </a:r>
            <a:r>
              <a:rPr b="1" lang="ru-RU" sz="2800" spc="-1" strike="noStrike">
                <a:solidFill>
                  <a:srgbClr val="ffc000"/>
                </a:solidFill>
                <a:latin typeface="Bookman Old Style"/>
              </a:rPr>
              <a:t>16 вересня 1967 року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Києв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хований на Байковому кладовищі в Києв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Надгробок Павла Тичини на Байковому цвинтарі в Києві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76212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4786560" y="5716800"/>
            <a:ext cx="39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Надгробок Павла Тичи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на Байковому цвинтарі в Києв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4724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вло Григорович Тичина народився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27(15) січня 1891 р.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у селі Піски Козелецького повіту Чернігівської губернії (тепер Бобровицького району Чернігівської області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9" descr="i03"/>
          <p:cNvPicPr/>
          <p:nvPr/>
        </p:nvPicPr>
        <p:blipFill>
          <a:blip r:embed="rId1"/>
          <a:stretch/>
        </p:blipFill>
        <p:spPr>
          <a:xfrm>
            <a:off x="5105520" y="457200"/>
            <a:ext cx="330984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5613480" y="5111640"/>
            <a:ext cx="262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учень бурси, 1901 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ходив зі старовинного козацького роду (його пращурбув полковником у Богдана Хмельницьког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атько майбутнього поета був сільським дяком — вчителем «школи грамот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ім'я була багатодітна (народилося 13, зіп'ялося на ноги 9 дітей), жили впроголодь, зате гарно співа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малку Павло виявив хист до музики, малювання і віршуван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i01"/>
          <p:cNvPicPr/>
          <p:nvPr/>
        </p:nvPicPr>
        <p:blipFill>
          <a:blip r:embed="rId1"/>
          <a:stretch/>
        </p:blipFill>
        <p:spPr>
          <a:xfrm>
            <a:off x="5094360" y="228600"/>
            <a:ext cx="4049640" cy="5638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5029200" y="59479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Марія Василівна Тичина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мати пое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6920" y="609120"/>
            <a:ext cx="4038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 1900-1907 рр. навчався в Чернігівському духовному училищі (бурсі), в 1907-1913— в Чернігівській духовній семінарії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годом, навчаючись у Київському комерційному інституті, працював у газеті «Рад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i04"/>
          <p:cNvPicPr/>
          <p:nvPr/>
        </p:nvPicPr>
        <p:blipFill>
          <a:blip r:embed="rId1"/>
          <a:stretch/>
        </p:blipFill>
        <p:spPr>
          <a:xfrm>
            <a:off x="228600" y="533520"/>
            <a:ext cx="4495680" cy="3504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297000" y="4114440"/>
            <a:ext cx="417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уховий оркес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Чернігівської духовної семінарії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52280" y="5214960"/>
            <a:ext cx="8991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цей час припало його ознайомлення з новітнім українським мистецтвом, особисте знайомство з найвідомішими його представник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У </a:t>
            </a:r>
            <a:r>
              <a:rPr b="1" lang="ru-RU" sz="2800" spc="-1" strike="noStrike">
                <a:solidFill>
                  <a:srgbClr val="ffc000"/>
                </a:solidFill>
                <a:latin typeface="Bookman Old Style"/>
              </a:rPr>
              <a:t>1913-1914 рр.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ацює в редакції ліберального україномовного журналу </a:t>
            </a: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«Світло»,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а після його закриття — в Чернігівському статистичному бюр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" descr="i05"/>
          <p:cNvPicPr/>
          <p:nvPr/>
        </p:nvPicPr>
        <p:blipFill>
          <a:blip r:embed="rId1"/>
          <a:stretch/>
        </p:blipFill>
        <p:spPr>
          <a:xfrm>
            <a:off x="4952880" y="380880"/>
            <a:ext cx="3434040" cy="44960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4830480" y="5257080"/>
            <a:ext cx="38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в юнацькі ро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495680" y="3808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16-1917 рр.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— помічник хормейстера в українському театрі М. К. Садовськ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0 року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дорожував із капелою К. Стеценка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«Думка»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равобережною Україною від Києва до Одес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Того ж року організував хор (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1 р.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— капела-студія імені М. Леонтовича), з яким виступав до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3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ро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i12"/>
          <p:cNvPicPr/>
          <p:nvPr/>
        </p:nvPicPr>
        <p:blipFill>
          <a:blip r:embed="rId1"/>
          <a:stretch/>
        </p:blipFill>
        <p:spPr>
          <a:xfrm>
            <a:off x="0" y="1219320"/>
            <a:ext cx="4876920" cy="3841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533520" y="5213160"/>
            <a:ext cx="379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ор ім. М. Леонтови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ід орудою Павла Тичи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очаток 1920-х років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3 по 1934 рік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— співредактор журналу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«Червоний шлях»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(Харків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ходить до заснованої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3 р.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пілки пролетарських письменників України 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«Гарт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6 року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зяв активну участь у створенні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АПЛІТЕ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(Вільної Академії пролетарської літератури) на чолі з М. Хвильовим, куди увійшли й колишні члени «Гарту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9 р.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— дійсний член Академії наук Української РСР, у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36-1939 рр. і в 1940-1943 рр.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чолює Інститут літератури АН УР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47 р.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— член-кореспондент Болгарської АН, доктор філології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i20"/>
          <p:cNvPicPr/>
          <p:nvPr/>
        </p:nvPicPr>
        <p:blipFill>
          <a:blip r:embed="rId1"/>
          <a:stretch/>
        </p:blipFill>
        <p:spPr>
          <a:xfrm>
            <a:off x="4952880" y="380880"/>
            <a:ext cx="3443400" cy="4496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5257800" y="51069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у своїй бібліотеці, 1932 р.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40388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43— 1948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р. — міністр освіти УР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53 по 1959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ік — голова Верховної Ради УРСР, заступник голови Ради Національностей Верховної Ради УРСР, член багатьох товариств, комітетів, президій, кавалер орденів і меда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i31"/>
          <p:cNvPicPr/>
          <p:nvPr/>
        </p:nvPicPr>
        <p:blipFill>
          <a:blip r:embed="rId1"/>
          <a:stretch/>
        </p:blipFill>
        <p:spPr>
          <a:xfrm>
            <a:off x="4495680" y="106668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4827600" y="4572000"/>
            <a:ext cx="418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Засідання правописної комісії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в селі Поміри на Харківщині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ід головуванням Павла Тичи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8 серпня 1943 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13:36Z</dcterms:created>
  <dc:creator>WS001</dc:creator>
  <dc:description/>
  <dc:language>en-US</dc:language>
  <cp:lastModifiedBy>Fudjik</cp:lastModifiedBy>
  <dcterms:modified xsi:type="dcterms:W3CDTF">2011-07-25T16:30:11Z</dcterms:modified>
  <cp:revision>9</cp:revision>
  <dc:subject/>
  <dc:title>Слайд 1</dc:title>
</cp:coreProperties>
</file>