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EE7-FBAA-4E85-8162-E591316D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A0B-2F55-4179-A77F-625118B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E38-21B4-4953-B561-7C248404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D1D-2A77-463F-9714-B05F9E08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F42-4837-42E2-B32A-71C3232C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CDC0-28D5-4F15-8E6F-18A2B184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7CEE-4054-4B58-A45F-22027899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088-2001-41C4-BFFC-62AA3A0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0D5C-CC9D-4978-BF55-57CAE94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907D-B3C2-4496-AAE1-9DA7E060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C12-B7A1-4F14-9239-465D05D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911-2AA6-4974-9B10-61E7AC8D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C0B8-8B30-4CA6-8C41-6C6ACAC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2BA-5FC7-4D6E-8225-0B2A052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32B6-8D5C-428B-B6CF-4B7F46A2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1724-BCD7-416C-8729-6089EC6D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1A85-15D8-4C70-8055-9BE9E81C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A24-7516-4991-A402-B34F30D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D2D-6B35-4AB5-99DE-E751301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43F-E5CE-4DE9-9247-193E295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730-B57B-4775-BFDD-92D0E00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6AB-92FD-409A-AD4E-9ACEFE5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578-EC0C-4CE3-B7D9-690E1D7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A54-E6C4-400D-A3FE-7CE14CF6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7620-83FC-41E4-B4EC-580497A0751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413E-BBC1-4D20-971E-F8B6090F67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86;&#1073;&#1088;&#1072;&#1078;&#1077;&#1085;&#1085;&#1103;:&#1052;&#1086;&#1075;&#1080;&#1083;&#1072;-&#1058;&#1080;&#1095;&#1080;&#1085;&#1080;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http://www.ukrlit.vn.ua/biography/tichina.jpg"/>
          <p:cNvPicPr/>
          <p:nvPr/>
        </p:nvPicPr>
        <p:blipFill>
          <a:blip r:embed="rId1"/>
          <a:stretch/>
        </p:blipFill>
        <p:spPr>
          <a:xfrm>
            <a:off x="2895480" y="228600"/>
            <a:ext cx="3505320" cy="4952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981080" y="525744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ПАВЛО ТИЧ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(1891 — 1967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0060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Лауреат Державної премії СРСР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(1941),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ержавної премії УРСР імені Т. Г. Шевченка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(1962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67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оку отримав звання Герой Соціалістичної Прац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9" descr="i43"/>
          <p:cNvPicPr/>
          <p:nvPr/>
        </p:nvPicPr>
        <p:blipFill>
          <a:blip r:embed="rId1"/>
          <a:stretch/>
        </p:blipFill>
        <p:spPr>
          <a:xfrm>
            <a:off x="457200" y="76212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723960" y="4569120"/>
            <a:ext cx="32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вло Тич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итає свої вірш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а Декаді українсько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літератури та мистецтв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51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к поет П. Г. Тичина починав у 1906-1910 рр. з наслідування народних пісень та творів Т. Г. Шевчен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ерші друковані твори молодого поета з'явилися 1912 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i08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267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5632200" y="4800240"/>
            <a:ext cx="188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еред друзі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13--1914 р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2273400" y="-42840"/>
            <a:ext cx="470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ерша збірка віршів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«Сонячні кларнети»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Bookman Old Style"/>
              </a:rPr>
              <a:t>«Плуг» (1920)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«Вітер з України» (1924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Bookman Old Style"/>
              </a:rPr>
              <a:t>«Чернігів» (1931 р.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8" descr="i13"/>
          <p:cNvPicPr/>
          <p:nvPr/>
        </p:nvPicPr>
        <p:blipFill>
          <a:blip r:embed="rId1"/>
          <a:stretch/>
        </p:blipFill>
        <p:spPr>
          <a:xfrm>
            <a:off x="4800600" y="228600"/>
            <a:ext cx="403848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5010840" y="548568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, 1920-т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25"/>
          <p:cNvPicPr/>
          <p:nvPr/>
        </p:nvPicPr>
        <p:blipFill>
          <a:blip r:embed="rId1"/>
          <a:stretch/>
        </p:blipFill>
        <p:spPr>
          <a:xfrm>
            <a:off x="304920" y="304920"/>
            <a:ext cx="369864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362520" y="4952520"/>
            <a:ext cx="35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, 1930-т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6858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риховане протистояння з тоталітаризмом засвідчують окремі поетичні, літературознавчі, публіцистичні твори пізнішого часу: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«Григорій Сковорода» (1939), «Похорон друга» (1942), «Творча сила народу», «Геть брудні руки від України» (194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4191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галузі поезії, прози, публіцистики, а також у науково-критичних працях Павло Тичина виявив себе одним із найосвіченіших радянських письменників, чия ерудиція охоплювала суміжні з літературою види мистецтва — музику і живопис.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2" descr="i40"/>
          <p:cNvPicPr/>
          <p:nvPr/>
        </p:nvPicPr>
        <p:blipFill>
          <a:blip r:embed="rId1"/>
          <a:stretch/>
        </p:blipFill>
        <p:spPr>
          <a:xfrm>
            <a:off x="4648320" y="304920"/>
            <a:ext cx="4038480" cy="5275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4"/>
          <p:cNvSpPr/>
          <p:nvPr/>
        </p:nvSpPr>
        <p:spPr>
          <a:xfrm>
            <a:off x="5120640" y="564480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з бандурою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 червня 1946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23920" y="533160"/>
            <a:ext cx="4419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вло Григорович чудово грав на кларнеті, та й у словах вловлював особливе, музичне звучання. Можливо, тому так легко давалося йому вивчення іноземних мов (він вільно володів п'ятнадцятьм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i41"/>
          <p:cNvPicPr/>
          <p:nvPr/>
        </p:nvPicPr>
        <p:blipFill>
          <a:blip r:embed="rId1"/>
          <a:stretch/>
        </p:blipFill>
        <p:spPr>
          <a:xfrm>
            <a:off x="380880" y="762120"/>
            <a:ext cx="4419720" cy="3668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919080" y="4954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з кларнетом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940-ві роки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4800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мер П. Г. Тичина 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16 вересня 1967 року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Києв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хований на Байковому кладовищі в Києв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8" descr="Надгробок Павла Тичини на Байковому цвинтарі в Києві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76212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4786560" y="571680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Надгробок Павла Тич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на Байковому цвинтарі в Києв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вло Григорович Тичина народився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27(15) січня 1891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у селі Піски Козелецького повіту Чернігівської губернії (тепер Бобровицького району Чернігівської області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9" descr="i03"/>
          <p:cNvPicPr/>
          <p:nvPr/>
        </p:nvPicPr>
        <p:blipFill>
          <a:blip r:embed="rId1"/>
          <a:stretch/>
        </p:blipFill>
        <p:spPr>
          <a:xfrm>
            <a:off x="5105520" y="457200"/>
            <a:ext cx="330984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5613480" y="5111640"/>
            <a:ext cx="26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учень бурси, 1901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ходив зі старовинного козацького роду (його пращурбув полковником у Богдана Хмельницьког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атько майбутнього поета був сільським дяком — вчителем «школи грамот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ім'я була багатодітна (народилося 13, зіп'ялося на ноги 9 дітей), жили впроголодь, зате гарно спів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малку Павло виявив хист до музики, малювання і віршуван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i01"/>
          <p:cNvPicPr/>
          <p:nvPr/>
        </p:nvPicPr>
        <p:blipFill>
          <a:blip r:embed="rId1"/>
          <a:stretch/>
        </p:blipFill>
        <p:spPr>
          <a:xfrm>
            <a:off x="5094360" y="228600"/>
            <a:ext cx="4049640" cy="5638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029200" y="5947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рія Василівна Тичина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ти пое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76920" y="609120"/>
            <a:ext cx="4038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1900-1907 рр. навчався в Чернігівському духовному училищі (бурсі), в 1907-1913— в Чернігівській духовній семінарії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годом, навчаючись у Київському комерційному інституті, працював у газеті «Ра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i04"/>
          <p:cNvPicPr/>
          <p:nvPr/>
        </p:nvPicPr>
        <p:blipFill>
          <a:blip r:embed="rId1"/>
          <a:stretch/>
        </p:blipFill>
        <p:spPr>
          <a:xfrm>
            <a:off x="228600" y="533520"/>
            <a:ext cx="44956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297000" y="4114440"/>
            <a:ext cx="417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уховий оркес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Чернігівської духовної семінарії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152280" y="5214960"/>
            <a:ext cx="8991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цей час припало його ознайомлення з новітнім українським мистецтвом, особисте знайомство з найвідомішими його представникам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У 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1913-1914 рр.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ацює в редакції ліберального україномовного журналу </a:t>
            </a: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«Світло»,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після його закриття — в Чернігівському статистичному бюр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i05"/>
          <p:cNvPicPr/>
          <p:nvPr/>
        </p:nvPicPr>
        <p:blipFill>
          <a:blip r:embed="rId1"/>
          <a:stretch/>
        </p:blipFill>
        <p:spPr>
          <a:xfrm>
            <a:off x="4952880" y="380880"/>
            <a:ext cx="3434040" cy="4496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4830480" y="525708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в юнацькі рок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495680" y="3808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16-1917 р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— помічник хормейстера в українському театрі М. К. Садовськ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0 року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дорожував із капелою К. Стеценк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«Думка»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равобережною Україною від Києва до Одес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Того ж року організував хор (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1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капела-студія імені М. Леонтовича), з яким виступав до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ро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i12"/>
          <p:cNvPicPr/>
          <p:nvPr/>
        </p:nvPicPr>
        <p:blipFill>
          <a:blip r:embed="rId1"/>
          <a:stretch/>
        </p:blipFill>
        <p:spPr>
          <a:xfrm>
            <a:off x="0" y="1219320"/>
            <a:ext cx="4876920" cy="3841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533520" y="5213160"/>
            <a:ext cx="379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ор ім. М. Леонтови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ід орудою Павла Тич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очаток 1920-х років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 по 1934 рік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— співредактор журналу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Червоний шлях»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(Харків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ходить до заснованої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3 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пілки пролетарських письменників України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«Гарт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6 року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зяв активну участь у створенні </a:t>
            </a: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ВАПЛІТЕ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(Вільної Академії пролетарської літератури) на чолі з М. Хвильовим, куди увійшли й колишні члени «Гарту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29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дійсний член Академії наук Української РСР, у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36-1939 рр. і в 1940-1943 рр.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чолює Інститут літератури АН УР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47 р.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— член-кореспондент Болгарської АН, доктор філології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i20"/>
          <p:cNvPicPr/>
          <p:nvPr/>
        </p:nvPicPr>
        <p:blipFill>
          <a:blip r:embed="rId1"/>
          <a:stretch/>
        </p:blipFill>
        <p:spPr>
          <a:xfrm>
            <a:off x="4952880" y="380880"/>
            <a:ext cx="3443400" cy="4496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5257800" y="51069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авло Тичина у своїй бібліотеці, 1932 р.</a:t>
            </a: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40388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43— 1948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р. — міністр освіти УР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 </a:t>
            </a:r>
            <a:r>
              <a:rPr b="1" lang="ru-RU" sz="2400" spc="-1" strike="noStrike">
                <a:solidFill>
                  <a:srgbClr val="ffc000"/>
                </a:solidFill>
                <a:latin typeface="Bookman Old Style"/>
              </a:rPr>
              <a:t>1953 по 1959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ік — голова Верховної Ради УРСР, заступник голови Ради Національностей Верховної Ради УРСР, член багатьох товариств, комітетів, президій, кавалер орденів і меда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i31"/>
          <p:cNvPicPr/>
          <p:nvPr/>
        </p:nvPicPr>
        <p:blipFill>
          <a:blip r:embed="rId1"/>
          <a:stretch/>
        </p:blipFill>
        <p:spPr>
          <a:xfrm>
            <a:off x="4495680" y="106668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4827600" y="4572000"/>
            <a:ext cx="418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Засідання правописної комісі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в селі Поміри на Харківщині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ід головуванням Павла Тичин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8 серпня 1943 р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13:36Z</dcterms:created>
  <dc:creator>WS001</dc:creator>
  <dc:description/>
  <dc:language>en-US</dc:language>
  <cp:lastModifiedBy>Fudjik</cp:lastModifiedBy>
  <dcterms:modified xsi:type="dcterms:W3CDTF">2011-07-25T16:30:11Z</dcterms:modified>
  <cp:revision>9</cp:revision>
  <dc:subject/>
  <dc:title>Слайд 1</dc:title>
</cp:coreProperties>
</file>