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4880-E981-48E0-A6D0-7157FFBC1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72385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5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1F81-5B8E-4435-9B5B-337899F5E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DE93-46EE-4912-9976-DB9C22E0B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56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56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A8CC-94F7-4F51-AF3B-1CB254D82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E85C5-768B-4028-A354-43DC916ED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9560"/>
            <a:ext cx="72385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ADC07-965C-402D-B3FE-6A17FC295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72385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3A014-7958-42BF-8270-7FA1CDCE1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35323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166640" y="1609560"/>
            <a:ext cx="35323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BDBB4-8A56-43E7-9836-5C9B2237A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7D8E3-5371-400C-B10D-B0D9AAD86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320040"/>
            <a:ext cx="72385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4BE16-005A-4068-BA88-F05C52F3A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166640" y="1609560"/>
            <a:ext cx="35323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656ED-F774-452B-8B42-572B90B0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560"/>
            <a:ext cx="72385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BDC8-BCFA-4FE8-8C83-8DD99876F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35323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16664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B6308-09D4-4F6B-9F46-531791F3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16664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5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3F3DF-4814-4646-86A1-F7F7F7F2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72385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5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4EFBA-8B91-4433-9562-19FAF21C6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16664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E4427-915B-484E-888A-D2CFE6035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04840" y="160956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352480" y="160956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C979D-BED1-4C6E-8FF3-E06AC50BB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72385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60FB-99F6-408F-8B25-7758E03B7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35323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560"/>
            <a:ext cx="35323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59B3-B5CC-40F4-8997-4CFA05E0C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7B6C-9581-41A3-BEB1-7FC90D9EC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040"/>
            <a:ext cx="72385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5616-5CDA-4669-A243-7B4DCD2DE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560"/>
            <a:ext cx="35323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2127-1FBD-423E-8AF9-49FF2648D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35323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CFC3-2DA6-422B-A891-D39F6C01F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5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211B-27EC-44CF-A91F-C1F38327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1a1a1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 hidden="1"/>
          <p:cNvSpPr/>
          <p:nvPr/>
        </p:nvSpPr>
        <p:spPr>
          <a:xfrm flipH="1">
            <a:off x="8152560" y="0"/>
            <a:ext cx="990360" cy="6857640"/>
          </a:xfrm>
          <a:prstGeom prst="rect">
            <a:avLst/>
          </a:prstGeom>
          <a:blipFill rotWithShape="0">
            <a:blip r:embed="rId2">
              <a:alphaModFix amt="43000"/>
            </a:blip>
            <a:srcRect/>
            <a:tile tx="0" ty="0" sx="49970" sy="49970" algn="tl"/>
          </a:blipFill>
          <a:ln w="0">
            <a:noFill/>
          </a:ln>
          <a:effectLst>
            <a:innerShdw blurRad="63500" dir="10800000" dist="44450">
              <a:srgbClr val="000000">
                <a:alpha val="45000"/>
              </a:srgbClr>
            </a:inn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1" name="Прямоугольник 7"/>
          <p:cNvSpPr/>
          <p:nvPr/>
        </p:nvSpPr>
        <p:spPr>
          <a:xfrm flipH="1">
            <a:off x="2666160" y="0"/>
            <a:ext cx="6476760" cy="6857640"/>
          </a:xfrm>
          <a:prstGeom prst="rect">
            <a:avLst/>
          </a:prstGeom>
          <a:blipFill rotWithShape="0">
            <a:blip r:embed="rId3">
              <a:alphaModFix amt="43000"/>
            </a:blip>
            <a:srcRect/>
            <a:tile tx="0" ty="0" sx="49970" sy="49970" algn="tl"/>
          </a:blipFill>
          <a:ln w="0">
            <a:noFill/>
          </a:ln>
          <a:effectLst>
            <a:innerShdw blurRad="63500" dir="10800000" dist="44450">
              <a:srgbClr val="000000">
                <a:alpha val="50000"/>
              </a:srgbClr>
            </a:inn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V="1">
            <a:off x="2666880" y="0"/>
            <a:ext cx="360" cy="6858000"/>
          </a:xfrm>
          <a:prstGeom prst="line">
            <a:avLst/>
          </a:prstGeom>
          <a:ln w="11430">
            <a:solidFill>
              <a:srgbClr val="ffffff">
                <a:shade val="9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366720" y="533520"/>
            <a:ext cx="5105160" cy="286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4200" spc="-1" strike="noStrike" cap="all">
                <a:solidFill>
                  <a:srgbClr val="000000"/>
                </a:solidFill>
                <a:latin typeface="Trebuchet MS"/>
              </a:rPr>
              <a:t>Образец заголовка</a:t>
            </a:r>
            <a:endParaRPr b="0" lang="ru-RU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5871240" y="6558120"/>
            <a:ext cx="2001960" cy="2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2819520" y="6558120"/>
            <a:ext cx="2927520" cy="22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7880760" y="6556320"/>
            <a:ext cx="587880" cy="22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BF90499-FA09-4CD9-9FEA-D3E7937F319F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6f6f6f"/>
                </a:solidFill>
                <a:latin typeface="Trebuchet MS"/>
              </a:rPr>
              <a:t>Third Outline Level</a:t>
            </a:r>
            <a:endParaRPr b="0" lang="ru-RU" sz="2000" spc="-1" strike="noStrike">
              <a:solidFill>
                <a:srgbClr val="6f6f6f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8"/>
          <p:cNvSpPr/>
          <p:nvPr/>
        </p:nvSpPr>
        <p:spPr>
          <a:xfrm flipH="1">
            <a:off x="8152560" y="0"/>
            <a:ext cx="990360" cy="6857640"/>
          </a:xfrm>
          <a:prstGeom prst="rect">
            <a:avLst/>
          </a:prstGeom>
          <a:blipFill rotWithShape="0">
            <a:blip r:embed="rId2">
              <a:alphaModFix amt="43000"/>
            </a:blip>
            <a:srcRect/>
            <a:tile tx="0" ty="0" sx="49970" sy="49970" algn="tl"/>
          </a:blipFill>
          <a:ln w="0">
            <a:noFill/>
          </a:ln>
          <a:effectLst>
            <a:innerShdw blurRad="63500" dir="10800000" dist="44450">
              <a:srgbClr val="000000">
                <a:alpha val="45000"/>
              </a:srgbClr>
            </a:inn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Образец заголовка</a:t>
            </a:r>
            <a:endParaRPr b="0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9560"/>
            <a:ext cx="7238520" cy="48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128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</a:pPr>
            <a:r>
              <a:rPr b="0" lang="ru-RU" sz="2300" spc="-1" strike="noStrike">
                <a:solidFill>
                  <a:srgbClr val="6f6f6f"/>
                </a:solidFill>
                <a:latin typeface="Trebuchet MS"/>
              </a:rPr>
              <a:t>Второй уровень</a:t>
            </a:r>
            <a:endParaRPr b="0" lang="ru-RU" sz="23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lnSpc>
                <a:spcPct val="100000"/>
              </a:lnSpc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Третий уровень</a:t>
            </a:r>
            <a:endParaRPr b="0" lang="ru-RU" sz="2000" spc="-1" strike="noStrike">
              <a:solidFill>
                <a:srgbClr val="6f6f6f"/>
              </a:solidFill>
              <a:latin typeface="Trebuchet MS"/>
            </a:endParaRPr>
          </a:p>
          <a:p>
            <a:pPr lvl="3" marL="1005840" indent="-228600">
              <a:lnSpc>
                <a:spcPct val="100000"/>
              </a:lnSpc>
              <a:spcBef>
                <a:spcPts val="400"/>
              </a:spcBef>
              <a:buClr>
                <a:srgbClr val="f9b639"/>
              </a:buClr>
              <a:buSzPct val="80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6f6f6f"/>
                </a:solidFill>
                <a:latin typeface="Trebuchet MS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280160" indent="-228600">
              <a:lnSpc>
                <a:spcPct val="100000"/>
              </a:lnSpc>
              <a:spcBef>
                <a:spcPts val="400"/>
              </a:spcBef>
              <a:buClr>
                <a:srgbClr val="f9b639"/>
              </a:buClr>
              <a:buSzPct val="70000"/>
              <a:buFont typeface="Wingdings" charset="2"/>
              <a:buChar char="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245840" y="6558120"/>
            <a:ext cx="2001960" cy="2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7200" y="6558120"/>
            <a:ext cx="3657240" cy="22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251400" y="6556320"/>
            <a:ext cx="587880" cy="22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E98577B-1F4E-4061-8210-DD7C307B69BE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366720" y="533520"/>
            <a:ext cx="5105160" cy="286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6000" spc="-1" strike="noStrike" cap="all">
                <a:solidFill>
                  <a:srgbClr val="000000"/>
                </a:solidFill>
                <a:latin typeface="Trebuchet MS"/>
              </a:rPr>
              <a:t>my favorite TV channels</a:t>
            </a:r>
            <a:endParaRPr b="0" lang="ru-RU" sz="6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6000" spc="-1" strike="noStrike" cap="all">
                <a:solidFill>
                  <a:srgbClr val="000000"/>
                </a:solidFill>
                <a:latin typeface="Trebuchet MS"/>
              </a:rPr>
              <a:t>content</a:t>
            </a:r>
            <a:endParaRPr b="0" lang="ru-RU" sz="6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57120" y="1428840"/>
            <a:ext cx="7238520" cy="19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8000"/>
          </a:bodyPr>
          <a:p>
            <a:pPr marL="268560" indent="-26856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en-US" sz="3600" spc="-1" strike="noStrike" u="sng">
                <a:solidFill>
                  <a:srgbClr val="ffde66"/>
                </a:solidFill>
                <a:uFillTx/>
                <a:latin typeface="Trebuchet MS"/>
                <a:hlinkClick r:id="rId1" action="ppaction://hlinksldjump"/>
              </a:rPr>
              <a:t>Sts</a:t>
            </a:r>
            <a:endParaRPr b="0" lang="ru-RU" sz="3600" spc="-1" strike="noStrike">
              <a:solidFill>
                <a:srgbClr val="000000"/>
              </a:solidFill>
              <a:latin typeface="Trebuchet MS"/>
            </a:endParaRPr>
          </a:p>
          <a:p>
            <a:pPr marL="268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3600" spc="-1" strike="noStrike" u="sng">
                <a:solidFill>
                  <a:srgbClr val="ffde66"/>
                </a:solidFill>
                <a:uFillTx/>
                <a:latin typeface="Trebuchet MS"/>
                <a:hlinkClick r:id="rId2" action="ppaction://hlinksldjump"/>
              </a:rPr>
              <a:t> </a:t>
            </a:r>
            <a:r>
              <a:rPr b="0" lang="en-US" sz="3600" spc="-1" strike="noStrike" u="sng">
                <a:solidFill>
                  <a:srgbClr val="ffde66"/>
                </a:solidFill>
                <a:uFillTx/>
                <a:latin typeface="Trebuchet MS"/>
                <a:hlinkClick r:id="rId3" action="ppaction://hlinksldjump"/>
              </a:rPr>
              <a:t>tv</a:t>
            </a:r>
            <a:r>
              <a:rPr b="0" lang="en-US" sz="3600" spc="-1" strike="noStrike" u="sng">
                <a:solidFill>
                  <a:srgbClr val="ffde66"/>
                </a:solidFill>
                <a:uFillTx/>
                <a:latin typeface="Trebuchet MS"/>
                <a:hlinkClick r:id="rId4" action="ppaction://hlinksldjump"/>
              </a:rPr>
              <a:t> 3</a:t>
            </a:r>
            <a:endParaRPr b="0" lang="ru-RU" sz="3600" spc="-1" strike="noStrike">
              <a:solidFill>
                <a:srgbClr val="000000"/>
              </a:solidFill>
              <a:latin typeface="Trebuchet MS"/>
            </a:endParaRPr>
          </a:p>
          <a:p>
            <a:pPr marL="268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NTV</a:t>
            </a:r>
            <a:endParaRPr b="0" lang="ru-RU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214200"/>
            <a:ext cx="6071760" cy="1285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 fontScale="84000"/>
          </a:bodyPr>
          <a:p>
            <a:pPr indent="0">
              <a:lnSpc>
                <a:spcPct val="100000"/>
              </a:lnSpc>
              <a:buNone/>
            </a:pPr>
            <a:r>
              <a:rPr b="1" lang="ru-RU" sz="3200" spc="-1" strike="noStrike" u="sng" cap="all">
                <a:solidFill>
                  <a:srgbClr val="ffde66"/>
                </a:solidFill>
                <a:uFillTx/>
                <a:latin typeface="Trebuchet MS"/>
                <a:hlinkClick r:id="rId1" action="ppaction://hlinksldjump"/>
              </a:rPr>
              <a:t>  </a:t>
            </a:r>
            <a:r>
              <a:rPr b="1" lang="ru-RU" sz="3200" spc="-1" strike="noStrike" u="sng" cap="all">
                <a:solidFill>
                  <a:srgbClr val="ffde66"/>
                </a:solidFill>
                <a:uFillTx/>
                <a:latin typeface="Trebuchet MS"/>
                <a:hlinkClick r:id="rId2" action="ppaction://hlinksldjump"/>
              </a:rPr>
              <a:t> назад</a:t>
            </a:r>
            <a:br>
              <a:rPr sz="3200"/>
            </a:br>
            <a:br>
              <a:rPr sz="3200"/>
            </a:br>
            <a:r>
              <a:rPr b="1" lang="en-US" sz="2800" spc="-1" strike="noStrike" cap="all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100" spc="-1" strike="noStrike" cap="all">
                <a:solidFill>
                  <a:srgbClr val="000000"/>
                </a:solidFill>
                <a:latin typeface="Trebuchet MS"/>
              </a:rPr>
              <a:t>love watch</a:t>
            </a:r>
            <a:endParaRPr b="0" lang="ru-RU" sz="3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0040" y="1714320"/>
            <a:ext cx="7238520" cy="22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Ural dumplings</a:t>
            </a:r>
            <a:endParaRPr b="0" lang="ru-RU" sz="40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Voroniny</a:t>
            </a:r>
            <a:endParaRPr b="0" lang="ru-RU" sz="40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youth</a:t>
            </a:r>
            <a:endParaRPr b="0" lang="ru-RU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Стрелка влево 4">
            <a:hlinkClick r:id="rId3" action="ppaction://hlinksldjump"/>
          </p:cNvPr>
          <p:cNvSpPr/>
          <p:nvPr/>
        </p:nvSpPr>
        <p:spPr>
          <a:xfrm>
            <a:off x="214200" y="142920"/>
            <a:ext cx="785520" cy="57132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b83d68"/>
          </a:solidFill>
          <a:ln>
            <a:solidFill>
              <a:srgbClr val="882d4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92" name="Picture 2" descr="C:\Users\xxxxx\Desktop\download.jpg"/>
          <p:cNvPicPr/>
          <p:nvPr/>
        </p:nvPicPr>
        <p:blipFill>
          <a:blip r:embed="rId4"/>
          <a:stretch/>
        </p:blipFill>
        <p:spPr>
          <a:xfrm>
            <a:off x="0" y="3786120"/>
            <a:ext cx="2857320" cy="15998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C:\Users\xxxxx\Desktop\л.jpg"/>
          <p:cNvPicPr/>
          <p:nvPr/>
        </p:nvPicPr>
        <p:blipFill>
          <a:blip r:embed="rId5"/>
          <a:stretch/>
        </p:blipFill>
        <p:spPr>
          <a:xfrm>
            <a:off x="2857320" y="2428920"/>
            <a:ext cx="1928520" cy="2542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C:\Users\xxxxx\Desktop\ist.jpg"/>
          <p:cNvPicPr/>
          <p:nvPr/>
        </p:nvPicPr>
        <p:blipFill>
          <a:blip r:embed="rId6"/>
          <a:stretch/>
        </p:blipFill>
        <p:spPr>
          <a:xfrm>
            <a:off x="4572000" y="428760"/>
            <a:ext cx="3642840" cy="2960280"/>
          </a:xfrm>
          <a:prstGeom prst="rect">
            <a:avLst/>
          </a:prstGeom>
          <a:ln w="0">
            <a:noFill/>
          </a:ln>
        </p:spPr>
      </p:pic>
      <p:sp>
        <p:nvSpPr>
          <p:cNvPr id="95" name="Заголовок 1"/>
          <p:cNvSpPr/>
          <p:nvPr/>
        </p:nvSpPr>
        <p:spPr>
          <a:xfrm>
            <a:off x="857160" y="5286240"/>
            <a:ext cx="7238520" cy="13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1" lang="ru-RU" sz="3200" spc="-1" strike="noStrike" cap="all">
              <a:solidFill>
                <a:srgbClr val="fdf2e8"/>
              </a:solidFill>
              <a:latin typeface="Trebuchet MS"/>
            </a:endParaRPr>
          </a:p>
        </p:txBody>
      </p:sp>
      <p:sp>
        <p:nvSpPr>
          <p:cNvPr id="96" name="Прямоугольник 10"/>
          <p:cNvSpPr/>
          <p:nvPr/>
        </p:nvSpPr>
        <p:spPr>
          <a:xfrm>
            <a:off x="4714920" y="3500280"/>
            <a:ext cx="342864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for evening view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57120" y="1214280"/>
            <a:ext cx="7238520" cy="8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Ghostbusters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Стрелка влево 3">
            <a:hlinkClick r:id="rId1" action="ppaction://hlinksldjump"/>
          </p:cNvPr>
          <p:cNvSpPr/>
          <p:nvPr/>
        </p:nvSpPr>
        <p:spPr>
          <a:xfrm>
            <a:off x="428760" y="428760"/>
            <a:ext cx="1071360" cy="57132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ac66bb"/>
          </a:solidFill>
          <a:ln>
            <a:solidFill>
              <a:srgbClr val="7f4b8a"/>
            </a:solidFill>
            <a:round/>
          </a:ln>
        </p:spPr>
        <p:style>
          <a:lnRef idx="2">
            <a:schemeClr val="accent2">
              <a:shade val="50000"/>
            </a:schemeClr>
          </a:lnRef>
          <a:fillRef idx="1">
            <a:schemeClr val="accent2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00"/>
              </a:solidFill>
              <a:latin typeface="Trebuchet MS"/>
            </a:endParaRPr>
          </a:p>
        </p:txBody>
      </p:sp>
      <p:pic>
        <p:nvPicPr>
          <p:cNvPr id="99" name="Picture 2" descr="C:\Users\xxxxx\Desktop\ohotniki-za-privideniyami-tv3.jpg"/>
          <p:cNvPicPr/>
          <p:nvPr/>
        </p:nvPicPr>
        <p:blipFill>
          <a:blip r:embed="rId2"/>
          <a:stretch/>
        </p:blipFill>
        <p:spPr>
          <a:xfrm>
            <a:off x="0" y="2214720"/>
            <a:ext cx="8143560" cy="46429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214200"/>
            <a:ext cx="7238520" cy="7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miracle of technology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01" name="Picture 2" descr="C:\Users\xxxxx\Desktop\download.jpg"/>
          <p:cNvPicPr/>
          <p:nvPr/>
        </p:nvPicPr>
        <p:blipFill>
          <a:blip r:embed="rId1"/>
          <a:stretch/>
        </p:blipFill>
        <p:spPr>
          <a:xfrm>
            <a:off x="0" y="785880"/>
            <a:ext cx="5478120" cy="30794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theme/theme1.xml><?xml version="1.0" encoding="utf-8"?>
<a:theme xmlns:a="http://schemas.openxmlformats.org/drawingml/2006/main" name="Изящная">
  <a:themeElements>
    <a:clrScheme name="Изящная">
      <a:dk1>
        <a:srgbClr val="000000"/>
      </a:dk1>
      <a:lt1>
        <a:srgbClr val="ffffff"/>
      </a:lt1>
      <a:dk2>
        <a:srgbClr val="b13f9a"/>
      </a:dk2>
      <a:lt2>
        <a:srgbClr val="f4e7ed"/>
      </a:lt2>
      <a:accent1>
        <a:srgbClr val="b83d68"/>
      </a:accent1>
      <a:accent2>
        <a:srgbClr val="ac66bb"/>
      </a:accent2>
      <a:accent3>
        <a:srgbClr val="de6c36"/>
      </a:accent3>
      <a:accent4>
        <a:srgbClr val="f9b639"/>
      </a:accent4>
      <a:accent5>
        <a:srgbClr val="cf6da4"/>
      </a:accent5>
      <a:accent6>
        <a:srgbClr val="fa8d3d"/>
      </a:accent6>
      <a:hlink>
        <a:srgbClr val="ffde66"/>
      </a:hlink>
      <a:folHlink>
        <a:srgbClr val="d490c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Изящная">
  <a:themeElements>
    <a:clrScheme name="Изящная">
      <a:dk1>
        <a:srgbClr val="000000"/>
      </a:dk1>
      <a:lt1>
        <a:srgbClr val="ffffff"/>
      </a:lt1>
      <a:dk2>
        <a:srgbClr val="b13f9a"/>
      </a:dk2>
      <a:lt2>
        <a:srgbClr val="f4e7ed"/>
      </a:lt2>
      <a:accent1>
        <a:srgbClr val="b83d68"/>
      </a:accent1>
      <a:accent2>
        <a:srgbClr val="ac66bb"/>
      </a:accent2>
      <a:accent3>
        <a:srgbClr val="de6c36"/>
      </a:accent3>
      <a:accent4>
        <a:srgbClr val="f9b639"/>
      </a:accent4>
      <a:accent5>
        <a:srgbClr val="cf6da4"/>
      </a:accent5>
      <a:accent6>
        <a:srgbClr val="fa8d3d"/>
      </a:accent6>
      <a:hlink>
        <a:srgbClr val="ffde66"/>
      </a:hlink>
      <a:folHlink>
        <a:srgbClr val="d490c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pulent</Template>
  <TotalTime>435</TotalTime>
  <Application>LibreOffice/7.4.7.2$Linux_X86_64 LibreOffice_project/40$Build-2</Application>
  <AppVersion>15.0000</AppVersion>
  <Words>23</Words>
  <Paragraphs>12</Paragraphs>
  <Company>Reanimator Extreme Edition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3T05:29:54Z</dcterms:created>
  <dc:creator>User</dc:creator>
  <dc:description/>
  <dc:language>en-US</dc:language>
  <cp:lastModifiedBy>xxxxx</cp:lastModifiedBy>
  <dcterms:modified xsi:type="dcterms:W3CDTF">2017-10-24T16:51:13Z</dcterms:modified>
  <cp:revision>46</cp:revision>
  <dc:subject/>
  <dc:title>Презентация на тему  «Творчество французского художника Гюстава Курбе 1819-1877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5</vt:r8>
  </property>
</Properties>
</file>