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B0D-1850-4727-B4A9-B11609C5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8B6-E642-4FF4-B514-FEC651E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161-0FA6-4B53-AC64-3140E755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CF8-5878-4E10-AD2B-0926193E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65DA-4484-4066-BEE1-2CB5389B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4157-97EE-4098-B995-AD6D5E4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B2F-3EDF-4D0A-A81D-2D7B9B7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E9A-7792-4776-84C3-EE67ED4A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368B-016F-4571-90DF-1AF5BB0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98B-E8E1-44A9-B41A-DDE6688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2AF6-079B-465D-AEA5-F8445CD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251-96C9-4BC9-B828-CF04504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EC3-F8CB-437B-88A9-674E69C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B667-45C2-4168-8876-4909AD68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32C7-F91E-476F-BDEA-0919EAD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E986-A63E-43CD-87E9-6B39B936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F38D-5C7C-4CCB-ACAE-3B13E7E1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445-B136-4B5B-81BE-A3C6B6A0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0C9-BB4F-46D0-9053-9478B0B4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5D5-9D85-4FD3-8590-1D33E005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326-A0E7-49C1-8631-8321D48C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DE7-D0EF-434C-82F1-DF8C9B0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DF3-8D91-4049-8032-A92DFB6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866-00AA-40A5-984F-01FCBBB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DE350C-A6CC-41C8-B8AA-7746C11AD81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D44DC2-9139-46FE-976B-8A6FA8AE89D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my favorite TV channels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content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72385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Sts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 </a:t>
            </a: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tv</a:t>
            </a: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 3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TV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6071760" cy="128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u="sng" cap="all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  </a:t>
            </a:r>
            <a:r>
              <a:rPr b="1" lang="ru-RU" sz="3200" spc="-1" strike="noStrike" u="sng" cap="all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 назад</a:t>
            </a:r>
            <a:br>
              <a:rPr sz="3200"/>
            </a:br>
            <a:br>
              <a:rPr sz="3200"/>
            </a:br>
            <a:r>
              <a:rPr b="1" lang="en-US" sz="2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love watch</a:t>
            </a: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72385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ral dumplings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Voroniny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youth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Стрелка влево 4">
            <a:hlinkClick r:id="rId3" action="ppaction://hlinksldjump"/>
          </p:cNvPr>
          <p:cNvSpPr/>
          <p:nvPr/>
        </p:nvSpPr>
        <p:spPr>
          <a:xfrm>
            <a:off x="214200" y="142920"/>
            <a:ext cx="78552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92" name="Picture 2" descr="C:\Users\xxxxx\Desktop\download.jpg"/>
          <p:cNvPicPr/>
          <p:nvPr/>
        </p:nvPicPr>
        <p:blipFill>
          <a:blip r:embed="rId4"/>
          <a:stretch/>
        </p:blipFill>
        <p:spPr>
          <a:xfrm>
            <a:off x="0" y="3786120"/>
            <a:ext cx="285732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xxxxx\Desktop\л.jpg"/>
          <p:cNvPicPr/>
          <p:nvPr/>
        </p:nvPicPr>
        <p:blipFill>
          <a:blip r:embed="rId5"/>
          <a:stretch/>
        </p:blipFill>
        <p:spPr>
          <a:xfrm>
            <a:off x="2857320" y="2428920"/>
            <a:ext cx="1928520" cy="254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xxxxx\Desktop\ist.jpg"/>
          <p:cNvPicPr/>
          <p:nvPr/>
        </p:nvPicPr>
        <p:blipFill>
          <a:blip r:embed="rId6"/>
          <a:stretch/>
        </p:blipFill>
        <p:spPr>
          <a:xfrm>
            <a:off x="4572000" y="428760"/>
            <a:ext cx="3642840" cy="296028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857160" y="5286240"/>
            <a:ext cx="723852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 cap="all">
              <a:solidFill>
                <a:srgbClr val="fdf2e8"/>
              </a:solidFill>
              <a:latin typeface="Trebuchet MS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4714920" y="3500280"/>
            <a:ext cx="3428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or evening 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20" y="1214280"/>
            <a:ext cx="723852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hostbusters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Стрелка влево 3">
            <a:hlinkClick r:id="rId1" action="ppaction://hlinksldjump"/>
          </p:cNvPr>
          <p:cNvSpPr/>
          <p:nvPr/>
        </p:nvSpPr>
        <p:spPr>
          <a:xfrm>
            <a:off x="428760" y="428760"/>
            <a:ext cx="107136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c66bb"/>
          </a:solidFill>
          <a:ln>
            <a:solidFill>
              <a:srgbClr val="7f4b8a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99" name="Picture 2" descr="C:\Users\xxxxx\Desktop\ohotniki-za-privideniyami-tv3.jpg"/>
          <p:cNvPicPr/>
          <p:nvPr/>
        </p:nvPicPr>
        <p:blipFill>
          <a:blip r:embed="rId2"/>
          <a:stretch/>
        </p:blipFill>
        <p:spPr>
          <a:xfrm>
            <a:off x="0" y="2214720"/>
            <a:ext cx="8143560" cy="4642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723852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racle of technology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" name="Picture 2" descr="C:\Users\xxxxx\Desktop\download.jpg"/>
          <p:cNvPicPr/>
          <p:nvPr/>
        </p:nvPicPr>
        <p:blipFill>
          <a:blip r:embed="rId1"/>
          <a:stretch/>
        </p:blipFill>
        <p:spPr>
          <a:xfrm>
            <a:off x="0" y="785880"/>
            <a:ext cx="5478120" cy="307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435</TotalTime>
  <Application>LibreOffice/7.4.7.2$Linux_X86_64 LibreOffice_project/40$Build-2</Application>
  <AppVersion>15.0000</AppVersion>
  <Words>23</Words>
  <Paragraphs>12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5:29:54Z</dcterms:created>
  <dc:creator>User</dc:creator>
  <dc:description/>
  <dc:language>en-US</dc:language>
  <cp:lastModifiedBy>xxxxx</cp:lastModifiedBy>
  <dcterms:modified xsi:type="dcterms:W3CDTF">2017-10-24T16:51:13Z</dcterms:modified>
  <cp:revision>46</cp:revision>
  <dc:subject/>
  <dc:title>Презентация на тему  «Творчество французского художника Гюстава Курбе 1819-1877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