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9E82-816F-4EA6-949E-28B6D961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86F-D5A7-4879-8844-38F29B20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66B-FFD4-4E4C-A776-F9409A98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E47-A6B2-482B-87C6-0F529DE5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6C23-830B-4360-90AA-BA129407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918C-DDAD-475B-9C96-EDC05772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567C-F332-4DF6-9DDF-8CD3645B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4041-5F84-46CE-AEE1-3DD76696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C94A-33B9-4395-B459-1685C608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F17C-DFBD-482B-B55D-F1FF4CBA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9FB0-3BEF-49E0-BF9F-0A170227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C1D-5C05-494C-B946-BC3D55EB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5689-18CA-41C6-9AB6-F941FE24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3391-F311-44BB-A5E8-C8D9389F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DAB2-21ED-4F22-876F-F0D2F898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4808-16DC-4CEA-AB05-2C563380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69CE-591E-4F23-9A08-D1F1D83F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876-50C0-4FDD-9207-85782EEB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AA2-1773-4B35-BB6C-628796C8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EDD-A6D2-4EC7-9A00-A127237C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EC6-5CEF-4DE6-89B7-3810A948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17C-0321-489A-8417-D636AA8B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4F9-F3E7-4E3C-8191-948FD257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A3C-6082-4B64-9812-086C2080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Прямоугольник 7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12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5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76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3F25EE-C359-41CD-AC09-6E394DD3F01D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9AC42D-06E8-4943-A5FE-85DAD927F60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6000" spc="-1" strike="noStrike" cap="all">
                <a:solidFill>
                  <a:srgbClr val="000000"/>
                </a:solidFill>
                <a:latin typeface="Trebuchet MS"/>
              </a:rPr>
              <a:t>my favorite TV channels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 cap="all">
                <a:solidFill>
                  <a:srgbClr val="000000"/>
                </a:solidFill>
                <a:latin typeface="Trebuchet MS"/>
              </a:rPr>
              <a:t>content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428840"/>
            <a:ext cx="7238520" cy="19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rebuchet MS"/>
                <a:hlinkClick r:id="rId1" action="ppaction://hlinksldjump"/>
              </a:rPr>
              <a:t>Sts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  <a:p>
            <a:pPr marL="2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 </a:t>
            </a:r>
            <a:r>
              <a:rPr b="0" lang="en-US" sz="3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tv</a:t>
            </a:r>
            <a:r>
              <a:rPr b="0" lang="en-US" sz="3600" spc="-1" strike="noStrike" u="sng">
                <a:solidFill>
                  <a:srgbClr val="ffde66"/>
                </a:solidFill>
                <a:uFillTx/>
                <a:latin typeface="Trebuchet MS"/>
                <a:hlinkClick r:id="rId4" action="ppaction://hlinksldjump"/>
              </a:rPr>
              <a:t> 3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  <a:p>
            <a:pPr marL="2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TV</a:t>
            </a:r>
            <a:endParaRPr b="0" lang="ru-RU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6071760" cy="1285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u="sng" cap="all">
                <a:solidFill>
                  <a:srgbClr val="ffde66"/>
                </a:solidFill>
                <a:uFillTx/>
                <a:latin typeface="Trebuchet MS"/>
                <a:hlinkClick r:id="rId1" action="ppaction://hlinksldjump"/>
              </a:rPr>
              <a:t>  </a:t>
            </a:r>
            <a:r>
              <a:rPr b="1" lang="ru-RU" sz="3200" spc="-1" strike="noStrike" u="sng" cap="all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 назад</a:t>
            </a:r>
            <a:br>
              <a:rPr sz="3200"/>
            </a:br>
            <a:br>
              <a:rPr sz="3200"/>
            </a:br>
            <a:r>
              <a:rPr b="1" lang="en-US" sz="2800" spc="-1" strike="noStrike" cap="all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100" spc="-1" strike="noStrike" cap="all">
                <a:solidFill>
                  <a:srgbClr val="000000"/>
                </a:solidFill>
                <a:latin typeface="Trebuchet MS"/>
              </a:rPr>
              <a:t>love watch</a:t>
            </a:r>
            <a:endParaRPr b="0" lang="ru-RU" sz="3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714320"/>
            <a:ext cx="723852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Ural dumplings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Voroniny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youth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Стрелка влево 4">
            <a:hlinkClick r:id="rId3" action="ppaction://hlinksldjump"/>
          </p:cNvPr>
          <p:cNvSpPr/>
          <p:nvPr/>
        </p:nvSpPr>
        <p:spPr>
          <a:xfrm>
            <a:off x="214200" y="142920"/>
            <a:ext cx="785520" cy="5713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>
            <a:solidFill>
              <a:srgbClr val="882d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92" name="Picture 2" descr="C:\Users\xxxxx\Desktop\download.jpg"/>
          <p:cNvPicPr/>
          <p:nvPr/>
        </p:nvPicPr>
        <p:blipFill>
          <a:blip r:embed="rId4"/>
          <a:stretch/>
        </p:blipFill>
        <p:spPr>
          <a:xfrm>
            <a:off x="0" y="3786120"/>
            <a:ext cx="2857320" cy="1599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xxxxx\Desktop\л.jpg"/>
          <p:cNvPicPr/>
          <p:nvPr/>
        </p:nvPicPr>
        <p:blipFill>
          <a:blip r:embed="rId5"/>
          <a:stretch/>
        </p:blipFill>
        <p:spPr>
          <a:xfrm>
            <a:off x="2857320" y="2428920"/>
            <a:ext cx="1928520" cy="254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xxxxx\Desktop\ist.jpg"/>
          <p:cNvPicPr/>
          <p:nvPr/>
        </p:nvPicPr>
        <p:blipFill>
          <a:blip r:embed="rId6"/>
          <a:stretch/>
        </p:blipFill>
        <p:spPr>
          <a:xfrm>
            <a:off x="4572000" y="428760"/>
            <a:ext cx="3642840" cy="2960280"/>
          </a:xfrm>
          <a:prstGeom prst="rect">
            <a:avLst/>
          </a:prstGeom>
          <a:ln w="0">
            <a:noFill/>
          </a:ln>
        </p:spPr>
      </p:pic>
      <p:sp>
        <p:nvSpPr>
          <p:cNvPr id="95" name="Заголовок 1"/>
          <p:cNvSpPr/>
          <p:nvPr/>
        </p:nvSpPr>
        <p:spPr>
          <a:xfrm>
            <a:off x="857160" y="5286240"/>
            <a:ext cx="723852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3200" spc="-1" strike="noStrike" cap="all">
              <a:solidFill>
                <a:srgbClr val="fdf2e8"/>
              </a:solidFill>
              <a:latin typeface="Trebuchet MS"/>
            </a:endParaRPr>
          </a:p>
        </p:txBody>
      </p:sp>
      <p:sp>
        <p:nvSpPr>
          <p:cNvPr id="96" name="Прямоугольник 10"/>
          <p:cNvSpPr/>
          <p:nvPr/>
        </p:nvSpPr>
        <p:spPr>
          <a:xfrm>
            <a:off x="4714920" y="3500280"/>
            <a:ext cx="3428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for evening vie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57120" y="1214280"/>
            <a:ext cx="723852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hostbusters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Стрелка влево 3">
            <a:hlinkClick r:id="rId1" action="ppaction://hlinksldjump"/>
          </p:cNvPr>
          <p:cNvSpPr/>
          <p:nvPr/>
        </p:nvSpPr>
        <p:spPr>
          <a:xfrm>
            <a:off x="428760" y="428760"/>
            <a:ext cx="1071360" cy="5713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c66bb"/>
          </a:solidFill>
          <a:ln>
            <a:solidFill>
              <a:srgbClr val="7f4b8a"/>
            </a:solidFill>
            <a:round/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99" name="Picture 2" descr="C:\Users\xxxxx\Desktop\ohotniki-za-privideniyami-tv3.jpg"/>
          <p:cNvPicPr/>
          <p:nvPr/>
        </p:nvPicPr>
        <p:blipFill>
          <a:blip r:embed="rId2"/>
          <a:stretch/>
        </p:blipFill>
        <p:spPr>
          <a:xfrm>
            <a:off x="0" y="2214720"/>
            <a:ext cx="8143560" cy="4642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14200"/>
            <a:ext cx="7238520" cy="7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iracle of technology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1" name="Picture 2" descr="C:\Users\xxxxx\Desktop\download.jpg"/>
          <p:cNvPicPr/>
          <p:nvPr/>
        </p:nvPicPr>
        <p:blipFill>
          <a:blip r:embed="rId1"/>
          <a:stretch/>
        </p:blipFill>
        <p:spPr>
          <a:xfrm>
            <a:off x="0" y="785880"/>
            <a:ext cx="5478120" cy="3079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435</TotalTime>
  <Application>LibreOffice/7.4.7.2$Linux_X86_64 LibreOffice_project/40$Build-2</Application>
  <AppVersion>15.0000</AppVersion>
  <Words>23</Words>
  <Paragraphs>12</Paragraphs>
  <Company>Reanimator Extreme Edition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3T05:29:54Z</dcterms:created>
  <dc:creator>User</dc:creator>
  <dc:description/>
  <dc:language>en-US</dc:language>
  <cp:lastModifiedBy>xxxxx</cp:lastModifiedBy>
  <dcterms:modified xsi:type="dcterms:W3CDTF">2017-10-24T16:51:13Z</dcterms:modified>
  <cp:revision>46</cp:revision>
  <dc:subject/>
  <dc:title>Презентация на тему  «Творчество французского художника Гюстава Курбе 1819-1877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5</vt:r8>
  </property>
</Properties>
</file>