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кадемия Интернет Рекламы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52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E70E-9DB0-4EC2-81D8-5110AB98F13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Верхний колонтитул 3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кадемия Интернет Реклам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Номер слайда 4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55DF-E69B-4820-8F33-7375963B9A3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30E9-6191-4E0F-9DA6-0ADFC641F186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9654-0E1A-4537-AE10-AA57049955F9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3163-3C49-4334-966B-EECA3308C0F4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05FD-19CB-44E2-A925-3DC372C0A231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7BF9-8B35-4DB1-9E2B-0F7DEBF77ED0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6892-AB3F-4092-A5B2-917AEC9F1B97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8208-8DC4-404B-82B0-F888B599D59E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38CC-5F62-4DB1-88FC-D870F6FE1BFC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BF7A-7629-457E-9945-817B2D04EEE3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679A-B4C4-4C09-B3FE-B98F8DEF5B3E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8376-4353-4984-9C90-08EF82DEA2E5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5240"/>
                <a:tab algn="l" pos="3890880"/>
                <a:tab algn="l" pos="4378320"/>
                <a:tab algn="l" pos="4863960"/>
                <a:tab algn="l" pos="5351400"/>
                <a:tab algn="l" pos="5838840"/>
                <a:tab algn="l" pos="6324480"/>
                <a:tab algn="l" pos="6811920"/>
                <a:tab algn="l" pos="7297560"/>
                <a:tab algn="l" pos="7785000"/>
                <a:tab algn="l" pos="8272440"/>
                <a:tab algn="l" pos="8758080"/>
                <a:tab algn="l" pos="9245520"/>
                <a:tab algn="l" pos="9731520"/>
                <a:tab algn="l" pos="10058400"/>
              </a:tabLst>
            </a:pPr>
            <a:fld id="{4F1D0B8A-6B1A-44EA-A91F-6230C6ED115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1C90-89ED-497A-8633-8FA953257650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B882-BEBA-49BA-8682-1390A188F246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ADFC-8458-4750-A0D6-36723B67E94A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2691-C543-46E9-AB4A-3973853B8541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0336-A721-47CB-81DE-6374505420CB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BF12-52B7-4A91-B265-4411103A076E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Верхний колонтитул 3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кадемия Интернет Реклам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Номер слайда 4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49D4-5432-497B-B95E-B68241D772C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Верхний колонтитул 3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кадемия Интернет Реклам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4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9A7C-670D-459D-A658-1636CFFFADC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C819-687D-4306-B2C2-45CDF61C0F3B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D3D1-E7DA-46B7-88C7-B3BB333A6D3C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C959-1748-4F4E-B4A1-590AA0C32CBA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3E10-405C-4D1A-8312-CBEE2FF40F75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13CF-F5CC-400E-8F81-640BBC4AFDBB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E70A-EC54-4FBF-A6BC-873B8025DE4F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5B8-4063-4ECB-9D92-9A923289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A27-5F28-46EE-8385-BA80AA2D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92A3C-4D57-4B3A-B9F6-8F09D41E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3EA3F-8CD6-4675-B86C-B6D70938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087AD-9FBB-4688-AD36-06E65FD1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D5BAA-3AC9-4D66-A056-177782E2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C8DFF-353F-4C47-BB03-67026D59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B8C87-2392-4C11-8654-EB80FC66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4D1E4-C28B-4041-AF24-9CA52231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361AE-7062-4528-959C-F8C42BE7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EEF71-EA7E-47A3-9973-062E0EE0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33160-5E3B-4E54-8B2A-6B5C34A9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C55-64AA-4826-9DFF-B1559E68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0E7F9-6B9C-4E48-8C6C-39350A3D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0EB73-DB89-49FB-A56E-8837FEEE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D7327-C4BD-46C6-817A-21EF39E5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CA8CB-7304-4D45-989B-68C1EF21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17231-C936-4235-86C4-B5AE56FB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314C5-8CAC-4540-8723-58BC1FA1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205CE-FEB5-4BF7-B9B5-8EC5B962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C51E3-AF84-4991-949A-E36C7898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1694B-906C-429F-8D73-2C116731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8BF7B-CBE0-4B91-821A-81B04E5A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9E1-C046-4688-92C7-1666417C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751CE-AE51-44B5-A504-4B1B9335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927BD-7478-4041-A655-D755D1F1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DC507-ADCB-4BEE-A43D-A5F419D2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1287F-55E8-47B2-844B-D615BEDE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3EAD2-6E77-43CE-B3E0-9F7CE769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02F8F-BE72-4D19-B8EE-9CA459C0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AB4C8-8D9C-43BB-B2DA-9FB333FC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F26A7-842D-4C9C-B375-A6009096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EB454-B08E-4B69-A316-E92626F4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3CDAB-E762-4405-A835-9D64599D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55A5-D338-4FBB-A151-45783486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9D1BB-B8DD-441D-A38F-A0477191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7883C-E604-434D-A662-447C65D5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0A909-1926-4BF7-935C-507FE4DF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D3CB5-28BE-4CD0-88F9-EA729607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00CD2-7BC5-4623-8E84-445EE054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7FB68-CFDA-4B66-8706-7E424711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B9D67-80AF-4F77-9351-D9E9E820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605D1-25A3-4C6F-8A9B-75CB659E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78DED-8909-44DB-82B3-461959A9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D340A-4EA0-4399-B579-B36DB068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1954-C5EC-4DE0-B2D3-EDCE05AB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60E5F-104B-40CA-B37C-0D3E780C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FF4F3-3AC1-42E0-91E1-EF385F61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18E23-EB57-4161-8048-9DC958D8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78779-26C2-4E0B-B077-9A2EB3BC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4EA47-B0D1-47D3-B82A-449FB9BD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9F88F-5AF2-4804-BAC8-C4EB40A4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7115B-78C3-4C42-94B8-41D6081A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8C995-7789-4387-A4DC-CB99268E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D7393-8411-4EC5-8DBA-B925E77B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8D17A-DE7D-497C-A84C-FEB32201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03C5-9820-42EA-9DC9-0B979C6F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7F66E-7D1D-4848-B718-24363677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03161-3A92-4B88-92F0-018DA690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7471B-CA87-4EAB-A317-D38B844C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32A93-53B3-437F-A46A-9B2B302C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05B8D-2D92-488A-BBC1-845B48DC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9B2A5-E02D-4E8E-848E-1901252B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C69F9-86BD-4FE6-B0C4-B1DC648F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3537-C57E-4EA2-B1F9-89B86237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F6A1-9F4A-4A4C-B348-4CEA108D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2512-442B-4369-9175-4B0AFA26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E79E-5374-404F-A8CE-3C05C5B2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727-2161-40C7-95D2-8E2DF601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05E1-90EA-4CE4-B3BA-4D0C3AD6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9798-3FFA-46E1-958F-2B86E78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5F57-51C3-4C2F-9717-BCF1C293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3B65-BFD9-400D-9D18-15E8B340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E1A2-629A-4DA6-86FC-A5E10374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2D34-7FA8-4EA4-AE71-E4CC7128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F4A0-C017-4D17-965B-5FFCE246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1DAEB-5E76-4F60-BC4C-A0C22A52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AF90E-067F-4394-BB4F-1106359F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013F-670B-4F27-A135-A1AD0EBB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071-A36D-4549-81D3-1173E818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60FB-8EFF-4ED0-8446-4EDB81BD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4A58-AADF-4001-A229-67E21164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8D83-1B0D-45C9-9417-DD73C291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62877-EE1E-46DB-A2D6-1A311EC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C30E-A8E4-48E8-814D-5E8ADFC2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641C2-2199-4798-8166-2C911664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C1BD0-D490-4211-8DC1-AC6277C6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2F59-A230-4496-B96C-9637A49C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714A4-C4A9-4983-A767-FD442C95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95176-6FAA-4007-8E36-9B45AAC6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866-72F4-48C2-B455-18EB6250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BEE8E-D91F-4204-A3D8-99B318DE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7F257-0CAF-43B0-A62C-1DE948CC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68710-719F-4037-A766-467639DC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DE426-EBD3-4F19-AC96-8C9B2101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D080F-25A6-4317-AD26-60416D16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7C2E8-6DD9-412A-8165-F1EBFAF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DB65A-9168-4363-89C5-2C954CD4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56FE-A548-4F66-81CE-30E241DB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B2054-2959-4CB7-BB3C-3D898482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E378-574C-4377-A92F-CB69E8EF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F3C-F9F6-4944-8B73-A86002DA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97672-7030-4751-B926-16C3906A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FCE6A-A040-4426-8BA0-8C20DC39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778D7-6977-434B-850A-F77DA9E9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834A6-B3DF-4AE2-9AE1-A40445F5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B610-21F1-4272-8074-DF234AC5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4B153-D4A9-47CE-8E98-26448D95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44629-3A13-4CEF-81B2-F210CEF0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9B264-1CE4-480C-A904-CCBAD38B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0665D-B91A-45F8-B34C-BCD734E8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9DE52-D782-451A-900F-70B6492D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EEC-D85F-464F-B252-FDC021E3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9C991-9F1C-4876-9A5D-BA386529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632D1-2CC4-4DB0-85AF-BCE157F3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53BDE-8B3B-4EB0-AA46-8B62E70C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8532F-C62D-4B65-9F75-75A9573A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01238-6B79-4082-AA10-7BA59C10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B19C8-8C5A-4340-BD46-9485723F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31D14-CB7E-48FA-AB23-2711FA17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00772-6A09-4320-892E-CA68C8D9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C7FB1-367C-4969-868A-D37F5F98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E6A5F-FFFE-4D06-9B58-D3DBD9C7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5E5-B5AD-407F-9A1B-91B542B1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A44F4-B7BC-4898-A402-51CAEFF7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A4673-3B94-4206-9BFD-004054D8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60B4C-418F-40C3-89B7-C831EF71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10FE5-7E47-466D-BD29-B7A8562C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5B2A7-F056-4A54-A85B-2EC6E3D3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D3A36-B77C-437C-A1ED-91BCBBEB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5FE11-BE77-4F36-945C-FE9B803A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7D86B-1486-492F-9F4E-79BAE1D4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D7C46-0673-432F-B0C0-AAC96121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2E795-876C-4501-8360-94FE29BF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B46-5BB8-4F50-B1D3-09318D3D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6E2B9-F0B2-444B-BC2C-5D1F83C9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FDECA-CB97-4E42-B85D-B5292785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E1B5E-F76D-4373-BC61-D7D4590B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317AF-5D05-4EC7-963E-4312DCC6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728E8-53CB-452C-B009-35096BFA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B1170-087E-4531-A52E-8DDB9D65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2662D-429B-4479-8604-9EB8537A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E0AC1-A3BC-4FC1-85EC-5111B0AD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8C2D5-D81C-4479-B241-26219D60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2B840-34CC-4832-830D-1785FAC1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9C9-70EC-4819-BD89-06302B2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D695B-F877-415B-8A85-9A7EE645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91439-5FAE-49D5-865B-82008EE9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3B457-E094-455C-A85D-BA70A9ED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FA392-00A1-471C-BE83-EC4196E6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06865-EBA7-42A5-841C-7C21DE69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4B7BA-51CB-4E40-B983-FDC01A50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6FC5E-A356-43ED-B92A-72A00F6D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1944B-74C9-441D-9CAE-ECC2AFCE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86CE5-D243-4E33-BB63-FB1CD2F8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CD4FF-0F68-42F4-ACE7-B2EB4930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08A3-5249-4BA3-A5E0-B700EB107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9D2C-9FCC-4BDE-984D-2A0B056F9E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B011-A78D-4BF5-A4F8-B5EA491945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1697-97CE-4EFC-8E29-36D5AEC4F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859D-4644-4B9E-80E9-50BB7B005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921D-5F8E-45AA-8CE6-0D1C3894C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C3AA-8941-4E06-9085-023077CE3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0709-4212-4D14-8173-CCA21E3768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FD29-CFCF-44ED-979C-86A4DA50C5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D13F-DF5F-4302-B7F2-AF52CA40FC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B45E-131C-49AA-A346-11835A8A6D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0D85-ACAD-44DB-A2B7-FD1106F8B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2A5C-76CA-470D-B622-7356D3E21C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Рисунок 1" descr="index2.jpg"/>
          <p:cNvPicPr/>
          <p:nvPr/>
        </p:nvPicPr>
        <p:blipFill>
          <a:blip r:embed="rId1"/>
          <a:stretch/>
        </p:blipFill>
        <p:spPr>
          <a:xfrm>
            <a:off x="3143160" y="428760"/>
            <a:ext cx="3100320" cy="2274840"/>
          </a:xfrm>
          <a:prstGeom prst="rect">
            <a:avLst/>
          </a:prstGeom>
          <a:ln w="0">
            <a:noFill/>
          </a:ln>
        </p:spPr>
      </p:pic>
      <p:sp>
        <p:nvSpPr>
          <p:cNvPr id="541" name="TextBox 4"/>
          <p:cNvSpPr/>
          <p:nvPr/>
        </p:nvSpPr>
        <p:spPr>
          <a:xfrm>
            <a:off x="0" y="27147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УРСЫ: Основы поисковой оптимиз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Часть перв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Группа 10"/>
          <p:cNvGrpSpPr/>
          <p:nvPr/>
        </p:nvGrpSpPr>
        <p:grpSpPr>
          <a:xfrm>
            <a:off x="0" y="4357800"/>
            <a:ext cx="8858160" cy="1582920"/>
            <a:chOff x="0" y="4357800"/>
            <a:chExt cx="8858160" cy="1582920"/>
          </a:xfrm>
        </p:grpSpPr>
        <p:grpSp>
          <p:nvGrpSpPr>
            <p:cNvPr id="543" name="Группа 8"/>
            <p:cNvGrpSpPr/>
            <p:nvPr/>
          </p:nvGrpSpPr>
          <p:grpSpPr>
            <a:xfrm>
              <a:off x="0" y="4357800"/>
              <a:ext cx="8858160" cy="1065240"/>
              <a:chOff x="0" y="4357800"/>
              <a:chExt cx="8858160" cy="1065240"/>
            </a:xfrm>
          </p:grpSpPr>
          <p:sp>
            <p:nvSpPr>
              <p:cNvPr id="544" name="Rectangle 149"/>
              <p:cNvSpPr/>
              <p:nvPr/>
            </p:nvSpPr>
            <p:spPr>
              <a:xfrm>
                <a:off x="0" y="4994280"/>
                <a:ext cx="88581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Заместитель начальника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EO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отдела в компании «Сео Дрим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9"/>
              <p:cNvSpPr/>
              <p:nvPr/>
            </p:nvSpPr>
            <p:spPr>
              <a:xfrm>
                <a:off x="0" y="4357800"/>
                <a:ext cx="8858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Вениамин</a:t>
                </a:r>
                <a:r>
                  <a:rPr b="0" lang="ru-RU" sz="30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ru-RU" sz="3600" spc="-1" strike="noStrike">
                    <a:solidFill>
                      <a:srgbClr val="000000"/>
                    </a:solidFill>
                    <a:latin typeface="Calibri"/>
                  </a:rPr>
                  <a:t>МОИСЕЕВ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TextBox 3"/>
            <p:cNvSpPr/>
            <p:nvPr/>
          </p:nvSpPr>
          <p:spPr>
            <a:xfrm>
              <a:off x="3429000" y="557244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81bd"/>
                  </a:solidFill>
                  <a:latin typeface="Calibri"/>
                </a:rPr>
                <a:t>Москва, 2009 г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1"/>
          <p:cNvSpPr/>
          <p:nvPr/>
        </p:nvSpPr>
        <p:spPr>
          <a:xfrm>
            <a:off x="642960" y="42876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1143000" y="1500120"/>
            <a:ext cx="3500280" cy="39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Докуме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соват был Ваня бедный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 он позднею пор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сь в поту, от страха бледны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 кладбище шел дом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дный Ваня еле д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тыкаясь, чуть бред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могилам; вдруг он сл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-то кость, ворча, грызет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ня стал; - шагнуть не мож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же! думает бедняк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верно кости глож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огубый вурдал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6"/>
          <p:cNvSpPr/>
          <p:nvPr/>
        </p:nvSpPr>
        <p:spPr>
          <a:xfrm>
            <a:off x="4786200" y="1928880"/>
            <a:ext cx="321480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Горе! малый я не сильны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Съест упырь меня совсе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Если сам земли могиль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Я с молитвою не съем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Что же? вместо вурдалака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(Вы представьте Вани злость!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В темноте пред ним соба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На могиле гложет 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MS Gothic"/>
              </a:rPr>
              <a:t>Обратный индек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MS Gothic"/>
              </a:rPr>
              <a:t>Трусоват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MS Gothic"/>
              </a:rPr>
              <a:t>(1,1,1)</a:t>
            </a:r>
            <a:r>
              <a:rPr b="0" i="1" lang="ar-SA" sz="1600" spc="-1" strike="noStrike">
                <a:solidFill>
                  <a:srgbClr val="000000"/>
                </a:solidFill>
                <a:latin typeface="Calibri"/>
                <a:ea typeface="MS Gothic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MS Gothic"/>
              </a:rPr>
              <a:t>Был (1,1,2)</a:t>
            </a:r>
            <a:r>
              <a:rPr b="0" i="1" lang="ar-SA" sz="1600" spc="-1" strike="noStrike">
                <a:solidFill>
                  <a:srgbClr val="000000"/>
                </a:solidFill>
                <a:latin typeface="Calibri"/>
                <a:ea typeface="MS Gothic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1"/>
          <p:cNvSpPr/>
          <p:nvPr/>
        </p:nvSpPr>
        <p:spPr>
          <a:xfrm>
            <a:off x="642960" y="42876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1143000" y="1500120"/>
            <a:ext cx="3500280" cy="39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Докуме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соват был Ваня бедный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 он позднею пор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сь в поту, от страха бледны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 кладбище шел дом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дный Ваня еле д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тыкаясь, чуть бред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могилам; вдруг он сл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-то кость, ворча, грызет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ня стал; - шагнуть не мож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же! думает бедняк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верно кости глож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огубый вурдал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6"/>
          <p:cNvSpPr/>
          <p:nvPr/>
        </p:nvSpPr>
        <p:spPr>
          <a:xfrm>
            <a:off x="4786200" y="1928880"/>
            <a:ext cx="321480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Горе! малый я не сильны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Съест упырь меня совсе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Если сам земли могиль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Я с молитвою не съем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Что же? вместо вурдалака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(Вы представьте Вани злость!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В темноте пред ним соба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На могиле гложет 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MS Gothic"/>
              </a:rPr>
              <a:t>Обратный индек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MS Gothic"/>
              </a:rPr>
              <a:t>Трусоват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MS Gothic"/>
              </a:rPr>
              <a:t>(1,1,1)</a:t>
            </a:r>
            <a:r>
              <a:rPr b="0" i="1" lang="ar-SA" sz="1600" spc="-1" strike="noStrike">
                <a:solidFill>
                  <a:srgbClr val="000000"/>
                </a:solidFill>
                <a:latin typeface="Calibri"/>
                <a:ea typeface="MS Gothic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MS Gothic"/>
              </a:rPr>
              <a:t>Был (1,1,2)</a:t>
            </a:r>
            <a:r>
              <a:rPr b="0" i="1" lang="ar-SA" sz="1600" spc="-1" strike="noStrike">
                <a:solidFill>
                  <a:srgbClr val="000000"/>
                </a:solidFill>
                <a:latin typeface="Calibri"/>
                <a:ea typeface="MS Gothic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MS Gothic"/>
              </a:rPr>
              <a:t>Ваня (1,1,3; 2,1,2; 3,1,1; 5,2,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Математические модел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900000" y="1692360"/>
            <a:ext cx="767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Математическая модель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— упрощение реальности, в результате которого получается формула, позволяющая считать документы найденными и ранж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Математические модел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968400" y="1692360"/>
            <a:ext cx="767556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Математическая модель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— упрощение реальности, в результате которого получается формула, позволяющая считать документы найденными и ранж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Булевские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есть слово — документ найд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Математические модел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900000" y="1692360"/>
            <a:ext cx="7675560" cy="2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Математическая модель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— упрощение реальности, в результате которого получается формула, позволяющая считать документы найденными и ранж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Булевские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— есть слово — документ найден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 Gothic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 Gothic"/>
              </a:rPr>
              <a:t>2247 млн стра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Векторные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: вес документа = TF * IDF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TF — частота слова в докумен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IDF — редкость слова в колл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Математические модел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900000" y="1692360"/>
            <a:ext cx="767556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Математическая модель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— упрощение реальности, в результате которого получается формула, позволяющая считать документы найденными и ранж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Булевские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есть слово — документ найд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d1"/>
                </a:solidFill>
                <a:latin typeface="Calibri"/>
              </a:rPr>
              <a:t>Векторные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вес документа = TF * IDF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F — частота слова в докумен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DF — редкость слова в колл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0" name="AutoShape 5"/>
          <p:cNvSpPr/>
          <p:nvPr/>
        </p:nvSpPr>
        <p:spPr>
          <a:xfrm>
            <a:off x="561960" y="3465360"/>
            <a:ext cx="21420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Математические модел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900000" y="1692360"/>
            <a:ext cx="76755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Математическая модель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— упрощение реальности, в результате которого получается формула, позволяющая считать документы найденными и ранж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Булевские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есть слово — документ найд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d1"/>
                </a:solidFill>
                <a:latin typeface="Calibri"/>
              </a:rPr>
              <a:t>Векторные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вес документа = TF * IDF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F — частота слова в докумен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DF — редкость слова в колл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Вероятностные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сравнивание с набором эталонных доку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4" name="AutoShape 5"/>
          <p:cNvSpPr/>
          <p:nvPr/>
        </p:nvSpPr>
        <p:spPr>
          <a:xfrm>
            <a:off x="561960" y="3465360"/>
            <a:ext cx="21420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Математические модел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900000" y="1692360"/>
            <a:ext cx="7675560" cy="36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Математическая модель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— упрощение реальности, в результате которого получается формула, позволяющая считать документы найденными и ранж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Булевские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есть слово — документ найд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d1"/>
                </a:solidFill>
                <a:latin typeface="Calibri"/>
              </a:rPr>
              <a:t>Векторные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вес документа = TF * IDF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F — частота слова в докумен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DF — редкость слова в колл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Вероятностные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сравнивание с набором эталонных доку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Релевантность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степень отношения к де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8" name="AutoShape 5"/>
          <p:cNvSpPr/>
          <p:nvPr/>
        </p:nvSpPr>
        <p:spPr>
          <a:xfrm>
            <a:off x="561960" y="3465360"/>
            <a:ext cx="21420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Качество по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900000" y="1692360"/>
            <a:ext cx="767556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7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Математическая модель нуждается в настройке. Асесс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Критерии качества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Точность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доля релевантных документов в выдач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Полнота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доля найденных релевантных документов в общем числе релевантных документов колл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соответствие ссылок в выдаче реальным документам в интер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Поисковые системы сегодня далеки от соверше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Лицензи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900000" y="1692360"/>
            <a:ext cx="767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Общие пункты всех лицензий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"/>
              <p:cNvSpPr txBox="1"/>
              <p:nvPr/>
            </p:nvSpPr>
            <p:spPr>
              <a:xfrm>
                <a:off x="4208400" y="2344680"/>
                <a:ext cx="7164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5" name="Text Box 5"/>
          <p:cNvSpPr/>
          <p:nvPr/>
        </p:nvSpPr>
        <p:spPr>
          <a:xfrm>
            <a:off x="1071720" y="2376360"/>
            <a:ext cx="7500960" cy="26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Запрет на коммерческое использование результатов поиска, и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тиражирование и автоматический доступ к 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Отказ от гарантий на содержание сайтов, на точность, полноту и актуальность информации, т.е. на качество по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раво как предоставлять, так и не предоставлять услуги. Соблюдение robots.tx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Гарантия неподкупности результатов по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Декларация борьбы с поисковым спа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олитика конфиденци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1"/>
          <p:cNvSpPr/>
          <p:nvPr/>
        </p:nvSpPr>
        <p:spPr>
          <a:xfrm>
            <a:off x="357120" y="571680"/>
            <a:ext cx="835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Основы поисковой оптим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"/>
          <p:cNvSpPr/>
          <p:nvPr/>
        </p:nvSpPr>
        <p:spPr>
          <a:xfrm>
            <a:off x="500040" y="164304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Курсы SEO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всестороннее изуче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временных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факторов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лияющих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на продвижение сайта в поисковых систе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1643040" y="3143160"/>
            <a:ext cx="52149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ходу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 занятий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ам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будут предлож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разминка для у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м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развенчивание миф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ответы «я не зна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Индексация доку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720720" y="1714680"/>
            <a:ext cx="785484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Сбор информации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получение документа напрямую и дальнейший переход  по ссылкам (документы прямой видим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Особенности индекс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Инверсный индекс плюс прямой индекс (сохраненная коп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Ограничения по доменам. Иноземные зоны для Яндек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Объем индексации на одном сайте - домены 2-го и 3-го уров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астота переиндексаци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Особенности морф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720720" y="1714680"/>
            <a:ext cx="79200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Морфология поисков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Лингвистическая обработка при индексировании. Слова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лужебные символы не индексируются: точки, пробелы, знаки препи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топ-слова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 полноценные участники ранж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лово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Проблем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720720" y="1714680"/>
            <a:ext cx="7920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се эти проблемы сегодня не имеют решен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411280" y="2427120"/>
            <a:ext cx="424836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Размер инд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Дублик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Поисковый с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Обн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Понимание 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1"/>
          <p:cNvSpPr/>
          <p:nvPr/>
        </p:nvSpPr>
        <p:spPr>
          <a:xfrm>
            <a:off x="64440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Виды запросов пользова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642960" y="1500120"/>
            <a:ext cx="802476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ьзоват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= 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осо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= 1-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иц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,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ва (1997) 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2.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ва (2008)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о слов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а сло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и сло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тыре и боле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ществительн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лагательн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агол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-15%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х запросов содержат различные ошибки и искажения. Две трети всех ошибок — орфографические (пропущенные буквы, неправильное написание слов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64440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Виды запросов пользова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863640" y="1836720"/>
            <a:ext cx="802476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онные запросы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Тип запросов, когда пользователь хочет получить конкретную информацию, отвечающую на его вопрос. Примеры таких запросов – рефераты по экономике, слова песни ... и т.д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вигационные запросы (10%) -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ип запросов, когда пользователь хочет получить указание на место в Сети. Примеры запросов – сайт Дом-2, сайт Путина, одноклассники 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анзакционные запросы (4%) -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ип запросов, когда пользователь хочет получить указание на место, где находится интересующий его товар. При этом пользователь не имеет особых предпочтений относительно места. Как правило, транзакционные запросы связаны с желанием пользователя приобрести товар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р купить костюмы олимпийской сборной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download.yandex.ru/company/yandex_search_autumn_2008_ru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Прямоугольник 3"/>
          <p:cNvSpPr/>
          <p:nvPr/>
        </p:nvSpPr>
        <p:spPr>
          <a:xfrm>
            <a:off x="1500120" y="2143080"/>
            <a:ext cx="62150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00"/>
                </a:solidFill>
                <a:latin typeface="Tahoma"/>
              </a:rPr>
              <a:t>SE</a:t>
            </a:r>
            <a:r>
              <a:rPr b="1" lang="en-US" sz="8800" spc="-1" strike="noStrike">
                <a:solidFill>
                  <a:srgbClr val="111111"/>
                </a:solidFill>
                <a:latin typeface="Tahoma"/>
              </a:rPr>
              <a:t>spid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1"/>
                </a:solidFill>
                <a:latin typeface="Tahoma"/>
              </a:rPr>
              <a:t>Определись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с</a:t>
            </a:r>
            <a:r>
              <a:rPr b="1" lang="ru-RU" sz="3200" spc="-1" strike="noStrike">
                <a:solidFill>
                  <a:srgbClr val="111111"/>
                </a:solidFill>
                <a:latin typeface="Tahoma"/>
              </a:rPr>
              <a:t> позиц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3" descr="splash"/>
          <p:cNvPicPr/>
          <p:nvPr/>
        </p:nvPicPr>
        <p:blipFill>
          <a:blip r:embed="rId1"/>
          <a:stretch/>
        </p:blipFill>
        <p:spPr>
          <a:xfrm>
            <a:off x="74520" y="404640"/>
            <a:ext cx="242568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7"/>
          <p:cNvSpPr/>
          <p:nvPr/>
        </p:nvSpPr>
        <p:spPr>
          <a:xfrm>
            <a:off x="3456000" y="981000"/>
            <a:ext cx="24480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8"/>
          <p:cNvSpPr/>
          <p:nvPr/>
        </p:nvSpPr>
        <p:spPr>
          <a:xfrm>
            <a:off x="3419640" y="2567160"/>
            <a:ext cx="2520720" cy="13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верка позиц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айта в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оисковой выдач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9"/>
          <p:cNvSpPr/>
          <p:nvPr/>
        </p:nvSpPr>
        <p:spPr>
          <a:xfrm>
            <a:off x="2197080" y="1628640"/>
            <a:ext cx="1079640" cy="201636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52800 h 2016360"/>
              <a:gd name="textAreaBottom" fmla="*/ 146196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0"/>
          <p:cNvSpPr/>
          <p:nvPr/>
        </p:nvSpPr>
        <p:spPr>
          <a:xfrm flipV="1">
            <a:off x="6084720" y="1484280"/>
            <a:ext cx="1079640" cy="194472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40200 h 1944720"/>
              <a:gd name="textAreaBottom" fmla="*/ 14101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1"/>
          <p:cNvSpPr/>
          <p:nvPr/>
        </p:nvSpPr>
        <p:spPr>
          <a:xfrm>
            <a:off x="1258920" y="4797360"/>
            <a:ext cx="208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б-серви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2"/>
          <p:cNvSpPr/>
          <p:nvPr/>
        </p:nvSpPr>
        <p:spPr>
          <a:xfrm>
            <a:off x="6083280" y="4797360"/>
            <a:ext cx="208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3"/>
          <p:cNvSpPr/>
          <p:nvPr/>
        </p:nvSpPr>
        <p:spPr>
          <a:xfrm rot="2700000">
            <a:off x="2770560" y="3933000"/>
            <a:ext cx="504720" cy="792360"/>
          </a:xfrm>
          <a:prstGeom prst="downArrow">
            <a:avLst>
              <a:gd name="adj1" fmla="val 50000"/>
              <a:gd name="adj2" fmla="val 3924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4"/>
          <p:cNvSpPr/>
          <p:nvPr/>
        </p:nvSpPr>
        <p:spPr>
          <a:xfrm rot="18900000">
            <a:off x="6084720" y="3933360"/>
            <a:ext cx="505080" cy="792360"/>
          </a:xfrm>
          <a:prstGeom prst="downArrow">
            <a:avLst>
              <a:gd name="adj1" fmla="val 50000"/>
              <a:gd name="adj2" fmla="val 3922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928800" y="642960"/>
          <a:ext cx="7572240" cy="5121360"/>
        </p:xfrm>
        <a:graphic>
          <a:graphicData uri="http://schemas.openxmlformats.org/drawingml/2006/table">
            <a:tbl>
              <a:tblPr/>
              <a:tblGrid>
                <a:gridCol w="2523960"/>
                <a:gridCol w="2524320"/>
                <a:gridCol w="25239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еб-сервис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окальные при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б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аузер для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а устан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 по траф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и настрой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альная настройка оп каждому проек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обство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словлено тем, что веб-сервисы ограничены возможностями брауз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SE</a:t>
            </a:r>
            <a:r>
              <a:rPr b="1" lang="en-US" sz="4400" spc="-1" strike="noStrike">
                <a:solidFill>
                  <a:srgbClr val="10253f"/>
                </a:solidFill>
                <a:latin typeface="Tahoma"/>
              </a:rPr>
              <a:t>spider</a:t>
            </a:r>
            <a:r>
              <a:rPr b="1" lang="en-US" sz="4400" spc="-1" strike="noStrike">
                <a:solidFill>
                  <a:srgbClr val="95b3d7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95b3d7"/>
                </a:solidFill>
                <a:latin typeface="Tahoma"/>
              </a:rPr>
              <a:t>возможности</a:t>
            </a:r>
            <a:r>
              <a:rPr b="0" lang="en-US" sz="4400" spc="-1" strike="noStrike">
                <a:solidFill>
                  <a:srgbClr val="95b3d7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78920" y="1285560"/>
            <a:ext cx="8821800" cy="409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а работает с 9-ю поисковыми системами. В их числе: Google.ru, Yandex.ru, Rambler.ru, Mail.ru, Google.com, Google.com.ua, Google.lv, Yahoo.com, Live.c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алгоритма поиска позиц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языка интерфейса (английский, русский, латышский, украински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ть возможность использовать prox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ход кап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ь импорта проектов из semonitor и Site-Audi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самых релевантных и количества страниц на сайте по заданым ключевым словам (фраза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рка данных по сайту: Google Pr, Yandex тИЦ, Число страниц в индексе Google, Число страниц в индекске Yandex, наличие в каталоге Yande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Интерфей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9" descr="main_window"/>
          <p:cNvPicPr/>
          <p:nvPr/>
        </p:nvPicPr>
        <p:blipFill>
          <a:blip r:embed="rId1"/>
          <a:stretch/>
        </p:blipFill>
        <p:spPr>
          <a:xfrm>
            <a:off x="684360" y="1773360"/>
            <a:ext cx="7962840" cy="3476520"/>
          </a:xfrm>
          <a:prstGeom prst="rect">
            <a:avLst/>
          </a:prstGeom>
          <a:ln w="0">
            <a:noFill/>
          </a:ln>
        </p:spPr>
      </p:pic>
      <p:sp>
        <p:nvSpPr>
          <p:cNvPr id="632" name="AutoShape 10"/>
          <p:cNvSpPr/>
          <p:nvPr/>
        </p:nvSpPr>
        <p:spPr>
          <a:xfrm>
            <a:off x="216000" y="1484280"/>
            <a:ext cx="187164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но выб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ючев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11"/>
          <p:cNvSpPr/>
          <p:nvPr/>
        </p:nvSpPr>
        <p:spPr>
          <a:xfrm rot="18900000">
            <a:off x="2197080" y="2492280"/>
            <a:ext cx="503280" cy="647640"/>
          </a:xfrm>
          <a:prstGeom prst="downArrow">
            <a:avLst>
              <a:gd name="adj1" fmla="val 50000"/>
              <a:gd name="adj2" fmla="val 3217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14"/>
          <p:cNvSpPr/>
          <p:nvPr/>
        </p:nvSpPr>
        <p:spPr>
          <a:xfrm>
            <a:off x="2592360" y="1484280"/>
            <a:ext cx="187164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но выб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ируе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5"/>
          <p:cNvSpPr/>
          <p:nvPr/>
        </p:nvSpPr>
        <p:spPr>
          <a:xfrm rot="18900000">
            <a:off x="4573440" y="2492280"/>
            <a:ext cx="503280" cy="647640"/>
          </a:xfrm>
          <a:prstGeom prst="downArrow">
            <a:avLst>
              <a:gd name="adj1" fmla="val 50000"/>
              <a:gd name="adj2" fmla="val 3217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18"/>
          <p:cNvSpPr/>
          <p:nvPr/>
        </p:nvSpPr>
        <p:spPr>
          <a:xfrm>
            <a:off x="5111640" y="1484280"/>
            <a:ext cx="187164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но выб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иск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9"/>
          <p:cNvSpPr/>
          <p:nvPr/>
        </p:nvSpPr>
        <p:spPr>
          <a:xfrm rot="18900000">
            <a:off x="7093080" y="2492280"/>
            <a:ext cx="503280" cy="647640"/>
          </a:xfrm>
          <a:prstGeom prst="downArrow">
            <a:avLst>
              <a:gd name="adj1" fmla="val 50000"/>
              <a:gd name="adj2" fmla="val 3217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"/>
          <p:cNvSpPr/>
          <p:nvPr/>
        </p:nvSpPr>
        <p:spPr>
          <a:xfrm>
            <a:off x="500040" y="500040"/>
            <a:ext cx="80726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Терми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857160" y="2286000"/>
            <a:ext cx="77184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857160" y="1428840"/>
            <a:ext cx="7718400" cy="43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Документ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страница в интернете, имеющая уникальный адрес (url)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GB" sz="1800" spc="-1" strike="noStrike">
                <a:solidFill>
                  <a:srgbClr val="ccccff"/>
                </a:solidFill>
                <a:latin typeface="Calibri"/>
              </a:rPr>
              <a:t>ссылки с якорями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#) не в сч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Ссылка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прямая ссылка вида &lt;a href=""&gt;текст или картинка&lt;/a&gt;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нажав на которую пользователь переходит на указанный адр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Анкор (anchor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– текст ссы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Донор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документ, </a:t>
            </a:r>
            <a:r>
              <a:rPr b="0" lang="en-GB" sz="1800" spc="-1" strike="noStrike">
                <a:solidFill>
                  <a:srgbClr val="ccccff"/>
                </a:solidFill>
                <a:latin typeface="Calibri"/>
              </a:rPr>
              <a:t>на котором стоит ссылка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на продвигаемый доку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Акцептор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документ, на который ведет ссылка с дон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Стоп-слова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– служебные часть речи: союзы и предл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Коллекция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совокупность всех документов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зе данных 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БД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дек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поисковой системы 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ПС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Апдейт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обновление информации в базе данных П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Дэнс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процесс изменения выдачи, видимый пользова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Кэш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сохраненная страница выдачи по определенному запросу.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Окно анализа поз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5" descr="analyse_window"/>
          <p:cNvPicPr/>
          <p:nvPr/>
        </p:nvPicPr>
        <p:blipFill>
          <a:blip r:embed="rId1"/>
          <a:stretch/>
        </p:blipFill>
        <p:spPr>
          <a:xfrm>
            <a:off x="785880" y="1857240"/>
            <a:ext cx="7559640" cy="3479760"/>
          </a:xfrm>
          <a:prstGeom prst="rect">
            <a:avLst/>
          </a:prstGeom>
          <a:ln w="0">
            <a:noFill/>
          </a:ln>
        </p:spPr>
      </p:pic>
      <p:sp>
        <p:nvSpPr>
          <p:cNvPr id="640" name="AutoShape 12"/>
          <p:cNvSpPr/>
          <p:nvPr/>
        </p:nvSpPr>
        <p:spPr>
          <a:xfrm>
            <a:off x="1214280" y="3214800"/>
            <a:ext cx="13147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Измен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3"/>
          <p:cNvSpPr/>
          <p:nvPr/>
        </p:nvSpPr>
        <p:spPr>
          <a:xfrm>
            <a:off x="2643120" y="3286080"/>
            <a:ext cx="720720" cy="214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14"/>
          <p:cNvSpPr/>
          <p:nvPr/>
        </p:nvSpPr>
        <p:spPr>
          <a:xfrm rot="6877800">
            <a:off x="1024200" y="386568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21"/>
          <p:cNvSpPr/>
          <p:nvPr/>
        </p:nvSpPr>
        <p:spPr>
          <a:xfrm>
            <a:off x="4429080" y="1214280"/>
            <a:ext cx="14288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Лучшая позиц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2"/>
          <p:cNvSpPr/>
          <p:nvPr/>
        </p:nvSpPr>
        <p:spPr>
          <a:xfrm rot="2879400">
            <a:off x="5785920" y="1823760"/>
            <a:ext cx="1697040" cy="560520"/>
          </a:xfrm>
          <a:prstGeom prst="rightArrow">
            <a:avLst>
              <a:gd name="adj1" fmla="val 48435"/>
              <a:gd name="adj2" fmla="val 6310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23"/>
          <p:cNvSpPr/>
          <p:nvPr/>
        </p:nvSpPr>
        <p:spPr>
          <a:xfrm rot="16384200">
            <a:off x="3483000" y="4398480"/>
            <a:ext cx="779400" cy="131760"/>
          </a:xfrm>
          <a:prstGeom prst="rightArrow">
            <a:avLst>
              <a:gd name="adj1" fmla="val 46565"/>
              <a:gd name="adj2" fmla="val 5712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6"/>
          <p:cNvSpPr/>
          <p:nvPr/>
        </p:nvSpPr>
        <p:spPr>
          <a:xfrm>
            <a:off x="7513560" y="3357720"/>
            <a:ext cx="1630440" cy="49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Текущая позиц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7"/>
          <p:cNvSpPr/>
          <p:nvPr/>
        </p:nvSpPr>
        <p:spPr>
          <a:xfrm rot="19176000">
            <a:off x="7137360" y="3133440"/>
            <a:ext cx="306360" cy="312840"/>
          </a:xfrm>
          <a:prstGeom prst="upArrow">
            <a:avLst>
              <a:gd name="adj1" fmla="val 39981"/>
              <a:gd name="adj2" fmla="val 55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9"/>
          <p:cNvSpPr/>
          <p:nvPr/>
        </p:nvSpPr>
        <p:spPr>
          <a:xfrm>
            <a:off x="2571840" y="4929120"/>
            <a:ext cx="2071440" cy="85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Красный цвет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обозначает, чт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текущая позиц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самая высокая з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всю историю анализ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30"/>
          <p:cNvSpPr/>
          <p:nvPr/>
        </p:nvSpPr>
        <p:spPr>
          <a:xfrm rot="20255400">
            <a:off x="7297200" y="4464000"/>
            <a:ext cx="281160" cy="48744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33"/>
          <p:cNvSpPr/>
          <p:nvPr/>
        </p:nvSpPr>
        <p:spPr>
          <a:xfrm>
            <a:off x="714240" y="1071720"/>
            <a:ext cx="1773360" cy="36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Какая страниц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анализируе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35"/>
          <p:cNvSpPr/>
          <p:nvPr/>
        </p:nvSpPr>
        <p:spPr>
          <a:xfrm>
            <a:off x="6572160" y="5000760"/>
            <a:ext cx="17179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Сколько страниц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буд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проанализирова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Стрелка вниз 18"/>
          <p:cNvSpPr/>
          <p:nvPr/>
        </p:nvSpPr>
        <p:spPr>
          <a:xfrm>
            <a:off x="1214280" y="1571760"/>
            <a:ext cx="214560" cy="6429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Основные настрой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Arial"/>
              </a:rPr>
              <a:t>Настройки анализа поисковой системы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Picture 5" descr=""/>
          <p:cNvPicPr/>
          <p:nvPr/>
        </p:nvPicPr>
        <p:blipFill>
          <a:blip r:embed="rId1"/>
          <a:stretch/>
        </p:blipFill>
        <p:spPr>
          <a:xfrm>
            <a:off x="2500200" y="2286000"/>
            <a:ext cx="40766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Экспорт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Picture 4" descr="rise"/>
          <p:cNvPicPr/>
          <p:nvPr/>
        </p:nvPicPr>
        <p:blipFill>
          <a:blip r:embed="rId1"/>
          <a:srcRect l="1090" t="29031" r="1208" b="17385"/>
          <a:stretch/>
        </p:blipFill>
        <p:spPr>
          <a:xfrm>
            <a:off x="1297080" y="1700280"/>
            <a:ext cx="6551640" cy="3456000"/>
          </a:xfrm>
          <a:prstGeom prst="rect">
            <a:avLst/>
          </a:prstGeom>
          <a:ln w="0">
            <a:noFill/>
          </a:ln>
        </p:spPr>
      </p:pic>
      <p:sp>
        <p:nvSpPr>
          <p:cNvPr id="658" name="AutoShape 5"/>
          <p:cNvSpPr/>
          <p:nvPr/>
        </p:nvSpPr>
        <p:spPr>
          <a:xfrm>
            <a:off x="7236000" y="5516640"/>
            <a:ext cx="180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6"/>
          <p:cNvSpPr/>
          <p:nvPr/>
        </p:nvSpPr>
        <p:spPr>
          <a:xfrm rot="18939600">
            <a:off x="6803640" y="5013360"/>
            <a:ext cx="432000" cy="574560"/>
          </a:xfrm>
          <a:prstGeom prst="upArrow">
            <a:avLst>
              <a:gd name="adj1" fmla="val 50000"/>
              <a:gd name="adj2" fmla="val 332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Определение основных параметров сай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4" descr="params"/>
          <p:cNvPicPr/>
          <p:nvPr/>
        </p:nvPicPr>
        <p:blipFill>
          <a:blip r:embed="rId1"/>
          <a:srcRect l="788" t="0" r="0" b="25404"/>
          <a:stretch/>
        </p:blipFill>
        <p:spPr>
          <a:xfrm>
            <a:off x="1403280" y="2071800"/>
            <a:ext cx="63882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Преиму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57120" y="121392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Программный продукт распространяется совершенно бесплат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Регулярные обно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Возможность анализировать региональную выдачу Яндек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Стабильность – все настройки и проекты сохраняются при обновлении програм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Сбор поз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5920" y="1356840"/>
            <a:ext cx="785808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Сервис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www.seumka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www.siteposition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Sespider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semonitor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yazzle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Полезные серви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5920" y="1285560"/>
            <a:ext cx="785808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Сервисы, программы, бар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www.tekto.biz/sick/ns.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www.developing.ru/seo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www.yazzle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www.whois-search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Рисунок 3" descr="11883699_faq.gif"/>
          <p:cNvPicPr/>
          <p:nvPr/>
        </p:nvPicPr>
        <p:blipFill>
          <a:blip r:embed="rId1"/>
          <a:stretch/>
        </p:blipFill>
        <p:spPr>
          <a:xfrm>
            <a:off x="3071880" y="15858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669" name="TextBox 1"/>
          <p:cNvSpPr/>
          <p:nvPr/>
        </p:nvSpPr>
        <p:spPr>
          <a:xfrm>
            <a:off x="500040" y="1492200"/>
            <a:ext cx="5857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Calibri"/>
              </a:rPr>
              <a:t>ВОПР</a:t>
            </a:r>
            <a:r>
              <a:rPr b="1" lang="en-US" sz="6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6800" spc="-1" strike="noStrike">
                <a:solidFill>
                  <a:srgbClr val="000000"/>
                </a:solidFill>
                <a:latin typeface="Calibri"/>
              </a:rPr>
              <a:t>СЫ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2"/>
          <a:stretch/>
        </p:blipFill>
        <p:spPr>
          <a:xfrm>
            <a:off x="5786280" y="3143160"/>
            <a:ext cx="3048120" cy="3019680"/>
          </a:xfrm>
          <a:prstGeom prst="rect">
            <a:avLst/>
          </a:prstGeom>
          <a:ln w="0">
            <a:noFill/>
          </a:ln>
        </p:spPr>
      </p:pic>
      <p:sp>
        <p:nvSpPr>
          <p:cNvPr id="671" name="TextBox 4"/>
          <p:cNvSpPr/>
          <p:nvPr/>
        </p:nvSpPr>
        <p:spPr>
          <a:xfrm>
            <a:off x="2071800" y="460044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просы – это тайный путь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Box 1"/>
          <p:cNvSpPr/>
          <p:nvPr/>
        </p:nvSpPr>
        <p:spPr>
          <a:xfrm>
            <a:off x="357120" y="1214280"/>
            <a:ext cx="857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10"/>
          <p:cNvSpPr/>
          <p:nvPr/>
        </p:nvSpPr>
        <p:spPr>
          <a:xfrm>
            <a:off x="6572520" y="41580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academir.ru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Рисунок 1" descr="(495)  649-88-76 "/>
          <p:cNvPicPr/>
          <p:nvPr/>
        </p:nvPicPr>
        <p:blipFill>
          <a:blip r:embed="rId1"/>
          <a:stretch/>
        </p:blipFill>
        <p:spPr>
          <a:xfrm>
            <a:off x="714240" y="428760"/>
            <a:ext cx="1427400" cy="336240"/>
          </a:xfrm>
          <a:prstGeom prst="rect">
            <a:avLst/>
          </a:prstGeom>
          <a:ln w="0">
            <a:noFill/>
          </a:ln>
        </p:spPr>
      </p:pic>
      <p:sp>
        <p:nvSpPr>
          <p:cNvPr id="675" name="TextBox 4"/>
          <p:cNvSpPr/>
          <p:nvPr/>
        </p:nvSpPr>
        <p:spPr>
          <a:xfrm>
            <a:off x="928800" y="250020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Рисунок 1" descr="index2.jpg"/>
          <p:cNvPicPr/>
          <p:nvPr/>
        </p:nvPicPr>
        <p:blipFill>
          <a:blip r:embed="rId2"/>
          <a:stretch/>
        </p:blipFill>
        <p:spPr>
          <a:xfrm>
            <a:off x="3143160" y="428760"/>
            <a:ext cx="3100320" cy="227484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149"/>
          <p:cNvSpPr/>
          <p:nvPr/>
        </p:nvSpPr>
        <p:spPr>
          <a:xfrm>
            <a:off x="0" y="4994280"/>
            <a:ext cx="8858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еститель начальни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O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дела в компании «Сео Дрим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0" y="43578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ниамин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ИСЕ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1"/>
          <p:cNvSpPr/>
          <p:nvPr/>
        </p:nvSpPr>
        <p:spPr>
          <a:xfrm>
            <a:off x="642960" y="57168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900000" y="1692360"/>
            <a:ext cx="76755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Прямой пои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Последовательный перебор всех имеющихся документов колле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нет искаж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очень дол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"/>
          <p:cNvSpPr/>
          <p:nvPr/>
        </p:nvSpPr>
        <p:spPr>
          <a:xfrm>
            <a:off x="642960" y="57168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900000" y="1692360"/>
            <a:ext cx="767556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Прямой пои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Последовательный перебор всех имеющихся документов колле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нет искаж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очень дол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87"/>
              </a:spcBef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Инвертированные индек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Инвертированный (обратный) индекс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файл, содержащий список слов документа в алфавитном порядке с указанием позиций и других параметров вхождения этого слова в документ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быстродейств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поте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1"/>
          <p:cNvSpPr/>
          <p:nvPr/>
        </p:nvSpPr>
        <p:spPr>
          <a:xfrm>
            <a:off x="642960" y="57168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900000" y="1692360"/>
            <a:ext cx="767556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Прямой пои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Последовательный перебор всех имеющихся документов колле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нет искаж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очень дол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87"/>
              </a:spcBef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4d1"/>
                </a:solidFill>
                <a:latin typeface="Calibri"/>
              </a:rPr>
              <a:t>Инвертированные индек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Инвертированный (обратный) индекс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файл, содержащий список слов документа в алфавитном порядке с указанием позиций и других параметров вхождения этого слова в документ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быстродейств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еря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2" name="AutoShape 5"/>
          <p:cNvSpPr/>
          <p:nvPr/>
        </p:nvSpPr>
        <p:spPr>
          <a:xfrm>
            <a:off x="561960" y="3357720"/>
            <a:ext cx="21420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1"/>
          <p:cNvSpPr/>
          <p:nvPr/>
        </p:nvSpPr>
        <p:spPr>
          <a:xfrm>
            <a:off x="642960" y="14292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"/>
          <p:cNvSpPr/>
          <p:nvPr/>
        </p:nvSpPr>
        <p:spPr>
          <a:xfrm>
            <a:off x="642960" y="785880"/>
            <a:ext cx="8143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 обратного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индекс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– глоссарий (алфавитно-предметный указатель)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857160" y="1143000"/>
            <a:ext cx="771840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двокат, защитник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аво на помощь адвоката: ст. 48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право подозреваемого, обвиняемого на защиту: ст. 48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кты органов в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кты Президента РФ: ст. 90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акты, применяемые при разрешении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споров: ст. 15.4, ст. 76.5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действие актов СССР и РСФСР: часть II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обжалование в суд актов органов власти: ст. 46.2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обратная сила нормативных актов: ст. 54, ст. 57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опубликование актов министерств, ведомств: ст. 15.3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опубликование федеральных законов: ст. 15.3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подготовка законов: ст. 104.3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применение неопубликованных нормативных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правовых актов: ст. 15.3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приостановление актов субъекта РФ: ст. 85.2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толкование нормативных актов: ст. 125.5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мнистия и помиловани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милование: ст. 50.3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рбитражный суд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ысший Арбитражный Суд: ст. 127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назначение судей: ст. 128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стаж юридический для кандидатов в судьи: ст. 119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рест. Заключение под стражу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рест: ст. 22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сроки содержания под стражей: ст. 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ttp://www.kremlin.ru/articles/alfabet01.s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1"/>
          <p:cNvSpPr/>
          <p:nvPr/>
        </p:nvSpPr>
        <p:spPr>
          <a:xfrm>
            <a:off x="642960" y="42876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143000" y="1500120"/>
            <a:ext cx="3500280" cy="39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Докуме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соват был Ваня бедный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 он позднею пор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сь в поту, от страха бледны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 кладбище шел дом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дный Ваня еле д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тыкаясь, чуть бред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могилам; вдруг он сл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-то кость, ворча, грызет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ня стал; - шагнуть не мож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же! думает бедняк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верно кости глож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огубый вурдал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6"/>
          <p:cNvSpPr/>
          <p:nvPr/>
        </p:nvSpPr>
        <p:spPr>
          <a:xfrm>
            <a:off x="4786200" y="1928880"/>
            <a:ext cx="321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е! малый я не сильны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ъест упырь меня совсе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ам земли могиль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с молитвою не съем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же? вместо вурдалака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ы представьте Вани злость!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мноте пред ним соба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могиле гложет 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1"/>
          <p:cNvSpPr/>
          <p:nvPr/>
        </p:nvSpPr>
        <p:spPr>
          <a:xfrm>
            <a:off x="642960" y="42876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1143000" y="1500120"/>
            <a:ext cx="3500280" cy="39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Докуме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соват был Ваня бедный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 он позднею пор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сь в поту, от страха бледны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 кладбище шел дом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дный Ваня еле д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тыкаясь, чуть бред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могилам; вдруг он сл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-то кость, ворча, грызет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ня стал; - шагнуть не мож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же! думает бедняк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верно кости глож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огубый вурдал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4786200" y="1928880"/>
            <a:ext cx="321480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Горе! малый я не сильны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Съест упырь меня совсе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Если сам земли могиль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Я с молитвою не съем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Что же? вместо вурдалака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(Вы представьте Вани злость!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В темноте пред ним соба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На могиле гложет 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MS Gothic"/>
              </a:rPr>
              <a:t>Обратный индек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MS Gothic"/>
              </a:rPr>
              <a:t>Трусоват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MS Gothic"/>
              </a:rPr>
              <a:t>(1,1,1)</a:t>
            </a:r>
            <a:r>
              <a:rPr b="0" i="1" lang="ar-SA" sz="1600" spc="-1" strike="noStrike">
                <a:solidFill>
                  <a:srgbClr val="000000"/>
                </a:solidFill>
                <a:latin typeface="Calibri"/>
                <a:ea typeface="MS Gothic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9:15:22Z</dcterms:created>
  <dc:creator>Константин</dc:creator>
  <dc:description/>
  <dc:language>en-US</dc:language>
  <cp:lastModifiedBy>y.novikov</cp:lastModifiedBy>
  <dcterms:modified xsi:type="dcterms:W3CDTF">2009-08-25T06:21:31Z</dcterms:modified>
  <cp:revision>135</cp:revision>
  <dc:subject/>
  <dc:title>Слайд 1</dc:title>
</cp:coreProperties>
</file>