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52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2A25-9017-4F3D-BD05-13E3AD42BB5F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844F-30A1-4769-9D96-A7D8A8DFD86D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1A7A-79EA-4DF7-9320-AF492C00550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D7DC-B6BA-4814-9849-9E35AB33237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F723-85D4-4BD7-AE79-24AEAA79293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6A1E-BC14-487E-9EEE-B801E831F08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1D9A-022A-4242-A501-DCC59672BB1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D873-766B-43C4-BB5E-A944D5D215D9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8B7-4EBB-4BB5-A7C2-56C9C8D44398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F85-4D06-47EE-8BC7-42AFB9C5C5C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3550-099A-4477-B03B-46BE1C59A2B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818D-634F-40CC-9E09-473D1AEB395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785-C3B3-446B-BC53-03A9174B828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84200"/>
                <a:tab algn="l" pos="971640"/>
                <a:tab algn="l" pos="1457280"/>
                <a:tab algn="l" pos="1944720"/>
                <a:tab algn="l" pos="2430360"/>
                <a:tab algn="l" pos="2917800"/>
                <a:tab algn="l" pos="3405240"/>
                <a:tab algn="l" pos="3890880"/>
                <a:tab algn="l" pos="4378320"/>
                <a:tab algn="l" pos="4863960"/>
                <a:tab algn="l" pos="5351400"/>
                <a:tab algn="l" pos="5838840"/>
                <a:tab algn="l" pos="6324480"/>
                <a:tab algn="l" pos="6811920"/>
                <a:tab algn="l" pos="7297560"/>
                <a:tab algn="l" pos="7785000"/>
                <a:tab algn="l" pos="8272440"/>
                <a:tab algn="l" pos="8758080"/>
                <a:tab algn="l" pos="9245520"/>
                <a:tab algn="l" pos="9731520"/>
                <a:tab algn="l" pos="10058400"/>
              </a:tabLst>
            </a:pPr>
            <a:fld id="{835C0CFC-D1B0-481D-8666-822A932F3A10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3137-1248-4CBD-BA56-FBBDBBCDDDF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E149-1CE1-4568-BB65-D6A8A088036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713-E554-47F0-8280-5F48C8F08CBF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4699-3C08-48B5-BA69-F8DCF13A78C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74DC-E664-4BD1-A502-46EA275E8205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135E-49E4-4C90-AC25-072EB78BF57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977E-CBB3-439C-9B34-F329DE93F6A7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5240" cy="38372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Верхний колонтитул 3"/>
          <p:cNvSpPr/>
          <p:nvPr/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Академия Интернет Реклам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4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01EB-C911-4318-BE27-313D2B09158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96D2-8B6F-48DF-81DC-2F812A2D082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E669-7E18-4AD5-BA0D-791A90F8DF42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4BB7-9C04-4A2F-A60F-B7812EF2372B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E83A-EDDA-45A6-A6F4-7D6C87A249A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32E9-9EF3-444A-A5B8-77D9CC44CD61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8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627D-0A79-400A-BC3E-191AD4B32163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1"/>
          <p:cNvSpPr/>
          <p:nvPr/>
        </p:nvSpPr>
        <p:spPr>
          <a:xfrm>
            <a:off x="1184400" y="768240"/>
            <a:ext cx="473364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18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8A6-2965-49B8-9050-269B7D25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D28-3144-4659-9703-0C3F2CD2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197B1-7B96-488F-8140-2C3E7999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9A792-4004-477A-823A-CF6FA223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C3484-6FBB-495D-A10A-E6F2CED4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2D3AF-C688-4FD3-B9ED-7A13940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214D5-B8CE-4BD6-82B8-F9F02E60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8D3F40-562B-4057-B525-149C9962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3B8C3-4099-43FF-AB7E-7B760F46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82FDE-9D89-42A2-A596-C978F9EDC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D60B-2184-4D52-9078-26796880A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E2836-8C6D-4CD1-8AD9-EAF47D03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506-39AF-408A-9449-E0D74B41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02FB2-EC5E-4F03-90C0-454F7E67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F7AE6-3037-4803-9394-B9BCEAB0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B35DC-6D26-498D-8A48-1A9997C9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6E651-B688-4733-8055-8B5E6A30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5A740-32BD-469F-8EB1-50D919FA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43A273-DF62-4E4A-9031-C93BC74B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A3CD-EFB2-4B35-B0B6-F94CF15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31B4D-DDFA-454C-A8C5-8C30FAF8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079BFB-FF8A-4D9B-B131-EEDB5E51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1EFE2-4E56-4E46-B819-AAA71E04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F79-D925-459F-A2CD-8F22981E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9AD459-5AEB-4BDA-A0B2-2D25DDD5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95DF2-13DD-489B-A2DF-891C7083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74C3A-DD78-42A4-AF88-C9A02E32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1F8D-17B3-413C-82E4-12667F5F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D48C0-EBCC-4899-B347-BDB3EB4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F9BC2-DEC6-44F8-94E0-DA876B5A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EDFAE-F88E-4095-BCA0-E65EC6C6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6DD91-81AE-45B6-87C6-F149C93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FA3F7-0BB4-4231-B5A9-950D442F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65D9E-2D99-4C7F-9C95-6BDEA82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3A3-1876-4849-ACCB-8F5D101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3918-217B-415C-8339-1441E99F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4974D-11F4-4D23-A315-192422316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41ABB-7783-405A-8F4F-0062C1E5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5B7CC-6796-4CF8-B8BC-6EFF0E0A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9BD81-C887-428D-AAF2-1BF61ADC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F626C-E498-400A-B0A3-71530E6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D6AFDA-0C87-451E-80DC-2F3E1E32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3EFAA-1AEC-47C2-AD5C-FCE45D37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E8F68A-E5A4-4C80-B6E8-95E4A44A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2F8EF-4514-4862-AB8A-EE4DF52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4CE5-BD99-43EB-9264-00BD33669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49C17-7F98-4628-9F06-393F224B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CC48D-9C66-4B61-A2C4-2AEE88D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71FA3-9BEE-475F-B1D8-059F7D9F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AF4D8-8151-4698-8AC7-689F9385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5DE3C-B307-450C-8C0C-3D7A2FBC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CDED3-49D7-43BF-AF9A-9748FB5F2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58D92-FE32-45B5-82F6-B15194DB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BCFF5-41DF-4C87-9FDF-87A4C572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76E30-AF23-4600-BF6E-C0759125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98211-9D55-438A-8205-93C6F07D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E162-4E5C-485A-BF92-4092BBE8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5AE6F-D18C-4B59-809E-D08A627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8996A-56BB-4F85-82BE-CD10281B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2CE50-6B90-478E-89FC-28546942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E800D-8997-4DDB-852E-3C215EDE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AF014-CC9F-411F-B475-1F51519B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2BAEAB-54A9-4910-99AF-51CBA1108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31C39-8F2C-4F82-9F0F-472B7495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B3D6-8067-4A62-9AC5-2BEFDE765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7C9-F1F6-4EEF-9A32-63D5E8A3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DCD-0F98-4E96-B2C9-00BAA967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650-7A2D-435F-905D-575AE2F1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B03-DA70-41C6-AC22-5025EED6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ABDA-1688-4D19-AB72-CAC6390B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BAAC-23DB-4042-A3C1-0F3D34EE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FB4B-37BC-44CB-ADC7-6C8659E3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5797B-5F15-4ACA-A884-E5BCE133D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0F72-1DA0-449D-AFF5-45BFF37D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A108-E87D-4A18-AA07-C35BB61F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D636-B017-434C-BB0F-DEFB4A54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398E9-6636-4B20-BA68-AF092A23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A8D5E-826B-42C1-A239-92F6E2D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CEFDD-14E1-47DD-9C77-118C205A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7092-E2BA-4D5A-95BB-AD5B7629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9FCCF-7F36-40A7-951C-FB352C03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360EA-23D6-478A-BDCB-2E000E2F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05A3-47F3-4D10-8F13-F614E0A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43A9-2C48-4710-BB45-7077EA1B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CF24D-51EE-4241-8A5A-A63ABC6D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A45C9-61FE-4801-AA15-439142E46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3EBF2-561B-47C3-8058-6BC4412E6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48C6E-90D4-496E-9799-E9FC4BB8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DB20D-21A8-4436-907E-9789B753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D7BC0-D7FA-4182-AD74-6C5DFD7A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1DB-C8F9-4986-9632-1A21C801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A1679-ACE1-4A1B-9865-D623BF40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8C1D3-E20D-4434-BE07-6348806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26A6D-C127-4882-9C02-5330EC80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0B70B-3DBA-4227-B097-7A8353D2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38CD-7035-48A4-9471-4DC9C206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8B8E-AA6B-4587-8043-C7A5F9CD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92E7-28C7-4F69-9CB6-1A8D3A36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C6CB-B4FB-4EBA-B75C-4B277D94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9A738-F17E-43D5-9866-792EA99B5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6A95-23FE-4D5E-99B9-F131F8E2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DB03-9E60-41BD-A98D-03B053F0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1223-F6ED-441A-8165-EDFCE425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6E0D-1170-4471-8087-62BD4455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02415-A31B-443A-B762-C04FBF91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B45EB-5F7F-4C0C-94D9-BF600B11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D03E3-FFC4-439A-BA2E-A34A5701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EB00-FABB-43BC-8818-5D323EDF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20DF8-329B-4B00-BF70-53A4F76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C085B-C75C-4FCF-BF0D-144AB9CD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0239-B592-4423-868D-EA903036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22BAE-F6FA-4B90-AC03-F507CC41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EA1-187C-498D-BC57-00ACACE9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BF454-4DE2-4EDF-9DC4-276E1578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214ED-C801-4B32-BC2D-55CD4263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432C-723D-4B47-B097-AADB9A59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C0651-CAC6-4B78-A81D-DD38DA32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2D92-4C2B-48D9-B05E-7346DACC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47EE7-7C94-4EE7-A230-5F75E36F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21959-548B-4D9D-B303-079615D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66BA2-5564-4141-BF66-E2E16CE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29C5A-73F4-4160-AAD1-BF9B18FA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02A32-F95F-463E-BB51-0E155EE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C5F-6AC1-45D4-838A-494D5D6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D40CC-4439-4E71-B5EC-3E86CF4D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4295C-A50A-4C9F-8BCB-30FC5FD4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032C2-9897-4616-8600-85719D3A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2F936-1037-4F70-91E4-9E8454A5C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FA89E-E6B9-418D-AE36-E86FCE61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CA886-2AFD-4CCA-89B7-BA8798EE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FBC2-FCF5-4183-8E3C-561B546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8BE0-A39F-40A9-B11D-87C59B23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AF3E-5A08-49EF-B642-B6FD8916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867CD-8EF5-4327-952B-45FCAA8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BE6-C846-43F4-B7BB-009D1AB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97167-5E66-4798-9061-F4C962F2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EC915-20B8-474C-9EA8-A3A5147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F6761-B27A-4A64-A029-B382FB9D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6241D-46E3-42FF-A392-A428E9E6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172E8-C43F-4754-941F-DEDEF1BE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B7988-CE99-4E01-A611-932CA68D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FE296-60BF-41FA-A902-768E04B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9D9A9-669A-42AD-93FB-070874AF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74763-2E17-4884-91CB-A57FEA06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AF921-A7D3-4E48-89CD-689C5B4D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0A36-3817-402E-AE6A-98EA3542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6695B-16BA-4F77-9C97-AD97A7A9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8B2E1-C526-4C1A-9695-BF1ACC0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2FBE8-C05C-404A-9A08-9FC22F5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1686E-27B6-4385-818F-7DA26C4F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67EDA-E5D4-4543-A48A-8C34A3FD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3838-7DB2-4DEC-9BFD-D894591B5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A2B73-7EB8-4999-967F-5D4F9518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CACDA-2E6E-4582-843C-16A48452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D0359-11DF-46AA-AE97-18898E3B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AEEDF-D332-48FD-8F27-8EAC991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5F89-434A-46AA-95D6-9DC15C253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443E-A590-402B-AE49-5E08179576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9B2F-61E8-4B97-99F2-5BDF9A99D6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516A-F880-4FEB-AE3F-01F160F7A3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214B-97C0-4D1F-BEB6-47A59F9A9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BBC-98CA-4F6F-AB40-146D311A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77D-3C2D-4F8B-990E-B9ABE2199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9705-63F9-4DEC-A059-EF42B53A82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3C87-6951-4DCF-8673-5C981A69C5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BFEB-4EF9-4226-84C1-5332573D56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B5B3-6414-4BC5-BBA7-FEAA98F647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7E8-7882-4F77-B5CD-971E05DF2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CC1A-AA2B-4EB9-A9E6-051FC371D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Рисунок 1" descr="index2.jpg"/>
          <p:cNvPicPr/>
          <p:nvPr/>
        </p:nvPicPr>
        <p:blipFill>
          <a:blip r:embed="rId1"/>
          <a:stretch/>
        </p:blipFill>
        <p:spPr>
          <a:xfrm>
            <a:off x="3143160" y="428760"/>
            <a:ext cx="3100320" cy="2274840"/>
          </a:xfrm>
          <a:prstGeom prst="rect">
            <a:avLst/>
          </a:prstGeom>
          <a:ln w="0">
            <a:noFill/>
          </a:ln>
        </p:spPr>
      </p:pic>
      <p:sp>
        <p:nvSpPr>
          <p:cNvPr id="541" name="TextBox 4"/>
          <p:cNvSpPr/>
          <p:nvPr/>
        </p:nvSpPr>
        <p:spPr>
          <a:xfrm>
            <a:off x="0" y="27147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</a:rPr>
              <a:t>КУРСЫ: Основы поисковой оптимиз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Calibri"/>
              </a:rPr>
              <a:t>Часть перв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Группа 10"/>
          <p:cNvGrpSpPr/>
          <p:nvPr/>
        </p:nvGrpSpPr>
        <p:grpSpPr>
          <a:xfrm>
            <a:off x="0" y="4357800"/>
            <a:ext cx="8858160" cy="1582920"/>
            <a:chOff x="0" y="4357800"/>
            <a:chExt cx="8858160" cy="1582920"/>
          </a:xfrm>
        </p:grpSpPr>
        <p:grpSp>
          <p:nvGrpSpPr>
            <p:cNvPr id="543" name="Группа 8"/>
            <p:cNvGrpSpPr/>
            <p:nvPr/>
          </p:nvGrpSpPr>
          <p:grpSpPr>
            <a:xfrm>
              <a:off x="0" y="4357800"/>
              <a:ext cx="8858160" cy="1065240"/>
              <a:chOff x="0" y="4357800"/>
              <a:chExt cx="8858160" cy="1065240"/>
            </a:xfrm>
          </p:grpSpPr>
          <p:sp>
            <p:nvSpPr>
              <p:cNvPr id="544" name="Rectangle 149"/>
              <p:cNvSpPr/>
              <p:nvPr/>
            </p:nvSpPr>
            <p:spPr>
              <a:xfrm>
                <a:off x="0" y="4994280"/>
                <a:ext cx="8858160" cy="42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Заместитель начальника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EO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отдела в компании «Сео Дрим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 algn="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9"/>
              <p:cNvSpPr/>
              <p:nvPr/>
            </p:nvSpPr>
            <p:spPr>
              <a:xfrm>
                <a:off x="0" y="4357800"/>
                <a:ext cx="885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Вениамин</a:t>
                </a:r>
                <a:r>
                  <a:rPr b="0" lang="ru-RU" sz="3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ru-RU" sz="3600" spc="-1" strike="noStrike">
                    <a:solidFill>
                      <a:srgbClr val="000000"/>
                    </a:solidFill>
                    <a:latin typeface="Calibri"/>
                  </a:rPr>
                  <a:t>МОИСЕЕВ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TextBox 3"/>
            <p:cNvSpPr/>
            <p:nvPr/>
          </p:nvSpPr>
          <p:spPr>
            <a:xfrm>
              <a:off x="3429000" y="5572440"/>
              <a:ext cx="21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f81bd"/>
                  </a:solidFill>
                  <a:latin typeface="Calibri"/>
                </a:rPr>
                <a:t>Москва, 2009 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6"/>
          <p:cNvSpPr/>
          <p:nvPr/>
        </p:nvSpPr>
        <p:spPr>
          <a:xfrm>
            <a:off x="4786200" y="1928880"/>
            <a:ext cx="3214800" cy="34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Был (1,1,2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4786200" y="1928880"/>
            <a:ext cx="321480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Был (1,1,2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  <a:ea typeface="MS Gothic"/>
              </a:rPr>
              <a:t>Ваня (1,1,3; 2,1,2; 3,1,1; 5,2,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900000" y="1692360"/>
            <a:ext cx="767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968400" y="1692360"/>
            <a:ext cx="767556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900000" y="1692360"/>
            <a:ext cx="767556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— есть слово — документ найден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2247 млн стра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MS Gothic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6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900000" y="1692360"/>
            <a:ext cx="7675560" cy="31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0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900000" y="1692360"/>
            <a:ext cx="7675560" cy="33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Вероятност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равнивание с набором эталонн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4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Математические модел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900000" y="1692360"/>
            <a:ext cx="7675560" cy="36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— упрощение реальности, в результате которого получается формула, позволяющая считать документы найденными и ранжирова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улевские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есть слово — документ найд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4d1"/>
                </a:solidFill>
                <a:latin typeface="Calibri"/>
              </a:rPr>
              <a:t>Вектор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вес документа = TF * IDF, г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F — частота слова в докуме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DF — редкость слова 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Вероятностные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равнивание с набором эталонных докум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Релевант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тепень отношения к де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98" name="AutoShape 5"/>
          <p:cNvSpPr/>
          <p:nvPr/>
        </p:nvSpPr>
        <p:spPr>
          <a:xfrm>
            <a:off x="561960" y="3465360"/>
            <a:ext cx="21420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Качество по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900000" y="1692360"/>
            <a:ext cx="76755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Математическая модель нуждается в настройке. Асесс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Критерии качества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Точ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доля релевантных документов в выдач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Полнот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доля найденных релевантных документов в общем числе релевантных документов колле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ктуальность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ответствие ссылок в выдаче реальным документам в интер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Поисковые системы сегодня далеки от соверш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Лицензии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900000" y="1692360"/>
            <a:ext cx="767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Общие пункты всех лицензий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"/>
              <p:cNvSpPr txBox="1"/>
              <p:nvPr/>
            </p:nvSpPr>
            <p:spPr>
              <a:xfrm>
                <a:off x="4208400" y="2344680"/>
                <a:ext cx="7164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5" name="Text Box 5"/>
          <p:cNvSpPr/>
          <p:nvPr/>
        </p:nvSpPr>
        <p:spPr>
          <a:xfrm>
            <a:off x="1071720" y="2376360"/>
            <a:ext cx="7500960" cy="26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Запрет на коммерческое использование результатов поиска, их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тиражирование и автоматический доступ к н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тказ от гарантий на содержание сайтов, на точность, полноту и актуальность информации, т.е. на качество по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аво как предоставлять, так и не предоставлять услуги. Соблюдение robots.txt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Гарантия неподкупности результатов по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Декларация борьбы с поисковым спа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литика конфиденци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1"/>
          <p:cNvSpPr/>
          <p:nvPr/>
        </p:nvSpPr>
        <p:spPr>
          <a:xfrm>
            <a:off x="357120" y="571680"/>
            <a:ext cx="8358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Calibri"/>
              </a:rPr>
              <a:t>Основы поисковой оптим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"/>
          <p:cNvSpPr/>
          <p:nvPr/>
        </p:nvSpPr>
        <p:spPr>
          <a:xfrm>
            <a:off x="500040" y="1643040"/>
            <a:ext cx="8001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Курсы SEO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всестороннее изучение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современных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факторов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лияющих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на продвижение сайта в поисковых систе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1643040" y="3143160"/>
            <a:ext cx="521496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ходу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 занятий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ам </a:t>
            </a:r>
            <a:r>
              <a:rPr b="1" i="1" lang="en-GB" sz="1800" spc="-1" strike="noStrike">
                <a:solidFill>
                  <a:srgbClr val="000000"/>
                </a:solidFill>
                <a:latin typeface="Calibri"/>
              </a:rPr>
              <a:t>будут предложе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разминка для у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мо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развенчивание мифо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тветы «я не зна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Индексация доку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"/>
          <p:cNvSpPr/>
          <p:nvPr/>
        </p:nvSpPr>
        <p:spPr>
          <a:xfrm>
            <a:off x="720720" y="1714680"/>
            <a:ext cx="78548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получение документа напрямую и дальнейший переход  по ссылкам (документы прямой видим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Особенности индекс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Инверсный индекс плюс прямой индекс (сохраненная коп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граничения по доменам. Иноземные зоны для Яндек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бъем индексации на одном сайте - домены 2-го и 3-го уров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Частота переиндексаци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Особенности морф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"/>
          <p:cNvSpPr/>
          <p:nvPr/>
        </p:nvSpPr>
        <p:spPr>
          <a:xfrm>
            <a:off x="720720" y="1714680"/>
            <a:ext cx="79200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Морфология поисковых сист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Лингвистическая обработка при индексировании. Слова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лужебные символы не индексируются: точки, пробелы, знаки препи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топ-слова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— полноценные участники ранжир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лово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1"/>
          <p:cNvSpPr/>
          <p:nvPr/>
        </p:nvSpPr>
        <p:spPr>
          <a:xfrm>
            <a:off x="64296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Проблем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"/>
          <p:cNvSpPr/>
          <p:nvPr/>
        </p:nvSpPr>
        <p:spPr>
          <a:xfrm>
            <a:off x="720720" y="1714680"/>
            <a:ext cx="7920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Все эти проблемы сегодня не имеют реш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411280" y="2427120"/>
            <a:ext cx="424836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Размер ин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Дублик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исковый с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Обно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Понимание пользов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1"/>
          <p:cNvSpPr/>
          <p:nvPr/>
        </p:nvSpPr>
        <p:spPr>
          <a:xfrm>
            <a:off x="64440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Виды запросов пользов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642960" y="1500120"/>
            <a:ext cx="80247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ьзовате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росов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= 1-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раниц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,2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 (1997)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2.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 (2008)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дно слов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 сл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и сло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е и более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уществитель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лагательн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2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лагол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-15%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х запросов содержат различные ошибки и искажения. Две трети всех ошибок — орфографические (пропущенные буквы, неправильное написание слов и т.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44400" y="50004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Виды запросов пользова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863640" y="1836720"/>
            <a:ext cx="802476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онные запросы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Тип запросов, когда пользователь хочет получить конкретную информацию, отвечающую на его вопрос. Примеры таких запросов – рефераты по экономике, слова песни ... и т.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вигационные запросы (10%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п запросов, когда пользователь хочет получить указание на место в Сети. Примеры запросов – сайт Дом-2, сайт Путина, одноклассники 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анзакционные запросы (4%) -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ип запросов, когда пользователь хочет получить указание на место, где находится интересующий его товар. При этом пользователь не имеет особых предпочтений относительно места. Как правило, транзакционные запросы связаны с желанием пользователя приобрести това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 купить костюмы олимпийской сборной Росс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2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download.yandex.ru/company/yandex_search_autumn_2008_ru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1500120" y="2143080"/>
            <a:ext cx="621504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9900"/>
                </a:solidFill>
                <a:latin typeface="Tahoma"/>
              </a:rPr>
              <a:t>SE</a:t>
            </a:r>
            <a:r>
              <a:rPr b="1" lang="en-US" sz="8800" spc="-1" strike="noStrike">
                <a:solidFill>
                  <a:srgbClr val="111111"/>
                </a:solidFill>
                <a:latin typeface="Tahoma"/>
              </a:rPr>
              <a:t>spide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11111"/>
                </a:solidFill>
                <a:latin typeface="Tahoma"/>
              </a:rPr>
              <a:t>Определись </a:t>
            </a:r>
            <a:r>
              <a:rPr b="1" lang="ru-RU" sz="32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ru-RU" sz="3200" spc="-1" strike="noStrike">
                <a:solidFill>
                  <a:srgbClr val="111111"/>
                </a:solidFill>
                <a:latin typeface="Tahoma"/>
              </a:rPr>
              <a:t> пози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3" descr="splash"/>
          <p:cNvPicPr/>
          <p:nvPr/>
        </p:nvPicPr>
        <p:blipFill>
          <a:blip r:embed="rId1"/>
          <a:stretch/>
        </p:blipFill>
        <p:spPr>
          <a:xfrm>
            <a:off x="74520" y="404640"/>
            <a:ext cx="242568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7"/>
          <p:cNvSpPr/>
          <p:nvPr/>
        </p:nvSpPr>
        <p:spPr>
          <a:xfrm>
            <a:off x="3456000" y="981000"/>
            <a:ext cx="244800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8"/>
          <p:cNvSpPr/>
          <p:nvPr/>
        </p:nvSpPr>
        <p:spPr>
          <a:xfrm>
            <a:off x="3419640" y="2567160"/>
            <a:ext cx="2520720" cy="13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роверка позиций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айта в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поисковой выдач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9"/>
          <p:cNvSpPr/>
          <p:nvPr/>
        </p:nvSpPr>
        <p:spPr>
          <a:xfrm>
            <a:off x="2197080" y="1628640"/>
            <a:ext cx="1079640" cy="201636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10"/>
          <p:cNvSpPr/>
          <p:nvPr/>
        </p:nvSpPr>
        <p:spPr>
          <a:xfrm flipV="1">
            <a:off x="6084720" y="1484280"/>
            <a:ext cx="1079640" cy="194472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340200 h 1944720"/>
              <a:gd name="textAreaBottom" fmla="*/ 14101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1"/>
          <p:cNvSpPr/>
          <p:nvPr/>
        </p:nvSpPr>
        <p:spPr>
          <a:xfrm>
            <a:off x="1258920" y="4797360"/>
            <a:ext cx="208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б-серви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2"/>
          <p:cNvSpPr/>
          <p:nvPr/>
        </p:nvSpPr>
        <p:spPr>
          <a:xfrm>
            <a:off x="6083280" y="4797360"/>
            <a:ext cx="208908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к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13"/>
          <p:cNvSpPr/>
          <p:nvPr/>
        </p:nvSpPr>
        <p:spPr>
          <a:xfrm rot="2700000">
            <a:off x="2770560" y="3933000"/>
            <a:ext cx="504720" cy="792360"/>
          </a:xfrm>
          <a:prstGeom prst="downArrow">
            <a:avLst>
              <a:gd name="adj1" fmla="val 50000"/>
              <a:gd name="adj2" fmla="val 3924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4"/>
          <p:cNvSpPr/>
          <p:nvPr/>
        </p:nvSpPr>
        <p:spPr>
          <a:xfrm rot="18900000">
            <a:off x="6084720" y="3933360"/>
            <a:ext cx="505080" cy="792360"/>
          </a:xfrm>
          <a:prstGeom prst="downArrow">
            <a:avLst>
              <a:gd name="adj1" fmla="val 50000"/>
              <a:gd name="adj2" fmla="val 3922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928800" y="642960"/>
          <a:ext cx="7572240" cy="512136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еб-сервис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окальные прило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б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аузер для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бходима устан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 по трафи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и настрой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тальная настройка оп каждому проек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добство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о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словлено тем, что веб-сервисы ограничены возможностями брау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ahoma"/>
              </a:rPr>
              <a:t>SE</a:t>
            </a:r>
            <a:r>
              <a:rPr b="1" lang="en-US" sz="4400" spc="-1" strike="noStrike">
                <a:solidFill>
                  <a:srgbClr val="10253f"/>
                </a:solidFill>
                <a:latin typeface="Tahoma"/>
              </a:rPr>
              <a:t>spider</a:t>
            </a:r>
            <a:r>
              <a:rPr b="1" lang="en-US" sz="4400" spc="-1" strike="noStrike">
                <a:solidFill>
                  <a:srgbClr val="95b3d7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95b3d7"/>
                </a:solidFill>
                <a:latin typeface="Tahoma"/>
              </a:rPr>
              <a:t>возможности</a:t>
            </a:r>
            <a:r>
              <a:rPr b="0" lang="en-US" sz="4400" spc="-1" strike="noStrike">
                <a:solidFill>
                  <a:srgbClr val="95b3d7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78920" y="1285560"/>
            <a:ext cx="8821800" cy="409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а работает с 9-ю поисковыми системами. В их числе: Google.ru, Yandex.ru, Rambler.ru, Mail.ru, Google.com, Google.com.ua, Google.lv, Yahoo.com, Live.co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алгоритма поиска пози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 языка интерфейса (английский, русский, латышский, украинский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ь возможность использовать prox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ход кап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можность импорта проектов из semonitor и Site-Audi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ение самых релевантных и количества страниц на сайте по заданым ключевым словам (фраз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ерка данных по сайту: Google Pr, Yandex тИЦ, Число страниц в индексе Google, Число страниц в индекске Yandex, наличие в каталоге Yandex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Интерфей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9" descr="main_window"/>
          <p:cNvPicPr/>
          <p:nvPr/>
        </p:nvPicPr>
        <p:blipFill>
          <a:blip r:embed="rId1"/>
          <a:stretch/>
        </p:blipFill>
        <p:spPr>
          <a:xfrm>
            <a:off x="684360" y="1773360"/>
            <a:ext cx="7962840" cy="3476520"/>
          </a:xfrm>
          <a:prstGeom prst="rect">
            <a:avLst/>
          </a:prstGeom>
          <a:ln w="0">
            <a:noFill/>
          </a:ln>
        </p:spPr>
      </p:pic>
      <p:sp>
        <p:nvSpPr>
          <p:cNvPr id="632" name="AutoShape 10"/>
          <p:cNvSpPr/>
          <p:nvPr/>
        </p:nvSpPr>
        <p:spPr>
          <a:xfrm>
            <a:off x="21600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ючевых с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1"/>
          <p:cNvSpPr/>
          <p:nvPr/>
        </p:nvSpPr>
        <p:spPr>
          <a:xfrm rot="18900000">
            <a:off x="219708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14"/>
          <p:cNvSpPr/>
          <p:nvPr/>
        </p:nvSpPr>
        <p:spPr>
          <a:xfrm>
            <a:off x="259236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ируем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ай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5"/>
          <p:cNvSpPr/>
          <p:nvPr/>
        </p:nvSpPr>
        <p:spPr>
          <a:xfrm rot="18900000">
            <a:off x="457344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18"/>
          <p:cNvSpPr/>
          <p:nvPr/>
        </p:nvSpPr>
        <p:spPr>
          <a:xfrm>
            <a:off x="5111640" y="1484280"/>
            <a:ext cx="187164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кно выб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исков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19"/>
          <p:cNvSpPr/>
          <p:nvPr/>
        </p:nvSpPr>
        <p:spPr>
          <a:xfrm rot="18900000">
            <a:off x="7093080" y="2492280"/>
            <a:ext cx="503280" cy="647640"/>
          </a:xfrm>
          <a:prstGeom prst="downArrow">
            <a:avLst>
              <a:gd name="adj1" fmla="val 50000"/>
              <a:gd name="adj2" fmla="val 3217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500040" y="500040"/>
            <a:ext cx="80726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Терми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"/>
          <p:cNvSpPr/>
          <p:nvPr/>
        </p:nvSpPr>
        <p:spPr>
          <a:xfrm>
            <a:off x="857160" y="2286000"/>
            <a:ext cx="771840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857160" y="1428840"/>
            <a:ext cx="771840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окумен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страница в интернете, имеющая уникальный адрес (url)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GB" sz="1800" spc="-1" strike="noStrike">
                <a:solidFill>
                  <a:srgbClr val="ccccff"/>
                </a:solidFill>
                <a:latin typeface="Calibri"/>
              </a:rPr>
              <a:t>ссылки с якорями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(#) не в сч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Ссылк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- прямая ссылка вида &lt;a href=""&gt;текст или картинка&lt;/a&gt;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ажав на которую пользователь переходит на указанный адр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нкор (anchor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– текст ссыл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онор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документ, </a:t>
            </a:r>
            <a:r>
              <a:rPr b="0" lang="en-GB" sz="1800" spc="-1" strike="noStrike">
                <a:solidFill>
                  <a:srgbClr val="ccccff"/>
                </a:solidFill>
                <a:latin typeface="Calibri"/>
              </a:rPr>
              <a:t>на котором стоит ссылка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а продвигаемый доку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кцептор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документ, на который ведет ссылка с дон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Стоп-слова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– служебные часть речи: союзы и предл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Коллекци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вокупность всех документов 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зе данных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БД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декс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поисковой системы 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ПС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Апдейт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обновление информации в базе данных П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Дэнс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процесс изменения выдачи, видимый пользоват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Кэш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— сохраненная страница выдачи по определенному запросу.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</a:rPr>
              <a:t>Окно анализа поз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5" descr="analyse_window"/>
          <p:cNvPicPr/>
          <p:nvPr/>
        </p:nvPicPr>
        <p:blipFill>
          <a:blip r:embed="rId1"/>
          <a:stretch/>
        </p:blipFill>
        <p:spPr>
          <a:xfrm>
            <a:off x="785880" y="1857240"/>
            <a:ext cx="7559640" cy="3479760"/>
          </a:xfrm>
          <a:prstGeom prst="rect">
            <a:avLst/>
          </a:prstGeom>
          <a:ln w="0">
            <a:noFill/>
          </a:ln>
        </p:spPr>
      </p:pic>
      <p:sp>
        <p:nvSpPr>
          <p:cNvPr id="640" name="AutoShape 12"/>
          <p:cNvSpPr/>
          <p:nvPr/>
        </p:nvSpPr>
        <p:spPr>
          <a:xfrm>
            <a:off x="1214280" y="3214800"/>
            <a:ext cx="131472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Измен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13"/>
          <p:cNvSpPr/>
          <p:nvPr/>
        </p:nvSpPr>
        <p:spPr>
          <a:xfrm>
            <a:off x="2643120" y="3286080"/>
            <a:ext cx="720720" cy="214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14"/>
          <p:cNvSpPr/>
          <p:nvPr/>
        </p:nvSpPr>
        <p:spPr>
          <a:xfrm rot="6877800">
            <a:off x="1024200" y="386568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21"/>
          <p:cNvSpPr/>
          <p:nvPr/>
        </p:nvSpPr>
        <p:spPr>
          <a:xfrm>
            <a:off x="4429080" y="1214280"/>
            <a:ext cx="1428840" cy="428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Лучшая пози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2"/>
          <p:cNvSpPr/>
          <p:nvPr/>
        </p:nvSpPr>
        <p:spPr>
          <a:xfrm rot="2879400">
            <a:off x="5785920" y="1823760"/>
            <a:ext cx="1697040" cy="560520"/>
          </a:xfrm>
          <a:prstGeom prst="rightArrow">
            <a:avLst>
              <a:gd name="adj1" fmla="val 48435"/>
              <a:gd name="adj2" fmla="val 6310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23"/>
          <p:cNvSpPr/>
          <p:nvPr/>
        </p:nvSpPr>
        <p:spPr>
          <a:xfrm rot="16384200">
            <a:off x="3483000" y="4398480"/>
            <a:ext cx="779400" cy="131760"/>
          </a:xfrm>
          <a:prstGeom prst="rightArrow">
            <a:avLst>
              <a:gd name="adj1" fmla="val 46565"/>
              <a:gd name="adj2" fmla="val 5712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6"/>
          <p:cNvSpPr/>
          <p:nvPr/>
        </p:nvSpPr>
        <p:spPr>
          <a:xfrm>
            <a:off x="7513560" y="3357720"/>
            <a:ext cx="1630440" cy="490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Текущая позиц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7"/>
          <p:cNvSpPr/>
          <p:nvPr/>
        </p:nvSpPr>
        <p:spPr>
          <a:xfrm rot="19176000">
            <a:off x="7137360" y="3133440"/>
            <a:ext cx="306360" cy="312840"/>
          </a:xfrm>
          <a:prstGeom prst="upArrow">
            <a:avLst>
              <a:gd name="adj1" fmla="val 39981"/>
              <a:gd name="adj2" fmla="val 55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9"/>
          <p:cNvSpPr/>
          <p:nvPr/>
        </p:nvSpPr>
        <p:spPr>
          <a:xfrm>
            <a:off x="2571840" y="4929120"/>
            <a:ext cx="2071440" cy="851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Красный цвет</a:t>
            </a: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обозначает, чт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текущая позиция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самая высокая з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всю историю анализ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0"/>
          <p:cNvSpPr/>
          <p:nvPr/>
        </p:nvSpPr>
        <p:spPr>
          <a:xfrm rot="20255400">
            <a:off x="7297200" y="4464000"/>
            <a:ext cx="281160" cy="487440"/>
          </a:xfrm>
          <a:prstGeom prst="upArrow">
            <a:avLst>
              <a:gd name="adj1" fmla="val 50000"/>
              <a:gd name="adj2" fmla="val 5006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3"/>
          <p:cNvSpPr/>
          <p:nvPr/>
        </p:nvSpPr>
        <p:spPr>
          <a:xfrm>
            <a:off x="714240" y="1071720"/>
            <a:ext cx="1773360" cy="363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Какая страниц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анализируе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35"/>
          <p:cNvSpPr/>
          <p:nvPr/>
        </p:nvSpPr>
        <p:spPr>
          <a:xfrm>
            <a:off x="6572160" y="5000760"/>
            <a:ext cx="171792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Сколько страниц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буд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"/>
              </a:rPr>
              <a:t>проанализирова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Стрелка вниз 18"/>
          <p:cNvSpPr/>
          <p:nvPr/>
        </p:nvSpPr>
        <p:spPr>
          <a:xfrm>
            <a:off x="1214280" y="157176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Основные настрой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43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ed5"/>
                </a:solidFill>
                <a:latin typeface="Arial"/>
              </a:rPr>
              <a:t>Настройки анализа поисковой системы</a:t>
            </a:r>
            <a:r>
              <a:rPr b="0" lang="ru-RU" sz="2800" spc="-1" strike="noStrike">
                <a:solidFill>
                  <a:srgbClr val="558ed5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Picture 5" descr=""/>
          <p:cNvPicPr/>
          <p:nvPr/>
        </p:nvPicPr>
        <p:blipFill>
          <a:blip r:embed="rId1"/>
          <a:stretch/>
        </p:blipFill>
        <p:spPr>
          <a:xfrm>
            <a:off x="2500200" y="2286000"/>
            <a:ext cx="40766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Экспорт дан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4" descr="rise"/>
          <p:cNvPicPr/>
          <p:nvPr/>
        </p:nvPicPr>
        <p:blipFill>
          <a:blip r:embed="rId1"/>
          <a:srcRect l="1090" t="29031" r="1208" b="17385"/>
          <a:stretch/>
        </p:blipFill>
        <p:spPr>
          <a:xfrm>
            <a:off x="1297080" y="1700280"/>
            <a:ext cx="6551640" cy="3456000"/>
          </a:xfrm>
          <a:prstGeom prst="rect">
            <a:avLst/>
          </a:prstGeom>
          <a:ln w="0">
            <a:noFill/>
          </a:ln>
        </p:spPr>
      </p:pic>
      <p:sp>
        <p:nvSpPr>
          <p:cNvPr id="658" name="AutoShape 5"/>
          <p:cNvSpPr/>
          <p:nvPr/>
        </p:nvSpPr>
        <p:spPr>
          <a:xfrm>
            <a:off x="7236000" y="5516640"/>
            <a:ext cx="180000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6"/>
          <p:cNvSpPr/>
          <p:nvPr/>
        </p:nvSpPr>
        <p:spPr>
          <a:xfrm rot="18939600">
            <a:off x="6803640" y="5013360"/>
            <a:ext cx="432000" cy="574560"/>
          </a:xfrm>
          <a:prstGeom prst="upArrow">
            <a:avLst>
              <a:gd name="adj1" fmla="val 50000"/>
              <a:gd name="adj2" fmla="val 3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Определение основных параметров сай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4" descr="params"/>
          <p:cNvPicPr/>
          <p:nvPr/>
        </p:nvPicPr>
        <p:blipFill>
          <a:blip r:embed="rId1"/>
          <a:srcRect l="788" t="0" r="0" b="25404"/>
          <a:stretch/>
        </p:blipFill>
        <p:spPr>
          <a:xfrm>
            <a:off x="1403280" y="2071800"/>
            <a:ext cx="63882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Преимуще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7120" y="121392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граммный продукт распространяется совершенно бесплат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Регулярные обнов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Возможность анализировать региональную выдачу Яндек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табильность – все настройки и проекты сохраняются при обновлении 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Сбор поз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858080" cy="30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ервис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seumka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siteposition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Програм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espider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emonitor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yazzle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8ed5"/>
                </a:solidFill>
                <a:latin typeface="Calibri"/>
                <a:ea typeface="Arial"/>
              </a:rPr>
              <a:t>Полезные серви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5920" y="1285560"/>
            <a:ext cx="785808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Calibri"/>
              </a:rPr>
              <a:t>Сервисы, программы, ба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tekto.biz/sick/ns.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developing.ru/seo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yazzle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10253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www.whois-search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Рисунок 3" descr="11883699_faq.gif"/>
          <p:cNvPicPr/>
          <p:nvPr/>
        </p:nvPicPr>
        <p:blipFill>
          <a:blip r:embed="rId1"/>
          <a:stretch/>
        </p:blipFill>
        <p:spPr>
          <a:xfrm>
            <a:off x="3071880" y="15858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669" name="TextBox 1"/>
          <p:cNvSpPr/>
          <p:nvPr/>
        </p:nvSpPr>
        <p:spPr>
          <a:xfrm>
            <a:off x="500040" y="1492200"/>
            <a:ext cx="58579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800" spc="-1" strike="noStrike">
                <a:solidFill>
                  <a:srgbClr val="000000"/>
                </a:solidFill>
                <a:latin typeface="Calibri"/>
              </a:rPr>
              <a:t>ВОПР</a:t>
            </a:r>
            <a:r>
              <a:rPr b="1" lang="en-US" sz="6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6800" spc="-1" strike="noStrike">
                <a:solidFill>
                  <a:srgbClr val="000000"/>
                </a:solidFill>
                <a:latin typeface="Calibri"/>
              </a:rPr>
              <a:t>СЫ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2"/>
          <a:stretch/>
        </p:blipFill>
        <p:spPr>
          <a:xfrm>
            <a:off x="5786280" y="3143160"/>
            <a:ext cx="3048120" cy="301968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"/>
          <p:cNvSpPr/>
          <p:nvPr/>
        </p:nvSpPr>
        <p:spPr>
          <a:xfrm>
            <a:off x="2071800" y="460044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Вопросы – это тайный путь к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Box 1"/>
          <p:cNvSpPr/>
          <p:nvPr/>
        </p:nvSpPr>
        <p:spPr>
          <a:xfrm>
            <a:off x="357120" y="1214280"/>
            <a:ext cx="857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558ed5"/>
                </a:solidFill>
                <a:latin typeface="Calibri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0"/>
          <p:cNvSpPr/>
          <p:nvPr/>
        </p:nvSpPr>
        <p:spPr>
          <a:xfrm>
            <a:off x="6572520" y="41580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ww.academir.ru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Рисунок 1" descr="(495)  649-88-76 "/>
          <p:cNvPicPr/>
          <p:nvPr/>
        </p:nvPicPr>
        <p:blipFill>
          <a:blip r:embed="rId1"/>
          <a:stretch/>
        </p:blipFill>
        <p:spPr>
          <a:xfrm>
            <a:off x="714240" y="428760"/>
            <a:ext cx="1427400" cy="336240"/>
          </a:xfrm>
          <a:prstGeom prst="rect">
            <a:avLst/>
          </a:prstGeom>
          <a:ln w="0">
            <a:noFill/>
          </a:ln>
        </p:spPr>
      </p:pic>
      <p:sp>
        <p:nvSpPr>
          <p:cNvPr id="675" name="TextBox 4"/>
          <p:cNvSpPr/>
          <p:nvPr/>
        </p:nvSpPr>
        <p:spPr>
          <a:xfrm>
            <a:off x="928800" y="250020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Рисунок 1" descr="index2.jpg"/>
          <p:cNvPicPr/>
          <p:nvPr/>
        </p:nvPicPr>
        <p:blipFill>
          <a:blip r:embed="rId2"/>
          <a:stretch/>
        </p:blipFill>
        <p:spPr>
          <a:xfrm>
            <a:off x="3143160" y="428760"/>
            <a:ext cx="3100320" cy="22748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149"/>
          <p:cNvSpPr/>
          <p:nvPr/>
        </p:nvSpPr>
        <p:spPr>
          <a:xfrm>
            <a:off x="0" y="4994280"/>
            <a:ext cx="8858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ститель начальник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O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дела в компании «Сео Дри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0" y="43578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ниамин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ОИС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900000" y="1692360"/>
            <a:ext cx="767556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900000" y="1692360"/>
            <a:ext cx="76755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87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Инвертированные индек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вертированный (обратный) индекс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файл, содержащий список слов документа в алфавитном порядке с указанием позиций и других параметров вхождения этого слова в докумен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быстро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те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1"/>
          <p:cNvSpPr/>
          <p:nvPr/>
        </p:nvSpPr>
        <p:spPr>
          <a:xfrm>
            <a:off x="642960" y="57168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900000" y="1692360"/>
            <a:ext cx="767556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Прямой пои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Последовательный перебор всех имеющихся документов колле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нет искаж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очень дол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87"/>
              </a:spcBef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4d1"/>
                </a:solidFill>
                <a:latin typeface="Calibri"/>
              </a:rPr>
              <a:t>Инвертированные индекс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вертированный (обратный) индекс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— файл, содержащий список слов документа в алфавитном порядке с указанием позиций и других параметров вхождения этого слова в документ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быстро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теря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4"/>
              <p:cNvSpPr txBox="1"/>
              <p:nvPr/>
            </p:nvSpPr>
            <p:spPr>
              <a:xfrm>
                <a:off x="4206960" y="2344680"/>
                <a:ext cx="71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2" name="AutoShape 5"/>
          <p:cNvSpPr/>
          <p:nvPr/>
        </p:nvSpPr>
        <p:spPr>
          <a:xfrm>
            <a:off x="561960" y="3357720"/>
            <a:ext cx="21420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1"/>
          <p:cNvSpPr/>
          <p:nvPr/>
        </p:nvSpPr>
        <p:spPr>
          <a:xfrm>
            <a:off x="642960" y="14292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"/>
          <p:cNvSpPr/>
          <p:nvPr/>
        </p:nvSpPr>
        <p:spPr>
          <a:xfrm>
            <a:off x="642960" y="785880"/>
            <a:ext cx="8143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имер обратного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индекс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 – глоссарий (алфавитно-предметный указатель)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857160" y="1143000"/>
            <a:ext cx="77184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двокат, защитник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раво на помощь адвоката: ст. 48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аво подозреваемого, обвиняемого на защиту: ст. 48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кты органов власти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кты Президента РФ: ст. 90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акты, применяемые при разрешении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поров: ст. 15.4, ст. 76.5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действие актов СССР и РСФСР: часть II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бжалование в суд актов органов власти: ст. 46.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братная сила нормативных актов: ст. 54, ст. 57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публикование актов министерств, ведомст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опубликование федеральных законо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одготовка законов: ст. 104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именение неопубликованных нормативных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авовых актов: ст. 15.3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приостановление актов субъекта РФ: ст. 85.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толкование нормативных актов: ст. 125.5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мнистия и помилование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милование: ст. 50.3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рбитражный суд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ысший Арбитражный Суд: ст. 127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назначение судей: ст. 128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таж юридический для кандидатов в судьи: ст. 119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рест. Заключение под стражу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арест: ст. 22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   сроки содержания под стражей: ст. 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http://www.kremlin.ru/articles/alfabet01.s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6"/>
          <p:cNvSpPr/>
          <p:nvPr/>
        </p:nvSpPr>
        <p:spPr>
          <a:xfrm>
            <a:off x="4786200" y="1928880"/>
            <a:ext cx="3214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1"/>
          <p:cNvSpPr/>
          <p:nvPr/>
        </p:nvSpPr>
        <p:spPr>
          <a:xfrm>
            <a:off x="642960" y="428760"/>
            <a:ext cx="7929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58ed5"/>
                </a:solidFill>
                <a:latin typeface="Calibri"/>
              </a:rPr>
              <a:t>Алгоритмы работы П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143000" y="1500120"/>
            <a:ext cx="3500280" cy="39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Докуме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усоват был Ваня бедный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 он позднею поро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сь в поту, от страха бледный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 кладбище шел домой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дный Ваня еле д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отыкаясь, чуть бред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могилам; вдруг он слышит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то-то кость, ворча, грызет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ня стал; - шагнуть не может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же! думает бедняк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верно кости гложет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огубый вурдал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4786200" y="1928880"/>
            <a:ext cx="32148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Горе! малый я не сильный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Съест упырь меня совсем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Если сам земли могильной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Я с молитвою не съем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Что же? вместо вурдалака -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(Вы представьте Вани злость!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В темноте пред ним соба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MS Gothic"/>
              </a:rPr>
              <a:t>На могиле гложет к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8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  <a:ea typeface="MS Gothic"/>
              </a:rPr>
              <a:t>Обратный индекс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MS Gothic"/>
              </a:rPr>
              <a:t>Трусоват </a:t>
            </a:r>
            <a:r>
              <a:rPr b="0" i="1" lang="en-GB" sz="1600" spc="-1" strike="noStrike">
                <a:solidFill>
                  <a:srgbClr val="000000"/>
                </a:solidFill>
                <a:latin typeface="Calibri"/>
                <a:ea typeface="MS Gothic"/>
              </a:rPr>
              <a:t>(1,1,1)</a:t>
            </a:r>
            <a:r>
              <a:rPr b="0" i="1" lang="ar-SA" sz="1600" spc="-1" strike="noStrike">
                <a:solidFill>
                  <a:srgbClr val="000000"/>
                </a:solidFill>
                <a:latin typeface="Calibri"/>
                <a:ea typeface="MS Gothic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9:15:22Z</dcterms:created>
  <dc:creator>Константин</dc:creator>
  <dc:description/>
  <dc:language>en-US</dc:language>
  <cp:lastModifiedBy>y.novikov</cp:lastModifiedBy>
  <dcterms:modified xsi:type="dcterms:W3CDTF">2009-08-25T06:21:31Z</dcterms:modified>
  <cp:revision>135</cp:revision>
  <dc:subject/>
  <dc:title>Слайд 1</dc:title>
</cp:coreProperties>
</file>