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6C3D6B-F3CA-42FC-B35D-A099CEB80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75DE4E-94C7-4560-9CD4-CF7675C82C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087626-A213-4765-A4C7-5807B51C29F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D3390E-DD85-476D-BE71-59ACE35F07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7A507-94D5-4081-B32A-2B01991F9BC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C7278A-0708-46A2-B8BA-097E18426A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C1701-E39C-4CA8-B844-03DC94D9C31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0B488E-8EB1-468E-9A1A-280602A2E55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67BF89-5B8B-426F-B2BE-D8F3009BBC3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94B-18CA-473F-A81C-17651157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0AF-C2CD-424C-8657-64AD3B30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777-0D61-444B-8341-D012013D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70A-142B-41AB-ABD4-29BC1DCA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8E4-A533-4AA5-B16C-69D447B9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8319-6C73-44F6-AE4B-B7C4E79F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8CB7-BD39-4914-B378-B5B41C7D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ABBD-17D4-496D-A264-E3C7457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1877-99F8-4C66-99F2-D762D3A1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0E7E-BA57-47E7-A5BF-1852674B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77C4-B234-4040-BF53-F2C0660A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753-2D77-427A-BC8E-4C1B264F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E9B-B36C-4F3D-B7CB-F362DE0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7B00-C6E7-4E6A-AD19-1CA56C8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2E9-102A-45D4-9DAC-4E31ECD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74A6-916B-47C0-AB7D-54DBC816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8753-6F40-4571-A1D1-5B5E661B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2CF8-C5BA-4BED-9B1F-1070F6B2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4B32-5611-4BF3-A811-F46917CD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BC78-6067-4B9C-B1FD-7C9615F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5741-5C62-4185-81A3-56DD489C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A87D-82FB-4EC4-AF70-EB6E4773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EFD-9F64-4580-BC9A-1E162E9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B7D7-2181-48C1-A6D9-B6B2109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043A-8971-4ED1-B86D-F4D8822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937A-817B-46E2-BD27-8B6CDE0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F317-AC27-4CE7-8D3A-1ED457F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EA9B-173E-40A2-85F8-BD3EBC8F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F2D0-219B-4346-A1D5-4E16212B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D54F-D3DF-4575-B17F-30A5E77E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44BE-2477-44E0-9030-957A6179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940F-212B-4B86-A805-11E8765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6938-8072-4BF3-B147-6C8E2A77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E1D-8503-4C01-8433-85CCFF0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D06DA-4544-467D-94FC-F384683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CE1B-C028-44B3-80A4-5BFA51E1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A1B3-DBAC-4423-82C5-564B14C8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511A-DFCF-4872-A1F7-42AED94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C808F-C97F-4AA5-A632-7CAC8D0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FB75-7368-4B61-9682-5822343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D91B-6A31-4A13-9F80-0C1CB8E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4DE26-737C-465E-AC1B-3CE1A31A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1323-B4D9-49CB-8586-0B116B18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E6B-DD5E-4568-A39E-C9737C90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D04-F0C4-41CE-AD7C-79DFD92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916-46A6-436B-A48E-5F12668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C5F-9120-4E51-8ECC-1B820C2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47F-6613-48D7-9BED-7A355AF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A2DF30-396A-4726-9629-35F619E401F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95B777-2B76-458A-AEBE-97B90B80FB5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2E7B51-227E-4FE9-870A-DA3096361C9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8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9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6F599-2A2E-436D-B462-1751E827322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ngblog.ru/" TargetMode="External"/><Relationship Id="rId2" Type="http://schemas.openxmlformats.org/officeDocument/2006/relationships/hyperlink" Target="http://www.englishon-line/" TargetMode="External"/><Relationship Id="rId3" Type="http://schemas.openxmlformats.org/officeDocument/2006/relationships/hyperlink" Target="http://www.the-world.ru/" TargetMode="External"/><Relationship Id="rId4" Type="http://schemas.openxmlformats.org/officeDocument/2006/relationships/hyperlink" Target="http://greatstudy.ru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7640" y="1700640"/>
            <a:ext cx="84474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Основные правила пунктуации в английском языке</a:t>
            </a:r>
            <a:endParaRPr b="0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356000" y="5013000"/>
            <a:ext cx="4787640" cy="1079640"/>
          </a:xfrm>
          <a:prstGeom prst="rect">
            <a:avLst/>
          </a:prstGeom>
          <a:noFill/>
          <a:ln w="19080">
            <a:solidFill>
              <a:srgbClr val="dd8047"/>
            </a:solidFill>
            <a:round/>
          </a:ln>
        </p:spPr>
        <p:txBody>
          <a:bodyPr lIns="90000" rIns="90000" tIns="45000" bIns="45000" anchor="t">
            <a:normAutofit fontScale="86000"/>
          </a:bodyPr>
          <a:p>
            <a:pPr marL="594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Georgia"/>
              </a:rPr>
              <a:t>Светлана Петровна Башлы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Georgia"/>
              </a:rPr>
              <a:t>учитель английского языка ФГКОУ «СОШ № 3» г. Приозе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539640" y="2709000"/>
            <a:ext cx="8280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1642"/>
                </a:solidFill>
                <a:latin typeface="Georgia"/>
              </a:rPr>
              <a:t>Акцентирует внимание на слове или фразе. Используется для обобщения идеи. Сигнализирует на письме об изменении или перерыве в изложении какой-то мысл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englishon-line.ru/images2/31.jpg"/>
          <p:cNvPicPr/>
          <p:nvPr/>
        </p:nvPicPr>
        <p:blipFill>
          <a:blip r:embed="rId1"/>
          <a:stretch/>
        </p:blipFill>
        <p:spPr>
          <a:xfrm>
            <a:off x="251640" y="548640"/>
            <a:ext cx="1899360" cy="172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467640" y="4653000"/>
            <a:ext cx="842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Even Elizabeth began to fear—not that Bingley was indifferent—but that his sisters would be successful in keeping him away. 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Aus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englishon-line.ru/images2/42.jpg"/>
          <p:cNvPicPr/>
          <p:nvPr/>
        </p:nvPicPr>
        <p:blipFill>
          <a:blip r:embed="rId1"/>
          <a:stretch/>
        </p:blipFill>
        <p:spPr>
          <a:xfrm>
            <a:off x="251640" y="476640"/>
            <a:ext cx="2232000" cy="20304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988000" y="2493000"/>
            <a:ext cx="6048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лужит для соединения некоторых сложных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спользуется как знак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конце строки текста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58920" y="4509000"/>
            <a:ext cx="878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Brother-in-law of Wickham! 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Aus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They had plenty of the finest toys in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and the most astonishing picture-b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                                                                    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Dic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://englishon-line.ru/images2/40.jpg"/>
          <p:cNvPicPr/>
          <p:nvPr/>
        </p:nvPicPr>
        <p:blipFill>
          <a:blip r:embed="rId1"/>
          <a:stretch/>
        </p:blipFill>
        <p:spPr>
          <a:xfrm>
            <a:off x="6300360" y="620640"/>
            <a:ext cx="2374200" cy="2160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251640" y="908640"/>
            <a:ext cx="69843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 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Указывает на паузу, прерывание говор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 think… I think you’re right,” said K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Используется, чтобы показать незаконченность мысли или обрыв речи, при исключении слов из цитаты</a:t>
            </a: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t was decided … that English should be spoken in the USA.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englishon-line.ru/images2/36.jpg"/>
          <p:cNvPicPr/>
          <p:nvPr/>
        </p:nvPicPr>
        <p:blipFill>
          <a:blip r:embed="rId1"/>
          <a:stretch/>
        </p:blipFill>
        <p:spPr>
          <a:xfrm>
            <a:off x="179640" y="476640"/>
            <a:ext cx="2160000" cy="1964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englishon-line.ru/images2/41.jpg"/>
          <p:cNvPicPr/>
          <p:nvPr/>
        </p:nvPicPr>
        <p:blipFill>
          <a:blip r:embed="rId2"/>
          <a:stretch/>
        </p:blipFill>
        <p:spPr>
          <a:xfrm>
            <a:off x="6660360" y="4149000"/>
            <a:ext cx="2376000" cy="2161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2771640" y="476640"/>
            <a:ext cx="6048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Используются, чтобы выделить дополнительную информацию, которая объясняет или развивает уже высказанную мысль, но не является необходимой для понимания смысла предлож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843640" y="2421000"/>
            <a:ext cx="5904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oughtless and indiscreet I can easily believe him, but this step (and let us rejoice over it) marks nothing bad at heart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251640" y="3573000"/>
            <a:ext cx="626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Выделяют слова в цитате, которые не являются оригинальными словами автора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Используются для комментария к тексту, исправления ошибки или специально измененных слов, а также для замещения пропущенных сл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Georgia"/>
              </a:rPr>
              <a:t>"According to John, he said he 'couldn't believe it when he saw her [Sally] as they used to go to school together.' He was very surprised to see her after all these year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englishon-line.ru/images2/38.jpg"/>
          <p:cNvPicPr/>
          <p:nvPr/>
        </p:nvPicPr>
        <p:blipFill>
          <a:blip r:embed="rId1"/>
          <a:stretch/>
        </p:blipFill>
        <p:spPr>
          <a:xfrm>
            <a:off x="395640" y="692640"/>
            <a:ext cx="1944000" cy="1768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2555640" y="126864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значении «ил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Dear Madam/Sir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395640" y="4641840"/>
            <a:ext cx="8748000" cy="21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дробях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/3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5/6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да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5/10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23640" y="2421000"/>
            <a:ext cx="882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John/Yura will be able to drive a car when he is (16/17/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395640" y="3501000"/>
            <a:ext cx="864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ри написании адреса веб-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Georgia"/>
              </a:rPr>
              <a:t>http://www.the-world.ru/english-language/gram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2915640" y="54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спольз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Apostrophe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7" name="Содержимое 3"/>
          <p:cNvGraphicFramePr/>
          <p:nvPr/>
        </p:nvGraphicFramePr>
        <p:xfrm>
          <a:off x="179280" y="1340640"/>
          <a:ext cx="8784720" cy="5340960"/>
        </p:xfrm>
        <a:graphic>
          <a:graphicData uri="http://schemas.openxmlformats.org/drawingml/2006/table">
            <a:tbl>
              <a:tblPr/>
              <a:tblGrid>
                <a:gridCol w="2928240"/>
                <a:gridCol w="2928240"/>
                <a:gridCol w="2928240"/>
              </a:tblGrid>
              <a:tr h="6112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АпострОф ставится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случаях использования притяжательного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для обозначения пропущенных бук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для обозначения пропущенных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</a:tr>
              <a:tr h="309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brother’s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students'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children’s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I'm – 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'cause – because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she's – sh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'99 – 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 ’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14</a:t>
                      </a: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3"/>
          <p:cNvSpPr/>
          <p:nvPr/>
        </p:nvSpPr>
        <p:spPr>
          <a:xfrm>
            <a:off x="179640" y="155664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зделяет однородные чл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7"/>
          <p:cNvSpPr/>
          <p:nvPr/>
        </p:nvSpPr>
        <p:spPr>
          <a:xfrm>
            <a:off x="4788000" y="515736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зделяет парные однородные чл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8"/>
          <p:cNvSpPr/>
          <p:nvPr/>
        </p:nvSpPr>
        <p:spPr>
          <a:xfrm>
            <a:off x="179640" y="515736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Разделяет ОЧП с союзом </a:t>
            </a: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but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или парным союзом </a:t>
            </a: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not  only …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but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c000"/>
                </a:solidFill>
                <a:latin typeface="Georgia"/>
              </a:rPr>
              <a:t>Comma</a:t>
            </a:r>
            <a:br>
              <a:rPr sz="4000"/>
            </a:br>
            <a:r>
              <a:rPr b="1" lang="ru-RU" sz="3100" spc="-1" strike="noStrike">
                <a:solidFill>
                  <a:srgbClr val="ffc000"/>
                </a:solidFill>
                <a:latin typeface="Georgia"/>
              </a:rPr>
              <a:t>Запятая в простых предложениях</a:t>
            </a:r>
            <a:endParaRPr b="0" lang="ru-RU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292000" y="2061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Овал 20"/>
          <p:cNvSpPr/>
          <p:nvPr/>
        </p:nvSpPr>
        <p:spPr>
          <a:xfrm>
            <a:off x="4788000" y="155664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Ставиться перед последним из трех и более ОЧП, если перед ним стоит союз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1"/>
          <p:cNvSpPr/>
          <p:nvPr/>
        </p:nvSpPr>
        <p:spPr>
          <a:xfrm>
            <a:off x="107640" y="3069000"/>
            <a:ext cx="4248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She shook her head, dried the dishes herself, sat down with some mending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2"/>
          <p:cNvSpPr/>
          <p:nvPr/>
        </p:nvSpPr>
        <p:spPr>
          <a:xfrm>
            <a:off x="179640" y="4077000"/>
            <a:ext cx="4176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Not only hope, but confidence has been restored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Nesfield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3"/>
          <p:cNvSpPr/>
          <p:nvPr/>
        </p:nvSpPr>
        <p:spPr>
          <a:xfrm>
            <a:off x="4860000" y="4149000"/>
            <a:ext cx="4032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They have forgotten time and place, and life and death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Voynich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4"/>
          <p:cNvSpPr/>
          <p:nvPr/>
        </p:nvSpPr>
        <p:spPr>
          <a:xfrm>
            <a:off x="4788000" y="3069000"/>
            <a:ext cx="4104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 lighted his cigarette, said good night (,) and went on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Londo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Georgia"/>
              </a:rPr>
              <a:t>Запятая в простых предложениях выделяет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7640" y="1340640"/>
            <a:ext cx="8928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Скругленный прямоугольник 3"/>
          <p:cNvSpPr/>
          <p:nvPr/>
        </p:nvSpPr>
        <p:spPr>
          <a:xfrm>
            <a:off x="323640" y="1772640"/>
            <a:ext cx="403200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Georgia"/>
              </a:rPr>
              <a:t>Вводные слова Словосочетания  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4"/>
          <p:cNvSpPr/>
          <p:nvPr/>
        </p:nvSpPr>
        <p:spPr>
          <a:xfrm>
            <a:off x="4860000" y="4293000"/>
            <a:ext cx="403200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Самостоятельные причастные об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6"/>
          <p:cNvSpPr/>
          <p:nvPr/>
        </p:nvSpPr>
        <p:spPr>
          <a:xfrm>
            <a:off x="4860000" y="1772640"/>
            <a:ext cx="403164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"/>
          <p:cNvSpPr/>
          <p:nvPr/>
        </p:nvSpPr>
        <p:spPr>
          <a:xfrm>
            <a:off x="323640" y="4293000"/>
            <a:ext cx="403164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Междоме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с двумя скругленными противолежащими углами 8"/>
          <p:cNvSpPr/>
          <p:nvPr/>
        </p:nvSpPr>
        <p:spPr>
          <a:xfrm>
            <a:off x="539640" y="306900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n fact, she marked the change in his face with satisfaction. 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(Lon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с двумя скругленными противолежащими углами 9"/>
          <p:cNvSpPr/>
          <p:nvPr/>
        </p:nvSpPr>
        <p:spPr>
          <a:xfrm>
            <a:off x="5148000" y="306900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Arthur, have you thought what you are saying?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Voynich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с двумя скругленными противолежащими углами 10"/>
          <p:cNvSpPr/>
          <p:nvPr/>
        </p:nvSpPr>
        <p:spPr>
          <a:xfrm>
            <a:off x="539640" y="558936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Oh, I haven’t seen you for 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с двумя скругленными противолежащими углами 11"/>
          <p:cNvSpPr/>
          <p:nvPr/>
        </p:nvSpPr>
        <p:spPr>
          <a:xfrm>
            <a:off x="5076000" y="558936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The door being open, we looked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низ 12"/>
          <p:cNvSpPr/>
          <p:nvPr/>
        </p:nvSpPr>
        <p:spPr>
          <a:xfrm>
            <a:off x="2339640" y="270900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0" name="Стрелка вниз 14"/>
          <p:cNvSpPr/>
          <p:nvPr/>
        </p:nvSpPr>
        <p:spPr>
          <a:xfrm>
            <a:off x="6804360" y="270900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1" name="Стрелка вниз 15"/>
          <p:cNvSpPr/>
          <p:nvPr/>
        </p:nvSpPr>
        <p:spPr>
          <a:xfrm>
            <a:off x="2267640" y="522936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2" name="Стрелка вниз 16"/>
          <p:cNvSpPr/>
          <p:nvPr/>
        </p:nvSpPr>
        <p:spPr>
          <a:xfrm>
            <a:off x="6876360" y="522936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12"/>
          <p:cNvSpPr/>
          <p:nvPr/>
        </p:nvSpPr>
        <p:spPr>
          <a:xfrm>
            <a:off x="5436000" y="5229360"/>
            <a:ext cx="345564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25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1, 245,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7"/>
          <p:cNvSpPr/>
          <p:nvPr/>
        </p:nvSpPr>
        <p:spPr>
          <a:xfrm>
            <a:off x="5148000" y="4581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Ставится в больших чис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11"/>
          <p:cNvSpPr/>
          <p:nvPr/>
        </p:nvSpPr>
        <p:spPr>
          <a:xfrm>
            <a:off x="971640" y="4653000"/>
            <a:ext cx="381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Robert Burns was born on January 25, 17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9"/>
          <p:cNvSpPr/>
          <p:nvPr/>
        </p:nvSpPr>
        <p:spPr>
          <a:xfrm>
            <a:off x="971640" y="2133000"/>
            <a:ext cx="3816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, Martin Eden, was a better man than that fellow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Londo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10"/>
          <p:cNvSpPr/>
          <p:nvPr/>
        </p:nvSpPr>
        <p:spPr>
          <a:xfrm>
            <a:off x="5076000" y="2421000"/>
            <a:ext cx="381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len looks good, doesn't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Запятая в простых предложениях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Овал 3"/>
          <p:cNvSpPr/>
          <p:nvPr/>
        </p:nvSpPr>
        <p:spPr>
          <a:xfrm>
            <a:off x="251640" y="148464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В</a:t>
            </a:r>
            <a:r>
              <a:rPr b="1" lang="en-US" sz="2000" spc="-1" strike="noStrike">
                <a:solidFill>
                  <a:srgbClr val="336600"/>
                </a:solidFill>
                <a:latin typeface="Georgia"/>
              </a:rPr>
              <a:t>ыдел</a:t>
            </a: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яет </a:t>
            </a:r>
            <a:r>
              <a:rPr b="1" lang="en-US" sz="2000" spc="-1" strike="noStrike">
                <a:solidFill>
                  <a:srgbClr val="336600"/>
                </a:solidFill>
                <a:latin typeface="Georgia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"/>
          <p:cNvSpPr/>
          <p:nvPr/>
        </p:nvSpPr>
        <p:spPr>
          <a:xfrm>
            <a:off x="251640" y="3933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Отделяет год от числа и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8"/>
          <p:cNvSpPr/>
          <p:nvPr/>
        </p:nvSpPr>
        <p:spPr>
          <a:xfrm>
            <a:off x="4860000" y="1917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Используется в разделительных вопро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Запятая в  сложносочиненном предложении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92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ростые предложения, объединенные в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сложносочиненное без союзов, всегда разделяютс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пятой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The rain fell softly, the house was quiet. 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cc0000"/>
                </a:solidFill>
                <a:latin typeface="Georgia"/>
              </a:rPr>
              <a:t>Collins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 сложносочиненном предложении запятая ставитс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еред сочинительным союзом, разделяющим прост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редложе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The darkness was thinning, but the street was still dimly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lighted. 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cc0000"/>
                </a:solidFill>
                <a:latin typeface="Georgia"/>
              </a:rPr>
              <a:t>Lindsay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пятая не ставится перед союзами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AND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OR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, если он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водят короткие предложе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I asked Mary to help me and she nodded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3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3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0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3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30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30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0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3000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3000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Full Stop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7" name="Содержимое 3"/>
          <p:cNvGraphicFramePr/>
          <p:nvPr/>
        </p:nvGraphicFramePr>
        <p:xfrm>
          <a:off x="251640" y="980640"/>
          <a:ext cx="8712720" cy="6116400"/>
        </p:xfrm>
        <a:graphic>
          <a:graphicData uri="http://schemas.openxmlformats.org/drawingml/2006/table">
            <a:tbl>
              <a:tblPr/>
              <a:tblGrid>
                <a:gridCol w="2337480"/>
                <a:gridCol w="2125080"/>
                <a:gridCol w="2125080"/>
                <a:gridCol w="2125080"/>
              </a:tblGrid>
              <a:tr h="597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49" strike="noStrike">
                          <a:solidFill>
                            <a:srgbClr val="fefefe"/>
                          </a:solidFill>
                          <a:latin typeface="Georgia"/>
                        </a:rPr>
                        <a:t>Точка ставитс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конце повествовательных и повелительных пред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ри сокращении с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десятичных дроб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денежных един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веб-адре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  <a:tr h="377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 breakfast is read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Sit down to table, ple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etc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(лат. </a:t>
                      </a:r>
                      <a:r>
                        <a:rPr b="1" i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et cetera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) – и так да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a.m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 (лат. </a:t>
                      </a:r>
                      <a:r>
                        <a:rPr b="1" i="1" lang="la-VA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ante meridiem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) — до полу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Mr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или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Mr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(mister) –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госпо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Prof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Profes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Oct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Octo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Co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- 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0.65 – nought point six five /point six 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3.25 –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ree point two 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£ 5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$15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€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3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www.engblog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640" y="620640"/>
            <a:ext cx="82292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Запятая в сложноподчиненном предложении</a:t>
            </a:r>
            <a:br>
              <a:rPr sz="4000"/>
            </a:b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000" cy="51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не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подлежащи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сказуемы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ПП дополнительны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at I want to do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is to save us both.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’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ll do just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at I say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.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Dreiser)                                                                                             (Dreiser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Our attitude simply is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Georgia"/>
              </a:rPr>
              <a:t>that facts are facts.</a:t>
            </a: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Georgia"/>
              </a:rPr>
              <a:t>(Leacock)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определительные: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обстоятельственны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индивидуализирующие                             после главного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классифицирующи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Samuel was the first person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             You can stay her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 long  I met in the passage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                                          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 you want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Collins)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                                                                                 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Hemingway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26" name="Прямая со стрелкой 5"/>
          <p:cNvCxnSpPr/>
          <p:nvPr/>
        </p:nvCxnSpPr>
        <p:spPr>
          <a:xfrm flipH="1">
            <a:off x="1259280" y="2060640"/>
            <a:ext cx="36072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7" name="Прямая со стрелкой 8"/>
          <p:cNvCxnSpPr/>
          <p:nvPr/>
        </p:nvCxnSpPr>
        <p:spPr>
          <a:xfrm>
            <a:off x="7164000" y="2060640"/>
            <a:ext cx="36036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8" name="Прямая со стрелкой 12"/>
          <p:cNvCxnSpPr/>
          <p:nvPr/>
        </p:nvCxnSpPr>
        <p:spPr>
          <a:xfrm>
            <a:off x="4860000" y="2204640"/>
            <a:ext cx="360" cy="792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9" name="Прямая со стрелкой 14"/>
          <p:cNvCxnSpPr/>
          <p:nvPr/>
        </p:nvCxnSpPr>
        <p:spPr>
          <a:xfrm>
            <a:off x="1547640" y="4941000"/>
            <a:ext cx="36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30" name="Прямая со стрелкой 19"/>
          <p:cNvCxnSpPr/>
          <p:nvPr/>
        </p:nvCxnSpPr>
        <p:spPr>
          <a:xfrm>
            <a:off x="6732000" y="4725000"/>
            <a:ext cx="360" cy="504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Запятая в сложноподчиненном предложен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7640" y="1556640"/>
            <a:ext cx="43880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 определительн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(дополнительные сведени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 известном собеседникам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едмете или лице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Mr. Prusty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o kept no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sistant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slowly got off his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stool.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We went to the lake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ich was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very stormy that day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56640"/>
            <a:ext cx="43160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обстоятельственн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еред главным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If he is not here by the end of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the week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I shall go after him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Austen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lthough the young man’s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eyes remained upon him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he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did not speak…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79640" y="836640"/>
            <a:ext cx="856872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Грамматика английского языка. Пособие для студентов педагогических институтов / В. Л. Каушанская, Р. Л. Ковнер, О. Н. Кожевникова, Е. В. Прокофьева и др. М.: Айрис-пресс,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Английский язык. Грамматика / Т.Б. Клементьева М.: Оли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Хатбер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1"/>
              </a:rPr>
              <a:t>www.engb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Английский: правила произношения и чтения, грамма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разговорный язык/ Василье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2"/>
              </a:rPr>
              <a:t>www.englishon-line</a:t>
            </a:r>
            <a:r>
              <a:rPr b="1" lang="en-US" sz="1800" spc="-1" strike="noStrike" u="sng">
                <a:solidFill>
                  <a:srgbClr val="ffc000"/>
                </a:solidFill>
                <a:uFillTx/>
                <a:latin typeface="Georgia"/>
              </a:rPr>
              <a:t>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3"/>
              </a:rPr>
              <a:t>www.the-worl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c000"/>
                </a:solidFill>
                <a:uFillTx/>
                <a:latin typeface="Georgia"/>
              </a:rPr>
              <a:t>www.</a:t>
            </a: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4"/>
              </a:rPr>
              <a:t>greatstud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0" y="649440"/>
            <a:ext cx="9143640" cy="606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  <a:ea typeface="Calibri"/>
              </a:rPr>
              <a:t>   </a:t>
            </a:r>
            <a:r>
              <a:rPr b="0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  <a:ea typeface="Calibri"/>
              </a:rPr>
              <a:t>Точка не став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если сокращение  включает в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последнюю букву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St (Street), Rd (R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в заголовках,  названиях книг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други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Summer School Begins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The Seven Poor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Trav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Going into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Question Mark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85672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24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41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Вопросительный знак ставится</a:t>
            </a:r>
            <a:endParaRPr b="0" lang="ru-RU" sz="4100" spc="-1" strike="noStrike">
              <a:solidFill>
                <a:srgbClr val="000000"/>
              </a:solidFill>
              <a:latin typeface="Georgia"/>
            </a:endParaRPr>
          </a:p>
          <a:p>
            <a:pPr marL="324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ru-RU" sz="3500" spc="-1" strike="noStrike">
              <a:solidFill>
                <a:srgbClr val="000000"/>
              </a:solidFill>
              <a:latin typeface="Georgia"/>
            </a:endParaRPr>
          </a:p>
          <a:p>
            <a:pPr marL="324000" indent="-226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 конце предложений, выражающих вопрос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here is the nearest exchange office, please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as the first car built in Germany, the United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States or France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-226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если в предложении кроме косвенного вопроса есть</a:t>
            </a: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опрос к собеседнику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Did you ask him at what time the train arrives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But!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Georgia"/>
              </a:rPr>
              <a:t>She asked him at what time the train arrives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251640" y="5589360"/>
            <a:ext cx="791640" cy="575640"/>
          </a:xfrm>
          <a:prstGeom prst="rect">
            <a:avLst/>
          </a:prstGeom>
          <a:noFill/>
          <a:ln w="57150"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Exclamation Mark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7640" y="1772640"/>
            <a:ext cx="8856720" cy="48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Восклицательный знак ставится 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 конце предложений, произносимых с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увством радости, восхищения, удивления,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очувствия, возмущения, негодования,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отчаяния и т.д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hat a fine day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How beautiful she is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I can’t do it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Inverted Commas </a:t>
            </a:r>
            <a:br>
              <a:rPr sz="4000"/>
            </a:b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Овал 3"/>
          <p:cNvSpPr/>
          <p:nvPr/>
        </p:nvSpPr>
        <p:spPr>
          <a:xfrm>
            <a:off x="611640" y="1556640"/>
            <a:ext cx="3600000" cy="914040"/>
          </a:xfrm>
          <a:prstGeom prst="ellipse">
            <a:avLst/>
          </a:prstGeom>
          <a:gradFill rotWithShape="0">
            <a:gsLst>
              <a:gs pos="0">
                <a:srgbClr val="8b8282"/>
              </a:gs>
              <a:gs pos="100000">
                <a:srgbClr val="dad6d6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Ци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4"/>
          <p:cNvSpPr/>
          <p:nvPr/>
        </p:nvSpPr>
        <p:spPr>
          <a:xfrm>
            <a:off x="4860000" y="1556640"/>
            <a:ext cx="3599640" cy="914040"/>
          </a:xfrm>
          <a:prstGeom prst="ellipse">
            <a:avLst/>
          </a:prstGeom>
          <a:gradFill rotWithShape="0">
            <a:gsLst>
              <a:gs pos="0">
                <a:srgbClr val="8b8282"/>
              </a:gs>
              <a:gs pos="100000">
                <a:srgbClr val="dad6d6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Прям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6"/>
          <p:cNvSpPr/>
          <p:nvPr/>
        </p:nvSpPr>
        <p:spPr>
          <a:xfrm>
            <a:off x="2123640" y="2493000"/>
            <a:ext cx="61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 w="3810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8" name="Стрелка вниз 7"/>
          <p:cNvSpPr/>
          <p:nvPr/>
        </p:nvSpPr>
        <p:spPr>
          <a:xfrm>
            <a:off x="6372360" y="2493000"/>
            <a:ext cx="611640" cy="719640"/>
          </a:xfrm>
          <a:prstGeom prst="downArrow">
            <a:avLst>
              <a:gd name="adj1" fmla="val 50000"/>
              <a:gd name="adj2" fmla="val 44340"/>
            </a:avLst>
          </a:prstGeom>
          <a:solidFill>
            <a:schemeClr val="bg1">
              <a:lumMod val="65000"/>
            </a:schemeClr>
          </a:solidFill>
          <a:ln w="3810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395640" y="3213000"/>
            <a:ext cx="3959640" cy="1007640"/>
          </a:xfrm>
          <a:prstGeom prst="rect">
            <a:avLst/>
          </a:prstGeom>
          <a:solidFill>
            <a:srgbClr val="968c8c"/>
          </a:solidFill>
          <a:ln>
            <a:solidFill>
              <a:srgbClr val="00206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The Government declared: “The problem will be discussed next mon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0"/>
          <p:cNvSpPr/>
          <p:nvPr/>
        </p:nvSpPr>
        <p:spPr>
          <a:xfrm>
            <a:off x="4788000" y="3213000"/>
            <a:ext cx="3960000" cy="1007640"/>
          </a:xfrm>
          <a:prstGeom prst="rect">
            <a:avLst/>
          </a:prstGeom>
          <a:solidFill>
            <a:srgbClr val="968c8c"/>
          </a:solidFill>
          <a:ln>
            <a:solidFill>
              <a:srgbClr val="00206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Georgia"/>
                <a:ea typeface="Calibri"/>
              </a:rPr>
              <a:t>He said, “They’ll call us when they arriv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899640" y="4509000"/>
            <a:ext cx="7344360" cy="1944000"/>
          </a:xfrm>
          <a:prstGeom prst="rect">
            <a:avLst/>
          </a:prstGeom>
          <a:solidFill>
            <a:srgbClr val="968c8c"/>
          </a:solidFill>
          <a:ln>
            <a:solidFill>
              <a:srgbClr val="6e6767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В английском языке кавычки, обозначающие начало фразы или цитаты, ставятся сверху, на одном уровне с кавычками в ко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При прямой речи знак препинания ставится внутри кавы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верх 16"/>
          <p:cNvSpPr/>
          <p:nvPr/>
        </p:nvSpPr>
        <p:spPr>
          <a:xfrm>
            <a:off x="2483640" y="4221000"/>
            <a:ext cx="287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3" name="Стрелка вверх 17"/>
          <p:cNvSpPr/>
          <p:nvPr/>
        </p:nvSpPr>
        <p:spPr>
          <a:xfrm>
            <a:off x="6228360" y="4221000"/>
            <a:ext cx="287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2051640" y="98064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Кавычки став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Colon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56" name="Содержимое 3"/>
          <p:cNvGraphicFramePr/>
          <p:nvPr/>
        </p:nvGraphicFramePr>
        <p:xfrm>
          <a:off x="467640" y="1052640"/>
          <a:ext cx="8373240" cy="6418440"/>
        </p:xfrm>
        <a:graphic>
          <a:graphicData uri="http://schemas.openxmlformats.org/drawingml/2006/table">
            <a:tbl>
              <a:tblPr/>
              <a:tblGrid>
                <a:gridCol w="2093400"/>
                <a:gridCol w="2093400"/>
                <a:gridCol w="2093400"/>
                <a:gridCol w="2093400"/>
              </a:tblGrid>
              <a:tr h="636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49" strike="noStrike">
                          <a:ln>
                            <a:solidFill>
                              <a:srgbClr val="1d242a">
                                <a:alpha val="6000"/>
                              </a:srgbClr>
                            </a:solidFill>
                          </a:ln>
                          <a:solidFill>
                            <a:srgbClr val="ffffff"/>
                          </a:solidFill>
                          <a:latin typeface="Georgia"/>
                        </a:rPr>
                        <a:t>Двоеточие стави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цита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длинной прямой речью (больше одного простого нераспространенного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перечисляемыми однородными членами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конце предложения, если дальше следует пояснение или уточнение смысла основного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  <a:tr h="237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 Government declared: “The new project will be discussed next month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I asked: “How old were you when this portrait was painted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re were many sources of noise in the street: cars and buses, lorries and motorcyc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He had one final aim before him: to help his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430920" y="836640"/>
            <a:ext cx="87127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Двоеточие не ст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В случае короткой прямой речи вместо двоеточия нужно ставить запя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The apples in this tree are all red”, he s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She said to them, “Good-by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3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3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Semi</a:t>
            </a:r>
            <a:r>
              <a:rPr b="1" lang="ru-RU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-</a:t>
            </a: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colon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928720" cy="53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539640" y="1772640"/>
            <a:ext cx="381600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bb9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ставится между грамматически разделенными сложносочиненными предложениями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при отсутствии сою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5"/>
          <p:cNvSpPr/>
          <p:nvPr/>
        </p:nvSpPr>
        <p:spPr>
          <a:xfrm>
            <a:off x="4932000" y="1772640"/>
            <a:ext cx="3815640" cy="179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bb9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разделяет пункты перечисления, если они грамматически сложны для обычной запя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179640" y="4653000"/>
            <a:ext cx="4391640" cy="1043640"/>
          </a:xfrm>
          <a:prstGeom prst="rect">
            <a:avLst/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I spoke to Kate on Friday; she is not going to come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4644000" y="4653000"/>
            <a:ext cx="4391640" cy="1043640"/>
          </a:xfrm>
          <a:prstGeom prst="rect">
            <a:avLst/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The signal was given; the steamer moved slowly from the d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низ 9"/>
          <p:cNvSpPr/>
          <p:nvPr/>
        </p:nvSpPr>
        <p:spPr>
          <a:xfrm>
            <a:off x="2123640" y="3717000"/>
            <a:ext cx="503640" cy="79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eorgia"/>
            </a:endParaRPr>
          </a:p>
        </p:txBody>
      </p:sp>
      <p:sp>
        <p:nvSpPr>
          <p:cNvPr id="265" name="Стрелка вниз 10"/>
          <p:cNvSpPr/>
          <p:nvPr/>
        </p:nvSpPr>
        <p:spPr>
          <a:xfrm>
            <a:off x="6588360" y="3717000"/>
            <a:ext cx="503640" cy="79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eorgi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915640" y="980640"/>
            <a:ext cx="3744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Точка с запято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081</TotalTime>
  <Application>LibreOffice/7.4.7.2$Linux_X86_64 LibreOffice_project/40$Build-2</Application>
  <AppVersion>15.0000</AppVersion>
  <Words>1167</Words>
  <Paragraphs>285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01:41Z</dcterms:created>
  <dc:creator>Valera</dc:creator>
  <dc:description/>
  <dc:language>en-US</dc:language>
  <cp:lastModifiedBy>Valera</cp:lastModifiedBy>
  <dcterms:modified xsi:type="dcterms:W3CDTF">2014-11-15T14:57:24Z</dcterms:modified>
  <cp:revision>111</cp:revision>
  <dc:subject/>
  <dc:title>Пунктуация в английском я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