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AE370-BB69-4E2B-8208-0B239F387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408A88-CF38-4C3E-835E-5868D1ED7BE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499505-53E0-4E97-BE2F-B1870878790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16F5D1-63A0-4D73-B9EB-F45C3D9C49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5663CC-BEE3-4EFC-9AEE-438C9F0FC29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5A50D8-C088-40CF-81C8-E93DCE163D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DA2CD-562E-4365-9495-D20AF349E16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F1A3BE-D458-4A66-B0C6-788C8E6351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047155-62BC-4485-898E-B6DA7740866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DF5-A181-4BA5-BC8F-97219B82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B9E-00E9-43A9-A0C8-F245E046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4F5-FB67-43C6-AD5F-084C1281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BAD-4E42-4BA5-9330-9F07A10F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5AF1-3B6D-4B82-A0A1-C930615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5E2-CE39-43E3-8DBB-89E23FAE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291A-B8AF-4BD8-9789-99CEC3A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9064-07D5-43EB-AF52-3BD572D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3296-EC4B-40D2-B591-034954B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2A3-A378-4721-B167-065BF99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FB67-9455-4D23-B58A-0942DCB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1B6-3E1E-4163-A361-C189A62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F4D-5252-4F38-BA6C-ACAD022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92D-124B-427D-A1B5-6EAD713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D31-187C-49CB-84C0-F7363CE3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DA92-64B7-4373-94BC-F85328A6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9BFF-C316-48ED-A1D5-F5AE8126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7AB9-28EB-42DB-9F2F-BCE23606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D1F8-A655-40A6-8F91-1E7F4B2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44DA-94C2-47C9-808B-21061D0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C478-5CC1-4D52-AF60-D5E4258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2857-EE9B-43AF-A844-F414F4FC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337-4751-482F-9FC9-9DE0565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2760-9B48-4008-84AD-5B672DB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119E-3D9D-4D11-BBBC-552E20E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DDC7-3326-4583-85EE-5382E16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5AD6-C40A-4FE0-9F6C-DE0D5E4A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1D11-B3C4-47A5-AE0F-E52718C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B2C2-F29C-4EDD-AF4A-A82A5A7A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499D-B490-4DC0-91D4-2208B9D9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316B-84FF-4A90-999F-B8679371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1099-0896-4F53-9BE6-A1CC2DD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B9D2-85AF-4D59-BDF5-783449E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C71-DCFE-45D4-9207-B4A2E2A9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846E-704D-4FF9-A3AE-0FE13D7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03ED-4A0F-48DF-92E6-EA50BAAC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D4EF-FEAF-4EB9-9D69-0CAB79B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9BCF-81AA-4D52-A22F-892B91C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BCB1-0678-4308-BE54-C8C3E05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0BD20-61EB-48E9-A414-29AE101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63A5-CAB9-4212-8ADF-6AEF1C9C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D8B6-46F7-4F9F-A778-4786040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6A77-4E0F-4BBE-8878-09B987B8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CC0-6058-4D34-82DD-0B8F40D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0DD-1C1B-4685-9BF2-5E5D395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675-4BA9-4468-9EA3-996E6C7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1FB-0BC2-4E02-87E6-CD40875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7A9-1273-44E3-AF94-9997DC8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DD614-F594-4BA8-AF1A-5420CA8CC82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80261-ACD8-483A-A6FB-DE7EA42D901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7676BE-F085-4B78-9CAB-EA6B674193E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8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9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8C7BA-479C-4250-9298-69061E8CAA0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gblog.ru/" TargetMode="External"/><Relationship Id="rId2" Type="http://schemas.openxmlformats.org/officeDocument/2006/relationships/hyperlink" Target="http://www.englishon-line/" TargetMode="External"/><Relationship Id="rId3" Type="http://schemas.openxmlformats.org/officeDocument/2006/relationships/hyperlink" Target="http://www.the-world.ru/" TargetMode="External"/><Relationship Id="rId4" Type="http://schemas.openxmlformats.org/officeDocument/2006/relationships/hyperlink" Target="http://greatstudy.ru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7640" y="1700640"/>
            <a:ext cx="84474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Основные правила пунктуации в английском языке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356000" y="5013000"/>
            <a:ext cx="4787640" cy="1079640"/>
          </a:xfrm>
          <a:prstGeom prst="rect">
            <a:avLst/>
          </a:prstGeom>
          <a:noFill/>
          <a:ln w="19080">
            <a:solidFill>
              <a:srgbClr val="dd8047"/>
            </a:solidFill>
            <a:round/>
          </a:ln>
        </p:spPr>
        <p:txBody>
          <a:bodyPr lIns="90000" rIns="90000" tIns="45000" bIns="45000" anchor="t">
            <a:normAutofit fontScale="86000"/>
          </a:bodyPr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Светлана Петровна Башлы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учитель английского языка ФГКОУ «СОШ № 3» г. Приозе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539640" y="2709000"/>
            <a:ext cx="8280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1642"/>
                </a:solidFill>
                <a:latin typeface="Georgia"/>
              </a:rPr>
              <a:t>Акцентирует внимание на слове или фразе. Используется для обобщения идеи. Сигнализирует на письме об изменении или перерыве в изложении какой-то мысл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englishon-line.ru/images2/31.jpg"/>
          <p:cNvPicPr/>
          <p:nvPr/>
        </p:nvPicPr>
        <p:blipFill>
          <a:blip r:embed="rId1"/>
          <a:stretch/>
        </p:blipFill>
        <p:spPr>
          <a:xfrm>
            <a:off x="251640" y="548640"/>
            <a:ext cx="1899360" cy="172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467640" y="4653000"/>
            <a:ext cx="842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Even Elizabeth began to fear—not that Bingley was indifferent—but that his sisters would be successful in keeping him away.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englishon-line.ru/images2/42.jpg"/>
          <p:cNvPicPr/>
          <p:nvPr/>
        </p:nvPicPr>
        <p:blipFill>
          <a:blip r:embed="rId1"/>
          <a:stretch/>
        </p:blipFill>
        <p:spPr>
          <a:xfrm>
            <a:off x="251640" y="476640"/>
            <a:ext cx="2232000" cy="20304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988000" y="2493000"/>
            <a:ext cx="6048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лужит для соединения некоторых сложных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спользуется как знак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конце строки текста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58920" y="4509000"/>
            <a:ext cx="878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Brother-in-law of Wickham! 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They had plenty of the finest toys in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and the most astonishing picture-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Dic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://englishon-line.ru/images2/40.jpg"/>
          <p:cNvPicPr/>
          <p:nvPr/>
        </p:nvPicPr>
        <p:blipFill>
          <a:blip r:embed="rId1"/>
          <a:stretch/>
        </p:blipFill>
        <p:spPr>
          <a:xfrm>
            <a:off x="6300360" y="620640"/>
            <a:ext cx="2374200" cy="2160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251640" y="908640"/>
            <a:ext cx="69843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Указывает на паузу, прерывание гово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 think… I think you’re right,” said K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Используется, чтобы показать незаконченность мысли или обрыв речи, при исключении слов из цитаты</a:t>
            </a: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t was decided … that English should be spoken in the USA.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englishon-line.ru/images2/36.jpg"/>
          <p:cNvPicPr/>
          <p:nvPr/>
        </p:nvPicPr>
        <p:blipFill>
          <a:blip r:embed="rId1"/>
          <a:stretch/>
        </p:blipFill>
        <p:spPr>
          <a:xfrm>
            <a:off x="179640" y="476640"/>
            <a:ext cx="2160000" cy="1964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englishon-line.ru/images2/41.jpg"/>
          <p:cNvPicPr/>
          <p:nvPr/>
        </p:nvPicPr>
        <p:blipFill>
          <a:blip r:embed="rId2"/>
          <a:stretch/>
        </p:blipFill>
        <p:spPr>
          <a:xfrm>
            <a:off x="6660360" y="4149000"/>
            <a:ext cx="2376000" cy="2161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2771640" y="476640"/>
            <a:ext cx="6048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Используются, чтобы выделить дополнительную информацию, которая объясняет или развивает уже высказанную мысль, но не является необходимой для понимания смысла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843640" y="2421000"/>
            <a:ext cx="5904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oughtless and indiscreet I can easily believe him, but this step (and let us rejoice over it) marks nothing bad at heart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251640" y="3573000"/>
            <a:ext cx="626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Выделяют слова в цитате, которые не являются оригинальными словами автора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спользуются для комментария к тексту, исправления ошибки или специально измененных слов, а также для замещения пропущенных сл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Georgia"/>
              </a:rPr>
              <a:t>"According to John, he said he 'couldn't believe it when he saw her [Sally] as they used to go to school together.' He was very surprised to see her after all these year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englishon-line.ru/images2/38.jpg"/>
          <p:cNvPicPr/>
          <p:nvPr/>
        </p:nvPicPr>
        <p:blipFill>
          <a:blip r:embed="rId1"/>
          <a:stretch/>
        </p:blipFill>
        <p:spPr>
          <a:xfrm>
            <a:off x="395640" y="692640"/>
            <a:ext cx="1944000" cy="1768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2555640" y="1268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значении «ил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Dear Madam/Sir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395640" y="4641840"/>
            <a:ext cx="874800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робях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/3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5/6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а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5/10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23640" y="2421000"/>
            <a:ext cx="882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John/Yura will be able to drive a car when he is (16/17/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395640" y="3501000"/>
            <a:ext cx="864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ри написании адреса веб-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Georgia"/>
              </a:rPr>
              <a:t>http://www.the-world.ru/english-language/gram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915640" y="54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спольз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Apostrophe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7" name="Содержимое 3"/>
          <p:cNvGraphicFramePr/>
          <p:nvPr/>
        </p:nvGraphicFramePr>
        <p:xfrm>
          <a:off x="179280" y="1340640"/>
          <a:ext cx="8784720" cy="5340960"/>
        </p:xfrm>
        <a:graphic>
          <a:graphicData uri="http://schemas.openxmlformats.org/drawingml/2006/table">
            <a:tbl>
              <a:tblPr/>
              <a:tblGrid>
                <a:gridCol w="2928240"/>
                <a:gridCol w="2928240"/>
                <a:gridCol w="2928240"/>
              </a:tblGrid>
              <a:tr h="6112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АпострОф ставится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случаях использования притяжательного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бук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</a:tr>
              <a:tr h="309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brother’s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tudents'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children’s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I'm – 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cause – because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he's – sh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99 –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 ’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14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"/>
          <p:cNvSpPr/>
          <p:nvPr/>
        </p:nvSpPr>
        <p:spPr>
          <a:xfrm>
            <a:off x="17964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7"/>
          <p:cNvSpPr/>
          <p:nvPr/>
        </p:nvSpPr>
        <p:spPr>
          <a:xfrm>
            <a:off x="478800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парные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8"/>
          <p:cNvSpPr/>
          <p:nvPr/>
        </p:nvSpPr>
        <p:spPr>
          <a:xfrm>
            <a:off x="17964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Разделяет ОЧП с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but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или парным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not  only …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but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c000"/>
                </a:solidFill>
                <a:latin typeface="Georgia"/>
              </a:rPr>
              <a:t>Comma</a:t>
            </a:r>
            <a:br>
              <a:rPr sz="4000"/>
            </a:br>
            <a:r>
              <a:rPr b="1" lang="ru-RU" sz="31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</a:t>
            </a:r>
            <a:endParaRPr b="0" lang="ru-RU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292000" y="2061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Овал 20"/>
          <p:cNvSpPr/>
          <p:nvPr/>
        </p:nvSpPr>
        <p:spPr>
          <a:xfrm>
            <a:off x="478800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Ставиться перед последним из трех и более ОЧП, если перед ним стоит союз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1"/>
          <p:cNvSpPr/>
          <p:nvPr/>
        </p:nvSpPr>
        <p:spPr>
          <a:xfrm>
            <a:off x="107640" y="3069000"/>
            <a:ext cx="4248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She shook her head, dried the dishes herself, sat down with some mending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2"/>
          <p:cNvSpPr/>
          <p:nvPr/>
        </p:nvSpPr>
        <p:spPr>
          <a:xfrm>
            <a:off x="179640" y="4077000"/>
            <a:ext cx="4176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Not only hope, but confidence has been restored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Nesfield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3"/>
          <p:cNvSpPr/>
          <p:nvPr/>
        </p:nvSpPr>
        <p:spPr>
          <a:xfrm>
            <a:off x="4860000" y="4149000"/>
            <a:ext cx="4032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They have forgotten time and place, and life and death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4"/>
          <p:cNvSpPr/>
          <p:nvPr/>
        </p:nvSpPr>
        <p:spPr>
          <a:xfrm>
            <a:off x="4788000" y="3069000"/>
            <a:ext cx="4104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 lighted his cigarette, said good night (,) and went on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 выделяет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40" y="1340640"/>
            <a:ext cx="8928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Скругленный прямоугольник 3"/>
          <p:cNvSpPr/>
          <p:nvPr/>
        </p:nvSpPr>
        <p:spPr>
          <a:xfrm>
            <a:off x="323640" y="177264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Georgia"/>
              </a:rPr>
              <a:t>Вводные слова Словосочетания  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4"/>
          <p:cNvSpPr/>
          <p:nvPr/>
        </p:nvSpPr>
        <p:spPr>
          <a:xfrm>
            <a:off x="4860000" y="429300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Самостоятельные причастные об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860000" y="177264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23640" y="429300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Междоме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с двумя скругленными противолежащими углами 8"/>
          <p:cNvSpPr/>
          <p:nvPr/>
        </p:nvSpPr>
        <p:spPr>
          <a:xfrm>
            <a:off x="53964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n fact, she marked the change in his face with satisfaction. 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с двумя скругленными противолежащими углами 9"/>
          <p:cNvSpPr/>
          <p:nvPr/>
        </p:nvSpPr>
        <p:spPr>
          <a:xfrm>
            <a:off x="514800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Arthur, have you thought what you are saying?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с двумя скругленными противолежащими углами 10"/>
          <p:cNvSpPr/>
          <p:nvPr/>
        </p:nvSpPr>
        <p:spPr>
          <a:xfrm>
            <a:off x="53964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h, I haven’t seen you for 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с двумя скругленными противолежащими углами 11"/>
          <p:cNvSpPr/>
          <p:nvPr/>
        </p:nvSpPr>
        <p:spPr>
          <a:xfrm>
            <a:off x="507600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door being open, we look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2"/>
          <p:cNvSpPr/>
          <p:nvPr/>
        </p:nvSpPr>
        <p:spPr>
          <a:xfrm>
            <a:off x="233964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0" name="Стрелка вниз 14"/>
          <p:cNvSpPr/>
          <p:nvPr/>
        </p:nvSpPr>
        <p:spPr>
          <a:xfrm>
            <a:off x="680436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1" name="Стрелка вниз 15"/>
          <p:cNvSpPr/>
          <p:nvPr/>
        </p:nvSpPr>
        <p:spPr>
          <a:xfrm>
            <a:off x="226764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2" name="Стрелка вниз 16"/>
          <p:cNvSpPr/>
          <p:nvPr/>
        </p:nvSpPr>
        <p:spPr>
          <a:xfrm>
            <a:off x="687636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12"/>
          <p:cNvSpPr/>
          <p:nvPr/>
        </p:nvSpPr>
        <p:spPr>
          <a:xfrm>
            <a:off x="5436000" y="5229360"/>
            <a:ext cx="345564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25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1, 245,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7"/>
          <p:cNvSpPr/>
          <p:nvPr/>
        </p:nvSpPr>
        <p:spPr>
          <a:xfrm>
            <a:off x="5148000" y="4581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Ставится в больших 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11"/>
          <p:cNvSpPr/>
          <p:nvPr/>
        </p:nvSpPr>
        <p:spPr>
          <a:xfrm>
            <a:off x="971640" y="4653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Robert Burns was born on January 25, 17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971640" y="2133000"/>
            <a:ext cx="3816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, Martin Eden, was a better man than that fellow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0"/>
          <p:cNvSpPr/>
          <p:nvPr/>
        </p:nvSpPr>
        <p:spPr>
          <a:xfrm>
            <a:off x="5076000" y="2421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len looks good, doesn'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простых предложениях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Овал 3"/>
          <p:cNvSpPr/>
          <p:nvPr/>
        </p:nvSpPr>
        <p:spPr>
          <a:xfrm>
            <a:off x="251640" y="1484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В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ыдел</a:t>
            </a: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яет 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"/>
          <p:cNvSpPr/>
          <p:nvPr/>
        </p:nvSpPr>
        <p:spPr>
          <a:xfrm>
            <a:off x="251640" y="3933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Отделяет год от числа и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8"/>
          <p:cNvSpPr/>
          <p:nvPr/>
        </p:nvSpPr>
        <p:spPr>
          <a:xfrm>
            <a:off x="4860000" y="1917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Используется в разделительных вопро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 сложносочиненном предложени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92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остые предложения, объединенные в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сложносочиненное без союзов, всегда разделяю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ой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rain fell softly, the house was quiet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Collins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 сложносочиненном предложении запятая стави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еред сочинительным союзом, разделяющим прост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darkness was thinning, but the street was still dimly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lighted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Lindsay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ая не ставится перед союзам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AND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R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, если он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водят короткие 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I asked Mary to help me and she nodded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3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3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30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3000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3000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Full Stop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7" name="Содержимое 3"/>
          <p:cNvGraphicFramePr/>
          <p:nvPr/>
        </p:nvGraphicFramePr>
        <p:xfrm>
          <a:off x="251640" y="980640"/>
          <a:ext cx="8712720" cy="6116400"/>
        </p:xfrm>
        <a:graphic>
          <a:graphicData uri="http://schemas.openxmlformats.org/drawingml/2006/table">
            <a:tbl>
              <a:tblPr/>
              <a:tblGrid>
                <a:gridCol w="2337480"/>
                <a:gridCol w="2125080"/>
                <a:gridCol w="2125080"/>
                <a:gridCol w="2125080"/>
              </a:tblGrid>
              <a:tr h="597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49" strike="noStrike">
                          <a:solidFill>
                            <a:srgbClr val="fefefe"/>
                          </a:solidFill>
                          <a:latin typeface="Georgia"/>
                        </a:rPr>
                        <a:t>Точка ставитс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овествовательных и повелительных 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ри сокращении с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сятичных дроб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нежных един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веб-адре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377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breakfast is rea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Sit down to table, ple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etc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(лат. </a:t>
                      </a:r>
                      <a:r>
                        <a:rPr b="1" i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et cetera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 – и так да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a.m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 (лат. </a:t>
                      </a:r>
                      <a:r>
                        <a:rPr b="1" i="1" lang="la-VA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ante meridiem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 — до полу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(mister) –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госпо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Prof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Prof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Oct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Octo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Co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-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0.65 – nought point six five /point six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.25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ree point two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£ 5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$15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€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www.engblog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640" y="620640"/>
            <a:ext cx="82292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000" cy="51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не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подлежащи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сказуемы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ПП дополнитель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want to do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is to save us both.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’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ll do just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say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Dreiser)                                                                                             (Dreiser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Our attitude simply is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Georgia"/>
              </a:rPr>
              <a:t>that facts are facts.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Georgia"/>
              </a:rPr>
              <a:t>(Leacock)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пределительные: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индивидуализирующие                             после главного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классифицирующи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amuel was the first person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You can stay her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long  I met in the passage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                                          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you w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Collins)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                                                                  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Hemingway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26" name="Прямая со стрелкой 5"/>
          <p:cNvCxnSpPr/>
          <p:nvPr/>
        </p:nvCxnSpPr>
        <p:spPr>
          <a:xfrm flipH="1">
            <a:off x="1259280" y="2060640"/>
            <a:ext cx="36072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7" name="Прямая со стрелкой 8"/>
          <p:cNvCxnSpPr/>
          <p:nvPr/>
        </p:nvCxnSpPr>
        <p:spPr>
          <a:xfrm>
            <a:off x="7164000" y="2060640"/>
            <a:ext cx="360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8" name="Прямая со стрелкой 12"/>
          <p:cNvCxnSpPr/>
          <p:nvPr/>
        </p:nvCxnSpPr>
        <p:spPr>
          <a:xfrm>
            <a:off x="4860000" y="2204640"/>
            <a:ext cx="360" cy="792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9" name="Прямая со стрелкой 14"/>
          <p:cNvCxnSpPr/>
          <p:nvPr/>
        </p:nvCxnSpPr>
        <p:spPr>
          <a:xfrm>
            <a:off x="1547640" y="4941000"/>
            <a:ext cx="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30" name="Прямая со стрелкой 19"/>
          <p:cNvCxnSpPr/>
          <p:nvPr/>
        </p:nvCxnSpPr>
        <p:spPr>
          <a:xfrm>
            <a:off x="6732000" y="4725000"/>
            <a:ext cx="360" cy="504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7640" y="1556640"/>
            <a:ext cx="4388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 определитель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(дополнительные сведени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 известном собеседника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едмете или лице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Mr. Prusty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o kept no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sist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slowly got off hi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tool.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We went to the lake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ich wa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very stormy that day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56640"/>
            <a:ext cx="4316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ред главны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If he is not here by the end of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the week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I shall go after him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Austen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lthough the young man’s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eyes remained upon him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he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did not speak…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79640" y="836640"/>
            <a:ext cx="856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Грамматика английского языка. Пособие для студентов педагогических институтов / В. Л. Каушанская, Р. Л. Ковнер, О. Н. Кожевникова, Е. В. Прокофьева и др. М.: Айрис-пресс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 язык. Грамматика / Т.Б. Клементьева М.: Оли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Хатбер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1"/>
              </a:rPr>
              <a:t>www.engb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: правила произношения и чтения, грамма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разговорный язык/ Василье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2"/>
              </a:rPr>
              <a:t>www.englishon-line</a:t>
            </a: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3"/>
              </a:rPr>
              <a:t>www.the-worl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www.</a:t>
            </a: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4"/>
              </a:rPr>
              <a:t>greatstud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649440"/>
            <a:ext cx="9143640" cy="606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   </a:t>
            </a:r>
            <a:r>
              <a:rPr b="0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Точка не став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если сокращение  включает в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последнюю букву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t (Street), Rd (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в заголовках,  названиях книг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други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ummer School Begins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he Seven Poor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rav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Going in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Question Mark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856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41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просительный знак ставится</a:t>
            </a:r>
            <a:endParaRPr b="0" lang="ru-RU" sz="4100" spc="-1" strike="noStrike">
              <a:solidFill>
                <a:srgbClr val="000000"/>
              </a:solidFill>
              <a:latin typeface="Georgia"/>
            </a:endParaRPr>
          </a:p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ru-RU" sz="35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выражающих вопро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ere is the nearest exchange office, pleas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as the first car built in Germany, the United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States or Franc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если в предложении кроме косвенного вопроса есть</a:t>
            </a: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опрос к собеседнику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Did you ask him at what time the train arrives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But!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Georgia"/>
              </a:rPr>
              <a:t>She asked him at what time the train arrives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251640" y="5589360"/>
            <a:ext cx="791640" cy="575640"/>
          </a:xfrm>
          <a:prstGeom prst="rect">
            <a:avLst/>
          </a:prstGeom>
          <a:noFill/>
          <a:ln w="5715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Exclamation Mark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7640" y="1772640"/>
            <a:ext cx="8856720" cy="48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склицательный знак ставится 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произносимых 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увством радости, восхищения, удивле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очувствия, возмущения, негодова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тчаяния и т.д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at a fine day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How beautiful she is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I can’t do it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Inverted Commas 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Овал 3"/>
          <p:cNvSpPr/>
          <p:nvPr/>
        </p:nvSpPr>
        <p:spPr>
          <a:xfrm>
            <a:off x="611640" y="1556640"/>
            <a:ext cx="360000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Ци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4"/>
          <p:cNvSpPr/>
          <p:nvPr/>
        </p:nvSpPr>
        <p:spPr>
          <a:xfrm>
            <a:off x="4860000" y="1556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Прям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6"/>
          <p:cNvSpPr/>
          <p:nvPr/>
        </p:nvSpPr>
        <p:spPr>
          <a:xfrm>
            <a:off x="2123640" y="2493000"/>
            <a:ext cx="61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8" name="Стрелка вниз 7"/>
          <p:cNvSpPr/>
          <p:nvPr/>
        </p:nvSpPr>
        <p:spPr>
          <a:xfrm>
            <a:off x="6372360" y="2493000"/>
            <a:ext cx="611640" cy="719640"/>
          </a:xfrm>
          <a:prstGeom prst="downArrow">
            <a:avLst>
              <a:gd name="adj1" fmla="val 50000"/>
              <a:gd name="adj2" fmla="val 4434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395640" y="3213000"/>
            <a:ext cx="395964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The Government declared: “The problem will be discussed next mon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0"/>
          <p:cNvSpPr/>
          <p:nvPr/>
        </p:nvSpPr>
        <p:spPr>
          <a:xfrm>
            <a:off x="4788000" y="3213000"/>
            <a:ext cx="396000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  <a:ea typeface="Calibri"/>
              </a:rPr>
              <a:t>He said, “They’ll call us when they arriv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899640" y="4509000"/>
            <a:ext cx="7344360" cy="1944000"/>
          </a:xfrm>
          <a:prstGeom prst="rect">
            <a:avLst/>
          </a:prstGeom>
          <a:solidFill>
            <a:srgbClr val="968c8c"/>
          </a:solidFill>
          <a:ln>
            <a:solidFill>
              <a:srgbClr val="6e6767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В английском языке кавычки, обозначающие начало фразы или цитаты, ставятся сверху, на одном уровне с кавычками в ко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прямой речи знак препинания ставится внутри кавы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верх 16"/>
          <p:cNvSpPr/>
          <p:nvPr/>
        </p:nvSpPr>
        <p:spPr>
          <a:xfrm>
            <a:off x="248364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3" name="Стрелка вверх 17"/>
          <p:cNvSpPr/>
          <p:nvPr/>
        </p:nvSpPr>
        <p:spPr>
          <a:xfrm>
            <a:off x="622836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2051640" y="98064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Кавычки ст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56" name="Содержимое 3"/>
          <p:cNvGraphicFramePr/>
          <p:nvPr/>
        </p:nvGraphicFramePr>
        <p:xfrm>
          <a:off x="467640" y="1052640"/>
          <a:ext cx="8373240" cy="6418440"/>
        </p:xfrm>
        <a:graphic>
          <a:graphicData uri="http://schemas.openxmlformats.org/drawingml/2006/table">
            <a:tbl>
              <a:tblPr/>
              <a:tblGrid>
                <a:gridCol w="2093400"/>
                <a:gridCol w="2093400"/>
                <a:gridCol w="2093400"/>
                <a:gridCol w="2093400"/>
              </a:tblGrid>
              <a:tr h="636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49" strike="noStrike">
                          <a:ln>
                            <a:solidFill>
                              <a:srgbClr val="1d242a">
                                <a:alpha val="6000"/>
                              </a:srgbClr>
                            </a:solidFill>
                          </a:ln>
                          <a:solidFill>
                            <a:srgbClr val="ffffff"/>
                          </a:solidFill>
                          <a:latin typeface="Georgia"/>
                        </a:rPr>
                        <a:t>Двоеточие стави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цит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длинной прямой речью (больше одного простого нераспространенного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перечисляемыми однородными членами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редложения, если дальше следует пояснение или уточнение смысла основного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237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Government declared: “The new project will be discussed next month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I asked: “How old were you when this portrait was painted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re were many sources of noise in the street: cars and buses, lorries and motorcyc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He had one final aim before him: to help his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430920" y="836640"/>
            <a:ext cx="87127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Двоеточие не ст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В случае короткой прямой речи вместо двоеточия нужно ставить запя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The apples in this tree are all red”, he s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She said to them, “Good-by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3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Semi</a:t>
            </a: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-</a:t>
            </a: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928720" cy="53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539640" y="1772640"/>
            <a:ext cx="3816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ставится между грамматически разделенными сложносочиненными предложениями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при отсутствии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5"/>
          <p:cNvSpPr/>
          <p:nvPr/>
        </p:nvSpPr>
        <p:spPr>
          <a:xfrm>
            <a:off x="4932000" y="1772640"/>
            <a:ext cx="3815640" cy="17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разделяет пункты перечисления, если они грамматически сложны для обычной запя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17964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 spoke to Kate on Friday; she is not going to come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464400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signal was given; the steamer moved slowly from the d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низ 9"/>
          <p:cNvSpPr/>
          <p:nvPr/>
        </p:nvSpPr>
        <p:spPr>
          <a:xfrm>
            <a:off x="212364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5" name="Стрелка вниз 10"/>
          <p:cNvSpPr/>
          <p:nvPr/>
        </p:nvSpPr>
        <p:spPr>
          <a:xfrm>
            <a:off x="658836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915640" y="980640"/>
            <a:ext cx="3744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Точка с запято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081</TotalTime>
  <Application>LibreOffice/7.4.7.2$Linux_X86_64 LibreOffice_project/40$Build-2</Application>
  <AppVersion>15.0000</AppVersion>
  <Words>1167</Words>
  <Paragraphs>285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01:41Z</dcterms:created>
  <dc:creator>Valera</dc:creator>
  <dc:description/>
  <dc:language>en-US</dc:language>
  <cp:lastModifiedBy>Valera</cp:lastModifiedBy>
  <dcterms:modified xsi:type="dcterms:W3CDTF">2014-11-15T14:57:24Z</dcterms:modified>
  <cp:revision>111</cp:revision>
  <dc:subject/>
  <dc:title>Пунктуация в английском я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