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_rels/chart1.xml.rels" ContentType="application/vnd.openxmlformats-package.relationships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charts/_rels/chart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Продажи</c:v>
                </c:pt>
              </c:strCache>
            </c:strRef>
          </c:tx>
          <c:spPr>
            <a:blipFill rotWithShape="0">
              <a:blip r:embed="rId1"/>
              <a:tile tx="0" ty="0" sx="39995" sy="39997" algn="tl"/>
            </a:blipFill>
            <a:ln w="0">
              <a:noFill/>
            </a:ln>
          </c:spPr>
          <c:explosion val="25"/>
          <c:dPt>
            <c:idx val="0"/>
            <c:explosion val="25"/>
            <c:spPr>
              <a:blipFill rotWithShape="0">
                <a:blip r:embed="rId2"/>
                <a:tile tx="0" ty="0" sx="39995" sy="39997" algn="tl"/>
              </a:blipFill>
              <a:ln w="0">
                <a:noFill/>
              </a:ln>
            </c:spPr>
          </c:dPt>
          <c:dPt>
            <c:idx val="1"/>
            <c:explosion val="25"/>
            <c:spPr>
              <a:blipFill rotWithShape="0">
                <a:blip r:embed="rId3"/>
                <a:tile tx="0" ty="0" sx="39995" sy="39997" algn="tl"/>
              </a:blipFill>
              <a:ln w="0">
                <a:noFill/>
              </a:ln>
            </c:spPr>
          </c:dPt>
          <c:dPt>
            <c:idx val="2"/>
            <c:explosion val="25"/>
            <c:spPr>
              <a:blipFill rotWithShape="0">
                <a:blip r:embed="rId4"/>
                <a:tile tx="0" ty="0" sx="39995" sy="39997" algn="tl"/>
              </a:blip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Constantia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0"/>
          </c:dLbls>
          <c:cat>
            <c:strRef>
              <c:f>categories</c:f>
              <c:strCache>
                <c:ptCount val="3"/>
                <c:pt idx="0">
                  <c:v>за допомогою слів - 7%</c:v>
                </c:pt>
                <c:pt idx="1">
                  <c:v>звуковими засобами - 38%</c:v>
                </c:pt>
                <c:pt idx="2">
                  <c:v>за допомогою міміки, жестів і поз 55%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07</c:v>
                </c:pt>
                <c:pt idx="1">
                  <c:v>0.38</c:v>
                </c:pt>
                <c:pt idx="2">
                  <c:v>0.55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587156605424322"/>
          <c:y val="0.179817804024497"/>
          <c:w val="0.403584135316419"/>
          <c:h val="0.69314216972878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lang="ru-RU" sz="2400" spc="-1" strike="noStrike">
              <a:solidFill>
                <a:srgbClr val="ffffff"/>
              </a:solidFill>
              <a:latin typeface="Constantia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A539-C5E4-4E83-B385-B7955567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6995-346D-4240-AE0D-CC5BCAA9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9605-616D-4CB1-BB44-258BA310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8609-2CA5-4F6F-91C9-CC700F87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CDF9-3F05-4170-A089-F61959B4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E5BB-BF5E-4A19-BB63-4C9E7BFE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A990-EE80-4D2E-AEDB-8F8C816C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3254-3221-4663-85B0-08207B33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3321-1A9A-454D-900B-2A099BAE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18FA-05B4-4ECA-A16C-87CF14E4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4B83-39F9-4B0D-AD7F-1E49014A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7E145-5D26-43E8-BBDB-A19CA664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A1AF-F529-457A-8CC6-A652AD44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A5FA-1F55-49BB-B38E-A3C4239C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2836-02FD-49D7-9587-AE9F226E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BE2D-A427-4D3F-B210-FB8DBB86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DE85-8441-4A28-AD6C-2EB8FEFA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F38E-C436-4F5C-805F-5AEB4DA9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2F674-3E60-4681-8AE0-0FCD241A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67B58-62FD-4529-A1DC-9DBC9271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AEC2-BE52-4D7E-AA0B-F21C67F7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F273-1BAB-4798-8C40-CAC32AC1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08511-7D60-43DB-BD54-2E213F81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D1981-281E-45C8-8403-5C3748E7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0" name="Прямая соединительная линия 3"/>
          <p:cNvCxnSpPr/>
          <p:nvPr/>
        </p:nvCxnSpPr>
        <p:spPr>
          <a:xfrm>
            <a:off x="1463400" y="354960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1" name="Прямая соединительная линия 4"/>
          <p:cNvCxnSpPr/>
          <p:nvPr/>
        </p:nvCxnSpPr>
        <p:spPr>
          <a:xfrm>
            <a:off x="4708440" y="354960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2" name="Овал 5"/>
          <p:cNvSpPr/>
          <p:nvPr/>
        </p:nvSpPr>
        <p:spPr>
          <a:xfrm>
            <a:off x="4540320" y="3525840"/>
            <a:ext cx="45720" cy="4572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88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BC9085D-0BF2-45D0-8B0C-51577262D3B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88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10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lnSpc>
                <a:spcPct val="100000"/>
              </a:lnSpc>
              <a:spcBef>
                <a:spcPts val="337"/>
              </a:spcBef>
              <a:buClr>
                <a:srgbClr val="d6903d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88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133720" y="620388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B1D9521-A554-4E60-93DD-2655A141908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23640" y="2565000"/>
            <a:ext cx="5184360" cy="2340720"/>
          </a:xfrm>
          <a:prstGeom prst="rect">
            <a:avLst/>
          </a:prstGeom>
          <a:gradFill rotWithShape="0">
            <a:gsLst>
              <a:gs pos="0">
                <a:srgbClr val="ffc89e"/>
              </a:gs>
              <a:gs pos="100000">
                <a:srgbClr val="ffece1"/>
              </a:gs>
            </a:gsLst>
            <a:path path="circle">
              <a:fillToRect l="50000" t="50000" r="50000" b="50000"/>
            </a:path>
          </a:gradFill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00" strike="noStrike">
                <a:solidFill>
                  <a:schemeClr val="accent2">
                    <a:lumMod val="50000"/>
                  </a:schemeClr>
                </a:solidFill>
                <a:latin typeface="Constantia"/>
              </a:rPr>
              <a:t>НЕВЕРБАЛЬНІ ЗАСОБИ СПІЛКУВАННЯ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5400" spc="-100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nstantia"/>
              </a:rPr>
              <a:t>ПЕЧАЛЬ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0" y="1844640"/>
            <a:ext cx="4571640" cy="4571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57164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5400" spc="-100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nstantia"/>
              </a:rPr>
              <a:t>ПОДИВ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0" y="1773360"/>
            <a:ext cx="4571640" cy="45716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2"/>
          <a:stretch/>
        </p:blipFill>
        <p:spPr>
          <a:xfrm>
            <a:off x="4575240" y="1773360"/>
            <a:ext cx="457164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5400" spc="-100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nstantia"/>
              </a:rPr>
              <a:t>ПРЕЗИРСТВО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9" name="Рисунок 3" descr=""/>
          <p:cNvPicPr/>
          <p:nvPr/>
        </p:nvPicPr>
        <p:blipFill>
          <a:blip r:embed="rId1"/>
          <a:stretch/>
        </p:blipFill>
        <p:spPr>
          <a:xfrm>
            <a:off x="17640" y="1700280"/>
            <a:ext cx="4571640" cy="4571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2"/>
          <a:stretch/>
        </p:blipFill>
        <p:spPr>
          <a:xfrm>
            <a:off x="4589640" y="1700280"/>
            <a:ext cx="457164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4365000"/>
            <a:ext cx="8834400" cy="249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accent2">
                    <a:lumMod val="50000"/>
                  </a:schemeClr>
                </a:solidFill>
                <a:latin typeface="Constantia"/>
              </a:rPr>
              <a:t>Погляд, спрямований у трикутник, вершиною якого є точка посередині чола, а основою - лінія між очима, є </a:t>
            </a:r>
            <a:r>
              <a:rPr b="0" lang="ru-RU" sz="26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Constantia"/>
              </a:rPr>
              <a:t>діловим</a:t>
            </a:r>
            <a:r>
              <a:rPr b="0" lang="ru-RU" sz="2600" spc="-1" strike="noStrike">
                <a:solidFill>
                  <a:schemeClr val="accent2">
                    <a:lumMod val="50000"/>
                  </a:schemeClr>
                </a:solidFill>
                <a:latin typeface="Constantia"/>
              </a:rPr>
              <a:t>. Він не опускається нижче очей. Якщо погляд фіксується нижче лінії очей - то це </a:t>
            </a:r>
            <a:r>
              <a:rPr b="0" lang="ru-RU" sz="26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Constantia"/>
              </a:rPr>
              <a:t>соціальний</a:t>
            </a:r>
            <a:r>
              <a:rPr b="0" lang="ru-RU" sz="2600" spc="-1" strike="noStrike">
                <a:solidFill>
                  <a:schemeClr val="accent2">
                    <a:lumMod val="50000"/>
                  </a:schemeClr>
                </a:solidFill>
                <a:latin typeface="Constantia"/>
              </a:rPr>
              <a:t> погляд. </a:t>
            </a:r>
            <a:r>
              <a:rPr b="0" lang="ru-RU" sz="26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Constantia"/>
              </a:rPr>
              <a:t>Інтимний </a:t>
            </a:r>
            <a:r>
              <a:rPr b="0" lang="ru-RU" sz="2600" spc="-1" strike="noStrike">
                <a:solidFill>
                  <a:schemeClr val="accent2">
                    <a:lumMod val="50000"/>
                  </a:schemeClr>
                </a:solidFill>
                <a:latin typeface="Constantia"/>
              </a:rPr>
              <a:t>погляд спрямовується в трикутник між очима і грудьм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0" y="260640"/>
            <a:ext cx="8964000" cy="1367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00" strike="noStrike">
                <a:solidFill>
                  <a:schemeClr val="accent3">
                    <a:lumMod val="50000"/>
                  </a:schemeClr>
                </a:solidFill>
                <a:latin typeface="Constantia"/>
              </a:rPr>
              <a:t>З мімікою тісно пов'язаний візуальний контакт, тобто погляд, що становить важливу частину спілкування. Розрізняють діловий, світський та інтимний погляди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7120" y="1143000"/>
            <a:ext cx="8500680" cy="557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ИДИ: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итмічні жести дублюють інтонацію, виокремлюють певні частини висловлювання, підкреслюють логічний наголос, зміну темпу мовлення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Емоційні жести передають найрізноманітніші відтінки почуттів: подив, радість, захоплення, роздратування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казівні жести виконують функцію виділення якогось предмета серед однорідних. 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Зображувальними жестами відтворюють предмети, тварин, інших людей (їхню форму, рухи, розміри). 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Жести-символи інформують про певні дії, властивості, наміри. До жестів-символів належать умовні жести вітання, прощання, заклик до мовлення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95328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8a1c"/>
                </a:solidFill>
                <a:latin typeface="Constantia"/>
              </a:rPr>
              <a:t>Жести - це виражальні рухи рук, що передають внутрішній стан людини.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640" y="4293000"/>
            <a:ext cx="5698440" cy="230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альці рук зціплені - знак розчарування і бажання співрозмовника приховати своє негативне ставлення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67640" y="40464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800" spc="-1" strike="noStrike">
                <a:solidFill>
                  <a:srgbClr val="ff8a1c"/>
                </a:solidFill>
                <a:latin typeface="Constantia"/>
              </a:rPr>
              <a:t>Поширені жести і їх тлумачення: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797440" y="116640"/>
            <a:ext cx="3322800" cy="360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nstantia"/>
              </a:rPr>
              <a:t>прикривання рота рукою - слухач розуміє, що ви говорите неправду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067280" y="1523880"/>
            <a:ext cx="4619160" cy="457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почухування і потирання вуха - співрозмовник наслухався і хоче висловитися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9" name="Рисунок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598560" cy="55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1560" y="1468800"/>
            <a:ext cx="4114440" cy="410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потирання скронь, підборіддя, прикривання обличчя руками - особа не налаштована розмовляти в цей момент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107960" cy="59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297320" y="1756080"/>
            <a:ext cx="4389120" cy="327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людина відводить очі - підтвердження того, що вона щось приховує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0168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640" y="2421000"/>
            <a:ext cx="8496720" cy="3882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00" strike="noStrike">
                <a:solidFill>
                  <a:srgbClr val="fdf69c"/>
                </a:solidFill>
                <a:latin typeface="Constantia"/>
              </a:rPr>
              <a:t>Невербальні засоби спілкування - це система немовних знаків, що слугують засобами для обміну інформацією між людьми.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3635640" cy="3860640"/>
          </a:xfrm>
          <a:prstGeom prst="rect">
            <a:avLst/>
          </a:prstGeom>
          <a:solidFill>
            <a:srgbClr val="ffcc99">
              <a:alpha val="61000"/>
            </a:srgbClr>
          </a:solidFill>
          <a:ln w="0">
            <a:noFill/>
          </a:ln>
        </p:spPr>
        <p:txBody>
          <a:bodyPr numCol="1" spcCol="0"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nstantia"/>
              </a:rPr>
              <a:t>схрещення рук на грудях - людина нервує, краще закінчити розмову чи перейти на іншу тему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24640"/>
            <a:ext cx="4392720" cy="266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onstantia"/>
              </a:rPr>
              <a:t>відтягування комірця - людина гнівається або дуже схвильована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127640" cy="4896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301240" cy="2370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onstantia"/>
              </a:rPr>
              <a:t>Поза - це мимовільна або зумисна постава тіла, яку приймає людина. </a:t>
            </a:r>
            <a:r>
              <a:rPr b="1" lang="ru-RU" sz="3600" spc="-100" strike="noStrike">
                <a:solidFill>
                  <a:schemeClr val="accent2">
                    <a:lumMod val="50000"/>
                  </a:schemeClr>
                </a:solidFill>
                <a:latin typeface="Constantia"/>
              </a:rPr>
              <a:t>Вирізняють "закриті" й "відкриті" пози. 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7640" y="1412640"/>
            <a:ext cx="8229240" cy="2736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домінантним (долоня розвернута вниз);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покірним (долоня розвернута вверх);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рівноправним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00" strike="noStrike">
                <a:solidFill>
                  <a:srgbClr val="f9f9f9"/>
                </a:solidFill>
                <a:latin typeface="Constantia"/>
              </a:rPr>
              <a:t>Потиск руки може бути трьох типів: 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187640" y="3141000"/>
            <a:ext cx="69123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7640" y="2061000"/>
            <a:ext cx="8229240" cy="432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інтимна (від 0 до 45 см) - спілкування з дітьми, дружиною, коханими, коханими, найближчими друзями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особиста (від 45 до 120 см) - спілкування під час зустрічей, на вечірках, у кулуарах конференцій тощо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оціальна (суспільна) (від 120 до 400 см) - міжособистісне спілкування з малознайомими людьми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громадська (відкрита) (від 400 до 750 см) виступ лектора перед аудиторією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23640" y="69264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00" strike="noStrike">
                <a:solidFill>
                  <a:srgbClr val="f9f9f9"/>
                </a:solidFill>
                <a:latin typeface="Constantia"/>
              </a:rPr>
              <a:t> </a:t>
            </a:r>
            <a:r>
              <a:rPr b="1" lang="ru-RU" sz="4400" spc="-100" strike="noStrike">
                <a:solidFill>
                  <a:srgbClr val="f9f9f9"/>
                </a:solidFill>
                <a:latin typeface="Constantia"/>
              </a:rPr>
              <a:t>Виокремлюють чотири дистанції між учасниками спілкувального акту:</a:t>
            </a:r>
            <a:endParaRPr b="0" lang="ru-RU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35640" y="980640"/>
            <a:ext cx="5688360" cy="23760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200" spc="-100" strike="noStrike">
                <a:solidFill>
                  <a:srgbClr val="f9f9f9"/>
                </a:solidFill>
                <a:latin typeface="Constantia"/>
              </a:rPr>
              <a:t>ДЯКУЮ ЗА УВАГУ!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Объект 3"/>
          <p:cNvGraphicFramePr/>
          <p:nvPr/>
        </p:nvGraphicFramePr>
        <p:xfrm>
          <a:off x="457200" y="1523880"/>
          <a:ext cx="8229240" cy="4571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200" spc="-100" strike="noStrike">
                <a:solidFill>
                  <a:srgbClr val="f9f9f9"/>
                </a:solidFill>
                <a:latin typeface="Constantia"/>
              </a:rPr>
              <a:t>Кількість інформації, що передається: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7640" y="4365000"/>
            <a:ext cx="8229240" cy="2265120"/>
          </a:xfrm>
          <a:prstGeom prst="rect">
            <a:avLst/>
          </a:prstGeom>
          <a:solidFill>
            <a:srgbClr val="663300">
              <a:alpha val="41000"/>
            </a:srgbClr>
          </a:solidFill>
          <a:ln w="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cf059"/>
                </a:solidFill>
                <a:latin typeface="Constantia"/>
              </a:rPr>
              <a:t>   </a:t>
            </a:r>
            <a:r>
              <a:rPr b="1" lang="ru-RU" sz="2800" spc="-1" strike="noStrike">
                <a:solidFill>
                  <a:srgbClr val="fcf059"/>
                </a:solidFill>
                <a:latin typeface="Constantia"/>
              </a:rPr>
              <a:t>На думку американських вчених, для формування першого враження від співрозмовника важливими є перші ЧОТИРИ хвилини зустрічі, а деякі вважають, що досить і ДВОХ хвилин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77720" y="4149000"/>
            <a:ext cx="6860520" cy="2448360"/>
          </a:xfrm>
          <a:prstGeom prst="rect">
            <a:avLst/>
          </a:prstGeom>
          <a:solidFill>
            <a:srgbClr val="663300">
              <a:alpha val="62000"/>
            </a:srgbClr>
          </a:solidFill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nstantia"/>
              </a:rPr>
              <a:t>Кінетичні невербальні засоби  (жести, пози, міміка) є найважливішими у спілкуванні.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nstantia"/>
              </a:rPr>
              <a:t>Серед них важлива роль відводиться міміці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640" y="3069000"/>
            <a:ext cx="8229240" cy="2882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Міміка репрезентує шість основних емоційних станів: 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гнів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радість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трах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ечаль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одив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зирство. 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95640" y="332640"/>
            <a:ext cx="8229240" cy="2298960"/>
          </a:xfrm>
          <a:prstGeom prst="rect">
            <a:avLst/>
          </a:prstGeom>
          <a:solidFill>
            <a:srgbClr val="663300">
              <a:alpha val="54000"/>
            </a:srgbClr>
          </a:solidFill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00" strike="noStrike">
                <a:solidFill>
                  <a:srgbClr val="fcf059"/>
                </a:solidFill>
                <a:latin typeface="Constantia"/>
              </a:rPr>
              <a:t>Міміка - це експресивні рухи м'язів обличчя, що виражають психічний стан, почуття, настрій людини в певний момент часу.</a:t>
            </a:r>
            <a:endParaRPr b="0" lang="ru-RU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5400" spc="-100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nstantia"/>
              </a:rPr>
              <a:t>ГНІВ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0" y="1845000"/>
            <a:ext cx="4571640" cy="45507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"/>
          <p:cNvPicPr/>
          <p:nvPr/>
        </p:nvPicPr>
        <p:blipFill>
          <a:blip r:embed="rId2"/>
          <a:stretch/>
        </p:blipFill>
        <p:spPr>
          <a:xfrm>
            <a:off x="4572000" y="1845000"/>
            <a:ext cx="4571640" cy="45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5400" spc="-100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nstantia"/>
              </a:rPr>
              <a:t>РАДІСТЬ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0" y="1557360"/>
            <a:ext cx="4571640" cy="4571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57164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5400" spc="-100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nstantia"/>
              </a:rPr>
              <a:t>СТРАХ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-15840" y="1916280"/>
            <a:ext cx="4571640" cy="4571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2"/>
          <a:stretch/>
        </p:blipFill>
        <p:spPr>
          <a:xfrm>
            <a:off x="4551480" y="1916280"/>
            <a:ext cx="457164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167</TotalTime>
  <Application>LibreOffice/7.4.7.2$Linux_X86_64 LibreOffice_project/40$Build-2</Application>
  <AppVersion>15.0000</AppVersion>
  <Words>524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22:38:11Z</dcterms:created>
  <dc:creator>Маргарита</dc:creator>
  <dc:description/>
  <dc:language>en-US</dc:language>
  <cp:lastModifiedBy>Євген</cp:lastModifiedBy>
  <dcterms:modified xsi:type="dcterms:W3CDTF">2017-03-01T16:58:34Z</dcterms:modified>
  <cp:revision>77</cp:revision>
  <dc:subject/>
  <dc:title>НЕВЕРБАЛЬНІ ЗАСОБИ СПІЛКУВАНН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5</vt:r8>
  </property>
</Properties>
</file>