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_rels/data4.xml.rels" ContentType="application/vnd.openxmlformats-package.relationships+xml"/>
  <Override PartName="/ppt/diagrams/data7.xml" ContentType="application/vnd.openxmlformats-officedocument.drawingml.diagramData+xml"/>
  <Override PartName="/ppt/diagrams/quickStyle7.xml" ContentType="application/vnd.openxmlformats-officedocument.drawingml.diagramStyle+xml"/>
  <Override PartName="/ppt/diagrams/colors6.xml" ContentType="application/vnd.openxmlformats-officedocument.drawingml.diagramColors+xml"/>
  <Override PartName="/ppt/diagrams/layout6.xml" ContentType="application/vnd.openxmlformats-officedocument.drawingml.diagramLayout+xml"/>
  <Override PartName="/ppt/diagrams/data6.xml" ContentType="application/vnd.openxmlformats-officedocument.drawingml.diagramData+xml"/>
  <Override PartName="/ppt/diagrams/quickStyle6.xml" ContentType="application/vnd.openxmlformats-officedocument.drawingml.diagramStyle+xml"/>
  <Override PartName="/ppt/diagrams/colors5.xml" ContentType="application/vnd.openxmlformats-officedocument.drawingml.diagramColors+xml"/>
  <Override PartName="/ppt/diagrams/layout5.xml" ContentType="application/vnd.openxmlformats-officedocument.drawingml.diagramLayout+xml"/>
  <Override PartName="/ppt/diagrams/data5.xml" ContentType="application/vnd.openxmlformats-officedocument.drawingml.diagramData+xml"/>
  <Override PartName="/ppt/diagrams/colors1.xml" ContentType="application/vnd.openxmlformats-officedocument.drawingml.diagramColors+xml"/>
  <Override PartName="/ppt/diagrams/quickStyle2.xml" ContentType="application/vnd.openxmlformats-officedocument.drawingml.diagramStyle+xml"/>
  <Override PartName="/ppt/diagrams/quickStyle3.xml" ContentType="application/vnd.openxmlformats-officedocument.drawingml.diagramStyle+xml"/>
  <Override PartName="/ppt/diagrams/data3.xml" ContentType="application/vnd.openxmlformats-officedocument.drawingml.diagramData+xml"/>
  <Override PartName="/ppt/diagrams/layout9.xml" ContentType="application/vnd.openxmlformats-officedocument.drawingml.diagramLayout+xml"/>
  <Override PartName="/ppt/diagrams/colors7.xml" ContentType="application/vnd.openxmlformats-officedocument.drawingml.diagramColors+xml"/>
  <Override PartName="/ppt/diagrams/quickStyle8.xml" ContentType="application/vnd.openxmlformats-officedocument.drawingml.diagramStyle+xml"/>
  <Override PartName="/ppt/diagrams/layout8.xml" ContentType="application/vnd.openxmlformats-officedocument.drawingml.diagramLayout+xml"/>
  <Override PartName="/ppt/diagrams/data2.xml" ContentType="application/vnd.openxmlformats-officedocument.drawingml.diagramData+xml"/>
  <Override PartName="/ppt/diagrams/colors8.xml" ContentType="application/vnd.openxmlformats-officedocument.drawingml.diagramColors+xml"/>
  <Override PartName="/ppt/diagrams/quickStyle9.xml" ContentType="application/vnd.openxmlformats-officedocument.drawingml.diagramStyle+xml"/>
  <Override PartName="/ppt/diagrams/data8.xml" ContentType="application/vnd.openxmlformats-officedocument.drawingml.diagramData+xml"/>
  <Override PartName="/ppt/diagrams/layout3.xml" ContentType="application/vnd.openxmlformats-officedocument.drawingml.diagramLayout+xml"/>
  <Override PartName="/ppt/diagrams/colors9.xml" ContentType="application/vnd.openxmlformats-officedocument.drawingml.diagramColors+xml"/>
  <Override PartName="/ppt/diagrams/layout2.xml" ContentType="application/vnd.openxmlformats-officedocument.drawingml.diagramLayout+xml"/>
  <Override PartName="/ppt/diagrams/colors2.xml" ContentType="application/vnd.openxmlformats-officedocument.drawingml.diagramColors+xml"/>
  <Override PartName="/ppt/diagrams/drawing1.xml" ContentType="application/vnd.ms-office.drawingml.diagramDrawing+xml"/>
  <Override PartName="/ppt/diagrams/layout1.xml" ContentType="application/vnd.openxmlformats-officedocument.drawingml.diagramLayout+xml"/>
  <Override PartName="/ppt/diagrams/data9.xml" ContentType="application/vnd.openxmlformats-officedocument.drawingml.diagramData+xml"/>
  <Override PartName="/ppt/diagrams/quickStyle1.xml" ContentType="application/vnd.openxmlformats-officedocument.drawingml.diagramStyle+xml"/>
  <Override PartName="/ppt/diagrams/data1.xml" ContentType="application/vnd.openxmlformats-officedocument.drawingml.diagramData+xml"/>
  <Override PartName="/ppt/diagrams/layout7.xml" ContentType="application/vnd.openxmlformats-officedocument.drawingml.diagramLayout+xml"/>
  <Override PartName="/ppt/diagrams/drawing2.xml" ContentType="application/vnd.ms-office.drawingml.diagramDrawing+xml"/>
  <Override PartName="/ppt/diagrams/colors3.xml" ContentType="application/vnd.openxmlformats-officedocument.drawingml.diagramColors+xml"/>
  <Override PartName="/ppt/diagrams/quickStyle4.xml" ContentType="application/vnd.openxmlformats-officedocument.drawingml.diagramStyle+xml"/>
  <Override PartName="/ppt/diagrams/data4.xml" ContentType="application/vnd.openxmlformats-officedocument.drawingml.diagramData+xml"/>
  <Override PartName="/ppt/diagrams/layout4.xml" ContentType="application/vnd.openxmlformats-officedocument.drawingml.diagramLayout+xml"/>
  <Override PartName="/ppt/diagrams/colors4.xml" ContentType="application/vnd.openxmlformats-officedocument.drawingml.diagramColors+xml"/>
  <Override PartName="/ppt/diagrams/quickStyle5.xml" ContentType="application/vnd.openxmlformats-officedocument.drawingml.diagramStyl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OOXDiagramDataRels4_0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3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diagrams/_rels/data4.xml.rels><?xml version="1.0" encoding="UTF-8"?>
<Relationships xmlns="http://schemas.openxmlformats.org/package/2006/relationships"><Relationship Id="rId1" Type="http://schemas.openxmlformats.org/officeDocument/2006/relationships/image" Target="../media/OOXDiagramDataRels4_0.pn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4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5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6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7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8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9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77A4368-8068-49C6-85A6-A0ACAC7C2875}" type="doc">
      <dgm:prSet loTypeId="urn:microsoft.com/office/officeart/2009/3/layout/StepUp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085F9E60-4153-4407-B307-CD2FD7AA1027}">
      <dgm:prSet phldrT="[Текст]"/>
      <dgm:spPr/>
      <dgm:t>
        <a:bodyPr/>
        <a:lstStyle/>
        <a:p>
          <a:r>
            <a:rPr lang="en-US" b="1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LSI</a:t>
          </a:r>
          <a:endParaRPr lang="ru-RU" b="1" dirty="0" smtClean="0">
            <a:solidFill>
              <a:schemeClr val="tx1">
                <a:lumMod val="75000"/>
                <a:lumOff val="25000"/>
              </a:schemeClr>
            </a:solidFill>
            <a:latin typeface="PT Sans"/>
          </a:endParaRPr>
        </a:p>
        <a:p>
          <a:endParaRPr lang="ru-RU" dirty="0"/>
        </a:p>
      </dgm:t>
    </dgm:pt>
    <dgm:pt modelId="{E088353D-9451-43DB-A694-6A5C71B5BF56}" type="parTrans" cxnId="{707339AB-AD24-4346-A9CB-4E7283B5842A}">
      <dgm:prSet/>
      <dgm:spPr/>
      <dgm:t>
        <a:bodyPr/>
        <a:lstStyle/>
        <a:p>
          <a:endParaRPr lang="ru-RU"/>
        </a:p>
      </dgm:t>
    </dgm:pt>
    <dgm:pt modelId="{74782CBC-81EE-4F49-B2BD-3439744F69C2}" type="sibTrans" cxnId="{707339AB-AD24-4346-A9CB-4E7283B5842A}">
      <dgm:prSet/>
      <dgm:spPr/>
      <dgm:t>
        <a:bodyPr/>
        <a:lstStyle/>
        <a:p>
          <a:endParaRPr lang="ru-RU"/>
        </a:p>
      </dgm:t>
    </dgm:pt>
    <dgm:pt modelId="{5DEA28A5-A7DE-495E-8E1E-2F06DADEDA20}">
      <dgm:prSet phldrT="[Текст]"/>
      <dgm:spPr/>
      <dgm:t>
        <a:bodyPr/>
        <a:lstStyle/>
        <a:p>
          <a:r>
            <a:rPr lang="ru-RU" b="1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СОСТАВ</a:t>
          </a:r>
          <a:r>
            <a:rPr lang="ru-RU" dirty="0" smtClean="0"/>
            <a:t> </a:t>
          </a:r>
          <a:r>
            <a:rPr lang="ru-RU" b="1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КОНТЕНТА (ОПРЕДЕЛЕНИЕ ИНТЕНТА)</a:t>
          </a:r>
        </a:p>
        <a:p>
          <a:endParaRPr lang="ru-RU" dirty="0"/>
        </a:p>
      </dgm:t>
    </dgm:pt>
    <dgm:pt modelId="{F4347B72-3EF7-4372-9B70-0D4EFCD68F6C}" type="parTrans" cxnId="{B335F82E-31F8-4DBE-9F29-6B0AFB9933A0}">
      <dgm:prSet/>
      <dgm:spPr/>
      <dgm:t>
        <a:bodyPr/>
        <a:lstStyle/>
        <a:p>
          <a:endParaRPr lang="ru-RU"/>
        </a:p>
      </dgm:t>
    </dgm:pt>
    <dgm:pt modelId="{4DC5969C-9849-46C4-B682-21EA3EF63810}" type="sibTrans" cxnId="{B335F82E-31F8-4DBE-9F29-6B0AFB9933A0}">
      <dgm:prSet/>
      <dgm:spPr/>
      <dgm:t>
        <a:bodyPr/>
        <a:lstStyle/>
        <a:p>
          <a:endParaRPr lang="ru-RU"/>
        </a:p>
      </dgm:t>
    </dgm:pt>
    <dgm:pt modelId="{45C04778-057A-4E41-93D3-95B4E7E2FCFD}">
      <dgm:prSet phldrT="[Текст]"/>
      <dgm:spPr/>
      <dgm:t>
        <a:bodyPr/>
        <a:lstStyle/>
        <a:p>
          <a:r>
            <a:rPr lang="ru-RU" b="1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ОПРЕДЕЛЕНИЕ</a:t>
          </a:r>
          <a:r>
            <a:rPr lang="ru-RU" dirty="0" smtClean="0"/>
            <a:t> </a:t>
          </a:r>
          <a:r>
            <a:rPr lang="ru-RU" b="1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НЕДОСТАТКОВ</a:t>
          </a:r>
          <a:r>
            <a:rPr lang="ru-RU" dirty="0" smtClean="0"/>
            <a:t> </a:t>
          </a:r>
          <a:endParaRPr lang="ru-RU" dirty="0"/>
        </a:p>
      </dgm:t>
    </dgm:pt>
    <dgm:pt modelId="{0D967431-6CC2-4575-B7EA-6362E7ACF8F3}" type="parTrans" cxnId="{5B9B7CC9-A02D-4C54-AF02-BEA0361CFB2C}">
      <dgm:prSet/>
      <dgm:spPr/>
      <dgm:t>
        <a:bodyPr/>
        <a:lstStyle/>
        <a:p>
          <a:endParaRPr lang="ru-RU"/>
        </a:p>
      </dgm:t>
    </dgm:pt>
    <dgm:pt modelId="{A7B801E6-29E8-4E98-92BE-F1BD9635FB60}" type="sibTrans" cxnId="{5B9B7CC9-A02D-4C54-AF02-BEA0361CFB2C}">
      <dgm:prSet/>
      <dgm:spPr/>
      <dgm:t>
        <a:bodyPr/>
        <a:lstStyle/>
        <a:p>
          <a:endParaRPr lang="ru-RU"/>
        </a:p>
      </dgm:t>
    </dgm:pt>
    <dgm:pt modelId="{A2EBFCF6-C989-496B-89C4-383E2ECB873D}" type="pres">
      <dgm:prSet presAssocID="{B77A4368-8068-49C6-85A6-A0ACAC7C2875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25925D65-F76C-4101-B033-04BC53C3D787}" type="pres">
      <dgm:prSet presAssocID="{085F9E60-4153-4407-B307-CD2FD7AA1027}" presName="composite" presStyleCnt="0"/>
      <dgm:spPr/>
    </dgm:pt>
    <dgm:pt modelId="{6A52F87D-4E2B-4FA5-B124-CD7FADA63D2B}" type="pres">
      <dgm:prSet presAssocID="{085F9E60-4153-4407-B307-CD2FD7AA1027}" presName="LShape" presStyleLbl="alignNode1" presStyleIdx="0" presStyleCnt="5"/>
      <dgm:spPr>
        <a:solidFill>
          <a:srgbClr val="54B64E"/>
        </a:solidFill>
        <a:ln>
          <a:solidFill>
            <a:srgbClr val="54B64E"/>
          </a:solidFill>
        </a:ln>
      </dgm:spPr>
    </dgm:pt>
    <dgm:pt modelId="{91D6512B-85D6-477C-B393-B65D882B6A9E}" type="pres">
      <dgm:prSet presAssocID="{085F9E60-4153-4407-B307-CD2FD7AA1027}" presName="ParentText" presStyleLbl="revTx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84BF2AD-3DC8-4059-AC02-DD550152D2AF}" type="pres">
      <dgm:prSet presAssocID="{085F9E60-4153-4407-B307-CD2FD7AA1027}" presName="Triangle" presStyleLbl="alignNode1" presStyleIdx="1" presStyleCnt="5"/>
      <dgm:spPr>
        <a:solidFill>
          <a:srgbClr val="54B64E"/>
        </a:solidFill>
        <a:ln>
          <a:solidFill>
            <a:srgbClr val="54B64E"/>
          </a:solidFill>
        </a:ln>
      </dgm:spPr>
    </dgm:pt>
    <dgm:pt modelId="{515E7A68-ECAE-475E-BBE0-EFFF95EECE08}" type="pres">
      <dgm:prSet presAssocID="{74782CBC-81EE-4F49-B2BD-3439744F69C2}" presName="sibTrans" presStyleCnt="0"/>
      <dgm:spPr/>
    </dgm:pt>
    <dgm:pt modelId="{9E7FBDE5-C27C-4274-90DE-931AE08ED790}" type="pres">
      <dgm:prSet presAssocID="{74782CBC-81EE-4F49-B2BD-3439744F69C2}" presName="space" presStyleCnt="0"/>
      <dgm:spPr/>
    </dgm:pt>
    <dgm:pt modelId="{A131715E-65A4-4C31-8314-C631D2AAD9E6}" type="pres">
      <dgm:prSet presAssocID="{5DEA28A5-A7DE-495E-8E1E-2F06DADEDA20}" presName="composite" presStyleCnt="0"/>
      <dgm:spPr/>
    </dgm:pt>
    <dgm:pt modelId="{D5ACD845-B9E2-4908-BEBA-08FFA1EC2CD3}" type="pres">
      <dgm:prSet presAssocID="{5DEA28A5-A7DE-495E-8E1E-2F06DADEDA20}" presName="LShape" presStyleLbl="alignNode1" presStyleIdx="2" presStyleCnt="5"/>
      <dgm:spPr>
        <a:solidFill>
          <a:srgbClr val="54B64E"/>
        </a:solidFill>
        <a:ln>
          <a:solidFill>
            <a:srgbClr val="54B64E"/>
          </a:solidFill>
        </a:ln>
      </dgm:spPr>
    </dgm:pt>
    <dgm:pt modelId="{ACEBA7A9-A169-48AB-82B5-FE84E17FFD83}" type="pres">
      <dgm:prSet presAssocID="{5DEA28A5-A7DE-495E-8E1E-2F06DADEDA20}" presName="ParentText" presStyleLbl="revTx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2D4046A-E928-415B-98E8-4C2F56B38E43}" type="pres">
      <dgm:prSet presAssocID="{5DEA28A5-A7DE-495E-8E1E-2F06DADEDA20}" presName="Triangle" presStyleLbl="alignNode1" presStyleIdx="3" presStyleCnt="5"/>
      <dgm:spPr>
        <a:solidFill>
          <a:srgbClr val="54B64E"/>
        </a:solidFill>
        <a:ln>
          <a:solidFill>
            <a:srgbClr val="54B64E"/>
          </a:solidFill>
        </a:ln>
      </dgm:spPr>
    </dgm:pt>
    <dgm:pt modelId="{4C17AC7B-2C33-4153-BDC7-9DBF0D79FFD1}" type="pres">
      <dgm:prSet presAssocID="{4DC5969C-9849-46C4-B682-21EA3EF63810}" presName="sibTrans" presStyleCnt="0"/>
      <dgm:spPr/>
    </dgm:pt>
    <dgm:pt modelId="{67AFCA9D-EAD5-4DA7-9E80-D0D1B636A89A}" type="pres">
      <dgm:prSet presAssocID="{4DC5969C-9849-46C4-B682-21EA3EF63810}" presName="space" presStyleCnt="0"/>
      <dgm:spPr/>
    </dgm:pt>
    <dgm:pt modelId="{42274663-C61F-40C6-86AB-303A2334080C}" type="pres">
      <dgm:prSet presAssocID="{45C04778-057A-4E41-93D3-95B4E7E2FCFD}" presName="composite" presStyleCnt="0"/>
      <dgm:spPr/>
    </dgm:pt>
    <dgm:pt modelId="{25D4ADBF-6CBC-43BE-829A-BDCF1B04F1DB}" type="pres">
      <dgm:prSet presAssocID="{45C04778-057A-4E41-93D3-95B4E7E2FCFD}" presName="LShape" presStyleLbl="alignNode1" presStyleIdx="4" presStyleCnt="5"/>
      <dgm:spPr>
        <a:solidFill>
          <a:srgbClr val="54B64E"/>
        </a:solidFill>
        <a:ln>
          <a:solidFill>
            <a:srgbClr val="54B64E"/>
          </a:solidFill>
        </a:ln>
      </dgm:spPr>
    </dgm:pt>
    <dgm:pt modelId="{D2EBF783-7476-4BDA-9DF5-02C202A86877}" type="pres">
      <dgm:prSet presAssocID="{45C04778-057A-4E41-93D3-95B4E7E2FCFD}" presName="ParentText" presStyleLbl="revTx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335F82E-31F8-4DBE-9F29-6B0AFB9933A0}" srcId="{B77A4368-8068-49C6-85A6-A0ACAC7C2875}" destId="{5DEA28A5-A7DE-495E-8E1E-2F06DADEDA20}" srcOrd="1" destOrd="0" parTransId="{F4347B72-3EF7-4372-9B70-0D4EFCD68F6C}" sibTransId="{4DC5969C-9849-46C4-B682-21EA3EF63810}"/>
    <dgm:cxn modelId="{707339AB-AD24-4346-A9CB-4E7283B5842A}" srcId="{B77A4368-8068-49C6-85A6-A0ACAC7C2875}" destId="{085F9E60-4153-4407-B307-CD2FD7AA1027}" srcOrd="0" destOrd="0" parTransId="{E088353D-9451-43DB-A694-6A5C71B5BF56}" sibTransId="{74782CBC-81EE-4F49-B2BD-3439744F69C2}"/>
    <dgm:cxn modelId="{3F1DC415-5564-4917-892B-25E460FEF509}" type="presOf" srcId="{085F9E60-4153-4407-B307-CD2FD7AA1027}" destId="{91D6512B-85D6-477C-B393-B65D882B6A9E}" srcOrd="0" destOrd="0" presId="urn:microsoft.com/office/officeart/2009/3/layout/StepUpProcess"/>
    <dgm:cxn modelId="{5B9B7CC9-A02D-4C54-AF02-BEA0361CFB2C}" srcId="{B77A4368-8068-49C6-85A6-A0ACAC7C2875}" destId="{45C04778-057A-4E41-93D3-95B4E7E2FCFD}" srcOrd="2" destOrd="0" parTransId="{0D967431-6CC2-4575-B7EA-6362E7ACF8F3}" sibTransId="{A7B801E6-29E8-4E98-92BE-F1BD9635FB60}"/>
    <dgm:cxn modelId="{0F5CE767-C2AB-4472-B003-4BE0CAB5D1E2}" type="presOf" srcId="{B77A4368-8068-49C6-85A6-A0ACAC7C2875}" destId="{A2EBFCF6-C989-496B-89C4-383E2ECB873D}" srcOrd="0" destOrd="0" presId="urn:microsoft.com/office/officeart/2009/3/layout/StepUpProcess"/>
    <dgm:cxn modelId="{C088F861-C26A-4771-A6F8-2A35228C1481}" type="presOf" srcId="{5DEA28A5-A7DE-495E-8E1E-2F06DADEDA20}" destId="{ACEBA7A9-A169-48AB-82B5-FE84E17FFD83}" srcOrd="0" destOrd="0" presId="urn:microsoft.com/office/officeart/2009/3/layout/StepUpProcess"/>
    <dgm:cxn modelId="{55AC6CF0-14A7-46CC-8C0A-D741535B70FC}" type="presOf" srcId="{45C04778-057A-4E41-93D3-95B4E7E2FCFD}" destId="{D2EBF783-7476-4BDA-9DF5-02C202A86877}" srcOrd="0" destOrd="0" presId="urn:microsoft.com/office/officeart/2009/3/layout/StepUpProcess"/>
    <dgm:cxn modelId="{123DB46A-BA62-48B7-9481-0E38063992C1}" type="presParOf" srcId="{A2EBFCF6-C989-496B-89C4-383E2ECB873D}" destId="{25925D65-F76C-4101-B033-04BC53C3D787}" srcOrd="0" destOrd="0" presId="urn:microsoft.com/office/officeart/2009/3/layout/StepUpProcess"/>
    <dgm:cxn modelId="{B0362739-5502-4596-9487-C1F02C6B12CC}" type="presParOf" srcId="{25925D65-F76C-4101-B033-04BC53C3D787}" destId="{6A52F87D-4E2B-4FA5-B124-CD7FADA63D2B}" srcOrd="0" destOrd="0" presId="urn:microsoft.com/office/officeart/2009/3/layout/StepUpProcess"/>
    <dgm:cxn modelId="{E4749EBB-7A4D-455B-B520-2DA3AB981C08}" type="presParOf" srcId="{25925D65-F76C-4101-B033-04BC53C3D787}" destId="{91D6512B-85D6-477C-B393-B65D882B6A9E}" srcOrd="1" destOrd="0" presId="urn:microsoft.com/office/officeart/2009/3/layout/StepUpProcess"/>
    <dgm:cxn modelId="{249BF569-2691-43E2-A7D3-88F7FF210640}" type="presParOf" srcId="{25925D65-F76C-4101-B033-04BC53C3D787}" destId="{C84BF2AD-3DC8-4059-AC02-DD550152D2AF}" srcOrd="2" destOrd="0" presId="urn:microsoft.com/office/officeart/2009/3/layout/StepUpProcess"/>
    <dgm:cxn modelId="{48713C7D-F1A6-4584-B430-DB4A744E250E}" type="presParOf" srcId="{A2EBFCF6-C989-496B-89C4-383E2ECB873D}" destId="{515E7A68-ECAE-475E-BBE0-EFFF95EECE08}" srcOrd="1" destOrd="0" presId="urn:microsoft.com/office/officeart/2009/3/layout/StepUpProcess"/>
    <dgm:cxn modelId="{839CBD86-6759-4E6F-9CAE-3721FD13F798}" type="presParOf" srcId="{515E7A68-ECAE-475E-BBE0-EFFF95EECE08}" destId="{9E7FBDE5-C27C-4274-90DE-931AE08ED790}" srcOrd="0" destOrd="0" presId="urn:microsoft.com/office/officeart/2009/3/layout/StepUpProcess"/>
    <dgm:cxn modelId="{5E8BCE55-52C4-4178-AF3F-1487F3D8E397}" type="presParOf" srcId="{A2EBFCF6-C989-496B-89C4-383E2ECB873D}" destId="{A131715E-65A4-4C31-8314-C631D2AAD9E6}" srcOrd="2" destOrd="0" presId="urn:microsoft.com/office/officeart/2009/3/layout/StepUpProcess"/>
    <dgm:cxn modelId="{ADC8AEE0-F858-4780-92B6-462B32859B96}" type="presParOf" srcId="{A131715E-65A4-4C31-8314-C631D2AAD9E6}" destId="{D5ACD845-B9E2-4908-BEBA-08FFA1EC2CD3}" srcOrd="0" destOrd="0" presId="urn:microsoft.com/office/officeart/2009/3/layout/StepUpProcess"/>
    <dgm:cxn modelId="{731D69D5-54F1-426D-B350-294359B70B78}" type="presParOf" srcId="{A131715E-65A4-4C31-8314-C631D2AAD9E6}" destId="{ACEBA7A9-A169-48AB-82B5-FE84E17FFD83}" srcOrd="1" destOrd="0" presId="urn:microsoft.com/office/officeart/2009/3/layout/StepUpProcess"/>
    <dgm:cxn modelId="{3ED89C57-99C4-47D6-AB5D-ECD480449290}" type="presParOf" srcId="{A131715E-65A4-4C31-8314-C631D2AAD9E6}" destId="{B2D4046A-E928-415B-98E8-4C2F56B38E43}" srcOrd="2" destOrd="0" presId="urn:microsoft.com/office/officeart/2009/3/layout/StepUpProcess"/>
    <dgm:cxn modelId="{CAF47E91-13A8-490A-9A1B-5477A5064559}" type="presParOf" srcId="{A2EBFCF6-C989-496B-89C4-383E2ECB873D}" destId="{4C17AC7B-2C33-4153-BDC7-9DBF0D79FFD1}" srcOrd="3" destOrd="0" presId="urn:microsoft.com/office/officeart/2009/3/layout/StepUpProcess"/>
    <dgm:cxn modelId="{6BB78614-9C2D-41E6-9D65-B10406851E0B}" type="presParOf" srcId="{4C17AC7B-2C33-4153-BDC7-9DBF0D79FFD1}" destId="{67AFCA9D-EAD5-4DA7-9E80-D0D1B636A89A}" srcOrd="0" destOrd="0" presId="urn:microsoft.com/office/officeart/2009/3/layout/StepUpProcess"/>
    <dgm:cxn modelId="{59B12F6D-C04F-4314-B26F-11CD5555A7C0}" type="presParOf" srcId="{A2EBFCF6-C989-496B-89C4-383E2ECB873D}" destId="{42274663-C61F-40C6-86AB-303A2334080C}" srcOrd="4" destOrd="0" presId="urn:microsoft.com/office/officeart/2009/3/layout/StepUpProcess"/>
    <dgm:cxn modelId="{35248D07-9722-4CFE-97CF-C47065AE62FF}" type="presParOf" srcId="{42274663-C61F-40C6-86AB-303A2334080C}" destId="{25D4ADBF-6CBC-43BE-829A-BDCF1B04F1DB}" srcOrd="0" destOrd="0" presId="urn:microsoft.com/office/officeart/2009/3/layout/StepUpProcess"/>
    <dgm:cxn modelId="{3E6C0479-9D2B-40B7-834E-F02F288BA8DA}" type="presParOf" srcId="{42274663-C61F-40C6-86AB-303A2334080C}" destId="{D2EBF783-7476-4BDA-9DF5-02C202A86877}" srcOrd="1" destOrd="0" presId="urn:microsoft.com/office/officeart/2009/3/layout/StepUpProcess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2FEC94FA-6CCD-4153-BBAD-981428503C9B}" type="doc">
      <dgm:prSet loTypeId="urn:microsoft.com/office/officeart/2005/8/layout/bProcess3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C885A472-A192-4A55-A120-9DD868A5C239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>
              <a:latin typeface="PT Sans"/>
            </a:rPr>
            <a:t>РЕКОМЕНДАЦИИ ПО СТИЛИСТИКЕ</a:t>
          </a:r>
          <a:endParaRPr lang="ru-RU" b="1" dirty="0">
            <a:latin typeface="PT Sans"/>
          </a:endParaRPr>
        </a:p>
      </dgm:t>
    </dgm:pt>
    <dgm:pt modelId="{EE26AAC7-D2B9-4082-9CBC-23382B253222}" type="parTrans" cxnId="{9066FB3E-B211-4F8F-B6D2-DC4286F4C3A9}">
      <dgm:prSet/>
      <dgm:spPr/>
      <dgm:t>
        <a:bodyPr/>
        <a:lstStyle/>
        <a:p>
          <a:endParaRPr lang="ru-RU"/>
        </a:p>
      </dgm:t>
    </dgm:pt>
    <dgm:pt modelId="{433F1A5E-2420-4DDC-BC63-6A5099555963}" type="sibTrans" cxnId="{9066FB3E-B211-4F8F-B6D2-DC4286F4C3A9}">
      <dgm:prSet>
        <dgm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>
            <a:schemeClr val="tx1"/>
          </a:fontRef>
        </dgm:style>
      </dgm:prSet>
      <dgm:spPr/>
      <dgm:t>
        <a:bodyPr/>
        <a:lstStyle/>
        <a:p>
          <a:endParaRPr lang="ru-RU"/>
        </a:p>
      </dgm:t>
    </dgm:pt>
    <dgm:pt modelId="{60BC8DA4-6BE2-40C8-ACE9-066197B054E0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>
              <a:latin typeface="PT Sans"/>
            </a:rPr>
            <a:t>КОНКРЕТИЗАЦИЯ</a:t>
          </a:r>
          <a:r>
            <a:rPr lang="ru-RU" dirty="0" smtClean="0"/>
            <a:t> </a:t>
          </a:r>
          <a:r>
            <a:rPr lang="ru-RU" b="1" dirty="0" smtClean="0">
              <a:latin typeface="PT Sans"/>
            </a:rPr>
            <a:t>ТЕМАТИКИ</a:t>
          </a:r>
          <a:endParaRPr lang="ru-RU" b="1" dirty="0">
            <a:latin typeface="PT Sans"/>
          </a:endParaRPr>
        </a:p>
      </dgm:t>
    </dgm:pt>
    <dgm:pt modelId="{1F0BB841-718E-48D9-8361-51B63BF39867}" type="parTrans" cxnId="{6DF44D0A-F4A8-4CA5-974B-92735AED54F3}">
      <dgm:prSet/>
      <dgm:spPr/>
      <dgm:t>
        <a:bodyPr/>
        <a:lstStyle/>
        <a:p>
          <a:endParaRPr lang="ru-RU"/>
        </a:p>
      </dgm:t>
    </dgm:pt>
    <dgm:pt modelId="{0817E413-A761-4490-BD75-F096FEBFF2FA}" type="sibTrans" cxnId="{6DF44D0A-F4A8-4CA5-974B-92735AED54F3}">
      <dgm:prSet>
        <dgm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>
            <a:schemeClr val="tx1"/>
          </a:fontRef>
        </dgm:style>
      </dgm:prSet>
      <dgm:spPr/>
      <dgm:t>
        <a:bodyPr/>
        <a:lstStyle/>
        <a:p>
          <a:endParaRPr lang="ru-RU"/>
        </a:p>
      </dgm:t>
    </dgm:pt>
    <dgm:pt modelId="{E2DFF22F-A9FE-40F8-9098-303ADE7EC792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>
              <a:latin typeface="PT Sans"/>
            </a:rPr>
            <a:t>РЕКОМЕНДАЦИИ</a:t>
          </a:r>
          <a:r>
            <a:rPr lang="ru-RU" dirty="0" smtClean="0"/>
            <a:t> </a:t>
          </a:r>
          <a:r>
            <a:rPr lang="ru-RU" b="1" dirty="0" smtClean="0">
              <a:latin typeface="PT Sans"/>
            </a:rPr>
            <a:t>ПО ОБЪЕМУ</a:t>
          </a:r>
          <a:endParaRPr lang="ru-RU" b="1" dirty="0">
            <a:latin typeface="PT Sans"/>
          </a:endParaRPr>
        </a:p>
      </dgm:t>
    </dgm:pt>
    <dgm:pt modelId="{23AB7AC8-33B0-4E08-B5FD-E6ECA1B1B731}" type="parTrans" cxnId="{6E958AEC-311F-4216-8EC0-389A080CEC4A}">
      <dgm:prSet/>
      <dgm:spPr/>
      <dgm:t>
        <a:bodyPr/>
        <a:lstStyle/>
        <a:p>
          <a:endParaRPr lang="ru-RU"/>
        </a:p>
      </dgm:t>
    </dgm:pt>
    <dgm:pt modelId="{5C80BBEE-132A-4E29-8BA3-22FA9584199D}" type="sibTrans" cxnId="{6E958AEC-311F-4216-8EC0-389A080CEC4A}">
      <dgm:prSet>
        <dgm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>
            <a:schemeClr val="tx1"/>
          </a:fontRef>
        </dgm:style>
      </dgm:prSet>
      <dgm:spPr/>
      <dgm:t>
        <a:bodyPr/>
        <a:lstStyle/>
        <a:p>
          <a:endParaRPr lang="ru-RU"/>
        </a:p>
      </dgm:t>
    </dgm:pt>
    <dgm:pt modelId="{83388701-C7EA-4D38-8DD3-6FDBA088E8BC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>
              <a:latin typeface="PT Sans"/>
            </a:rPr>
            <a:t>РЕКОМЕНДАЦИИ</a:t>
          </a:r>
          <a:r>
            <a:rPr lang="ru-RU" dirty="0" smtClean="0"/>
            <a:t> </a:t>
          </a:r>
          <a:r>
            <a:rPr lang="ru-RU" b="1" dirty="0" smtClean="0">
              <a:latin typeface="PT Sans"/>
            </a:rPr>
            <a:t>ПО СОДЕРЖАНИЮ</a:t>
          </a:r>
          <a:endParaRPr lang="ru-RU" b="1" dirty="0">
            <a:latin typeface="PT Sans"/>
          </a:endParaRPr>
        </a:p>
      </dgm:t>
    </dgm:pt>
    <dgm:pt modelId="{4DAB189E-0D5D-482A-8370-A03F19B5A56F}" type="parTrans" cxnId="{92A08A10-DFAC-40AF-82E5-93548F88D46A}">
      <dgm:prSet/>
      <dgm:spPr/>
      <dgm:t>
        <a:bodyPr/>
        <a:lstStyle/>
        <a:p>
          <a:endParaRPr lang="ru-RU"/>
        </a:p>
      </dgm:t>
    </dgm:pt>
    <dgm:pt modelId="{406F28BA-5326-46E0-8C46-F04EC3CA5F04}" type="sibTrans" cxnId="{92A08A10-DFAC-40AF-82E5-93548F88D46A}">
      <dgm:prSet>
        <dgm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>
            <a:schemeClr val="tx1"/>
          </a:fontRef>
        </dgm:style>
      </dgm:prSet>
      <dgm:spPr/>
      <dgm:t>
        <a:bodyPr/>
        <a:lstStyle/>
        <a:p>
          <a:endParaRPr lang="ru-RU"/>
        </a:p>
      </dgm:t>
    </dgm:pt>
    <dgm:pt modelId="{0EB7060A-6F7E-475E-9C2D-DFB4F82D467E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>
              <a:latin typeface="PT Sans"/>
            </a:rPr>
            <a:t>СМЕЖНЫЕ КЛЮЧЕВЫЕ ЗАПРОСЫ</a:t>
          </a:r>
          <a:endParaRPr lang="ru-RU" b="1" dirty="0">
            <a:latin typeface="PT Sans"/>
          </a:endParaRPr>
        </a:p>
      </dgm:t>
    </dgm:pt>
    <dgm:pt modelId="{E129EA43-E501-4E65-AD6A-58A154F0AE44}" type="parTrans" cxnId="{E1575CDF-2F47-4BAF-978D-3830FCD92634}">
      <dgm:prSet/>
      <dgm:spPr/>
      <dgm:t>
        <a:bodyPr/>
        <a:lstStyle/>
        <a:p>
          <a:endParaRPr lang="ru-RU"/>
        </a:p>
      </dgm:t>
    </dgm:pt>
    <dgm:pt modelId="{552E6988-4CE5-413F-8F15-C88BEFA8C934}" type="sibTrans" cxnId="{E1575CDF-2F47-4BAF-978D-3830FCD92634}">
      <dgm:prSet/>
      <dgm:spPr/>
      <dgm:t>
        <a:bodyPr/>
        <a:lstStyle/>
        <a:p>
          <a:endParaRPr lang="ru-RU"/>
        </a:p>
      </dgm:t>
    </dgm:pt>
    <dgm:pt modelId="{C0353BA2-4EC3-4355-B349-4AA3ABDCB241}" type="pres">
      <dgm:prSet presAssocID="{2FEC94FA-6CCD-4153-BBAD-981428503C9B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7530B99E-617B-4A4E-B133-3A56B91735F7}" type="pres">
      <dgm:prSet presAssocID="{C885A472-A192-4A55-A120-9DD868A5C239}" presName="node" presStyleLbl="node1" presStyleIdx="0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0FB505D-504D-4BBD-9941-55858824A1CB}" type="pres">
      <dgm:prSet presAssocID="{433F1A5E-2420-4DDC-BC63-6A5099555963}" presName="sibTrans" presStyleLbl="sibTrans1D1" presStyleIdx="0" presStyleCnt="4"/>
      <dgm:spPr/>
      <dgm:t>
        <a:bodyPr/>
        <a:lstStyle/>
        <a:p>
          <a:endParaRPr lang="ru-RU"/>
        </a:p>
      </dgm:t>
    </dgm:pt>
    <dgm:pt modelId="{B7CE0384-CC8B-4D9D-8B75-4E1DF4346064}" type="pres">
      <dgm:prSet presAssocID="{433F1A5E-2420-4DDC-BC63-6A5099555963}" presName="connectorText" presStyleLbl="sibTrans1D1" presStyleIdx="0" presStyleCnt="4"/>
      <dgm:spPr/>
      <dgm:t>
        <a:bodyPr/>
        <a:lstStyle/>
        <a:p>
          <a:endParaRPr lang="ru-RU"/>
        </a:p>
      </dgm:t>
    </dgm:pt>
    <dgm:pt modelId="{A685B4D1-848A-4553-8100-70F87A1F40FA}" type="pres">
      <dgm:prSet presAssocID="{60BC8DA4-6BE2-40C8-ACE9-066197B054E0}" presName="node" presStyleLbl="node1" presStyleIdx="1" presStyleCnt="5" custLinFactNeighborX="37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132AC5D-8BF1-4F06-8009-A61B96C295A7}" type="pres">
      <dgm:prSet presAssocID="{0817E413-A761-4490-BD75-F096FEBFF2FA}" presName="sibTrans" presStyleLbl="sibTrans1D1" presStyleIdx="1" presStyleCnt="4"/>
      <dgm:spPr/>
      <dgm:t>
        <a:bodyPr/>
        <a:lstStyle/>
        <a:p>
          <a:endParaRPr lang="ru-RU"/>
        </a:p>
      </dgm:t>
    </dgm:pt>
    <dgm:pt modelId="{8271CEC3-84DF-4683-924B-3FD53D0A0F82}" type="pres">
      <dgm:prSet presAssocID="{0817E413-A761-4490-BD75-F096FEBFF2FA}" presName="connectorText" presStyleLbl="sibTrans1D1" presStyleIdx="1" presStyleCnt="4"/>
      <dgm:spPr/>
      <dgm:t>
        <a:bodyPr/>
        <a:lstStyle/>
        <a:p>
          <a:endParaRPr lang="ru-RU"/>
        </a:p>
      </dgm:t>
    </dgm:pt>
    <dgm:pt modelId="{77E31B8C-3693-4338-8B69-ECC91BCA4CBB}" type="pres">
      <dgm:prSet presAssocID="{E2DFF22F-A9FE-40F8-9098-303ADE7EC792}" presName="node" presStyleLbl="node1" presStyleIdx="2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F72CEE1-36CB-4092-B915-7F81318BA92E}" type="pres">
      <dgm:prSet presAssocID="{5C80BBEE-132A-4E29-8BA3-22FA9584199D}" presName="sibTrans" presStyleLbl="sibTrans1D1" presStyleIdx="2" presStyleCnt="4"/>
      <dgm:spPr/>
      <dgm:t>
        <a:bodyPr/>
        <a:lstStyle/>
        <a:p>
          <a:endParaRPr lang="ru-RU"/>
        </a:p>
      </dgm:t>
    </dgm:pt>
    <dgm:pt modelId="{58CE9FB2-BF49-408B-9CC9-FE9A988221C2}" type="pres">
      <dgm:prSet presAssocID="{5C80BBEE-132A-4E29-8BA3-22FA9584199D}" presName="connectorText" presStyleLbl="sibTrans1D1" presStyleIdx="2" presStyleCnt="4"/>
      <dgm:spPr/>
      <dgm:t>
        <a:bodyPr/>
        <a:lstStyle/>
        <a:p>
          <a:endParaRPr lang="ru-RU"/>
        </a:p>
      </dgm:t>
    </dgm:pt>
    <dgm:pt modelId="{2D21BD09-1D13-463A-BD0F-E759CD551E73}" type="pres">
      <dgm:prSet presAssocID="{83388701-C7EA-4D38-8DD3-6FDBA088E8BC}" presName="node" presStyleLbl="node1" presStyleIdx="3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E61822A-5923-4C55-BEB5-42CA231A540F}" type="pres">
      <dgm:prSet presAssocID="{406F28BA-5326-46E0-8C46-F04EC3CA5F04}" presName="sibTrans" presStyleLbl="sibTrans1D1" presStyleIdx="3" presStyleCnt="4"/>
      <dgm:spPr/>
      <dgm:t>
        <a:bodyPr/>
        <a:lstStyle/>
        <a:p>
          <a:endParaRPr lang="ru-RU"/>
        </a:p>
      </dgm:t>
    </dgm:pt>
    <dgm:pt modelId="{5144A3FD-C072-4CEC-B617-79E52DFBE94F}" type="pres">
      <dgm:prSet presAssocID="{406F28BA-5326-46E0-8C46-F04EC3CA5F04}" presName="connectorText" presStyleLbl="sibTrans1D1" presStyleIdx="3" presStyleCnt="4"/>
      <dgm:spPr/>
      <dgm:t>
        <a:bodyPr/>
        <a:lstStyle/>
        <a:p>
          <a:endParaRPr lang="ru-RU"/>
        </a:p>
      </dgm:t>
    </dgm:pt>
    <dgm:pt modelId="{CFA7FECC-ED6C-480D-8D32-59D891D1C4EB}" type="pres">
      <dgm:prSet presAssocID="{0EB7060A-6F7E-475E-9C2D-DFB4F82D467E}" presName="node" presStyleLbl="node1" presStyleIdx="4" presStyleCnt="5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BDB6476D-093B-4A31-92FB-0F4543F92FB9}" type="presOf" srcId="{433F1A5E-2420-4DDC-BC63-6A5099555963}" destId="{B7CE0384-CC8B-4D9D-8B75-4E1DF4346064}" srcOrd="1" destOrd="0" presId="urn:microsoft.com/office/officeart/2005/8/layout/bProcess3"/>
    <dgm:cxn modelId="{6DF44D0A-F4A8-4CA5-974B-92735AED54F3}" srcId="{2FEC94FA-6CCD-4153-BBAD-981428503C9B}" destId="{60BC8DA4-6BE2-40C8-ACE9-066197B054E0}" srcOrd="1" destOrd="0" parTransId="{1F0BB841-718E-48D9-8361-51B63BF39867}" sibTransId="{0817E413-A761-4490-BD75-F096FEBFF2FA}"/>
    <dgm:cxn modelId="{DD9B40CE-B824-4C65-A1BC-273836156A39}" type="presOf" srcId="{0817E413-A761-4490-BD75-F096FEBFF2FA}" destId="{0132AC5D-8BF1-4F06-8009-A61B96C295A7}" srcOrd="0" destOrd="0" presId="urn:microsoft.com/office/officeart/2005/8/layout/bProcess3"/>
    <dgm:cxn modelId="{E1575CDF-2F47-4BAF-978D-3830FCD92634}" srcId="{2FEC94FA-6CCD-4153-BBAD-981428503C9B}" destId="{0EB7060A-6F7E-475E-9C2D-DFB4F82D467E}" srcOrd="4" destOrd="0" parTransId="{E129EA43-E501-4E65-AD6A-58A154F0AE44}" sibTransId="{552E6988-4CE5-413F-8F15-C88BEFA8C934}"/>
    <dgm:cxn modelId="{98737A3D-8FA8-41E1-BB1B-7AD148FA6BA6}" type="presOf" srcId="{5C80BBEE-132A-4E29-8BA3-22FA9584199D}" destId="{CF72CEE1-36CB-4092-B915-7F81318BA92E}" srcOrd="0" destOrd="0" presId="urn:microsoft.com/office/officeart/2005/8/layout/bProcess3"/>
    <dgm:cxn modelId="{612505B0-B938-4483-B530-B94621937883}" type="presOf" srcId="{0817E413-A761-4490-BD75-F096FEBFF2FA}" destId="{8271CEC3-84DF-4683-924B-3FD53D0A0F82}" srcOrd="1" destOrd="0" presId="urn:microsoft.com/office/officeart/2005/8/layout/bProcess3"/>
    <dgm:cxn modelId="{E787CBE0-D454-445E-86C6-61FF92D9804B}" type="presOf" srcId="{C885A472-A192-4A55-A120-9DD868A5C239}" destId="{7530B99E-617B-4A4E-B133-3A56B91735F7}" srcOrd="0" destOrd="0" presId="urn:microsoft.com/office/officeart/2005/8/layout/bProcess3"/>
    <dgm:cxn modelId="{1BA9FA62-F93A-4818-AF11-0D6E6F564F63}" type="presOf" srcId="{5C80BBEE-132A-4E29-8BA3-22FA9584199D}" destId="{58CE9FB2-BF49-408B-9CC9-FE9A988221C2}" srcOrd="1" destOrd="0" presId="urn:microsoft.com/office/officeart/2005/8/layout/bProcess3"/>
    <dgm:cxn modelId="{A273DF08-8941-49FC-9123-91BBA6BBF062}" type="presOf" srcId="{406F28BA-5326-46E0-8C46-F04EC3CA5F04}" destId="{5144A3FD-C072-4CEC-B617-79E52DFBE94F}" srcOrd="1" destOrd="0" presId="urn:microsoft.com/office/officeart/2005/8/layout/bProcess3"/>
    <dgm:cxn modelId="{9066FB3E-B211-4F8F-B6D2-DC4286F4C3A9}" srcId="{2FEC94FA-6CCD-4153-BBAD-981428503C9B}" destId="{C885A472-A192-4A55-A120-9DD868A5C239}" srcOrd="0" destOrd="0" parTransId="{EE26AAC7-D2B9-4082-9CBC-23382B253222}" sibTransId="{433F1A5E-2420-4DDC-BC63-6A5099555963}"/>
    <dgm:cxn modelId="{6E958AEC-311F-4216-8EC0-389A080CEC4A}" srcId="{2FEC94FA-6CCD-4153-BBAD-981428503C9B}" destId="{E2DFF22F-A9FE-40F8-9098-303ADE7EC792}" srcOrd="2" destOrd="0" parTransId="{23AB7AC8-33B0-4E08-B5FD-E6ECA1B1B731}" sibTransId="{5C80BBEE-132A-4E29-8BA3-22FA9584199D}"/>
    <dgm:cxn modelId="{87FDBA77-B584-4A6E-9166-00099D6251A9}" type="presOf" srcId="{2FEC94FA-6CCD-4153-BBAD-981428503C9B}" destId="{C0353BA2-4EC3-4355-B349-4AA3ABDCB241}" srcOrd="0" destOrd="0" presId="urn:microsoft.com/office/officeart/2005/8/layout/bProcess3"/>
    <dgm:cxn modelId="{30577BB1-C4C7-49C5-8A9D-2D3DD3489B54}" type="presOf" srcId="{433F1A5E-2420-4DDC-BC63-6A5099555963}" destId="{C0FB505D-504D-4BBD-9941-55858824A1CB}" srcOrd="0" destOrd="0" presId="urn:microsoft.com/office/officeart/2005/8/layout/bProcess3"/>
    <dgm:cxn modelId="{0A5E4803-D9D6-49A1-B767-3CC75289B989}" type="presOf" srcId="{83388701-C7EA-4D38-8DD3-6FDBA088E8BC}" destId="{2D21BD09-1D13-463A-BD0F-E759CD551E73}" srcOrd="0" destOrd="0" presId="urn:microsoft.com/office/officeart/2005/8/layout/bProcess3"/>
    <dgm:cxn modelId="{92A08A10-DFAC-40AF-82E5-93548F88D46A}" srcId="{2FEC94FA-6CCD-4153-BBAD-981428503C9B}" destId="{83388701-C7EA-4D38-8DD3-6FDBA088E8BC}" srcOrd="3" destOrd="0" parTransId="{4DAB189E-0D5D-482A-8370-A03F19B5A56F}" sibTransId="{406F28BA-5326-46E0-8C46-F04EC3CA5F04}"/>
    <dgm:cxn modelId="{F10F97DD-F0CE-41CE-A8B0-A6902C6FFBA2}" type="presOf" srcId="{E2DFF22F-A9FE-40F8-9098-303ADE7EC792}" destId="{77E31B8C-3693-4338-8B69-ECC91BCA4CBB}" srcOrd="0" destOrd="0" presId="urn:microsoft.com/office/officeart/2005/8/layout/bProcess3"/>
    <dgm:cxn modelId="{4F27646C-6CA6-41CC-9B38-744F1C04C0B7}" type="presOf" srcId="{60BC8DA4-6BE2-40C8-ACE9-066197B054E0}" destId="{A685B4D1-848A-4553-8100-70F87A1F40FA}" srcOrd="0" destOrd="0" presId="urn:microsoft.com/office/officeart/2005/8/layout/bProcess3"/>
    <dgm:cxn modelId="{D7D53545-9C26-492A-9B01-7B41E9FCC6F4}" type="presOf" srcId="{0EB7060A-6F7E-475E-9C2D-DFB4F82D467E}" destId="{CFA7FECC-ED6C-480D-8D32-59D891D1C4EB}" srcOrd="0" destOrd="0" presId="urn:microsoft.com/office/officeart/2005/8/layout/bProcess3"/>
    <dgm:cxn modelId="{2EA00627-F4D0-428A-A792-A3A936BCFB5E}" type="presOf" srcId="{406F28BA-5326-46E0-8C46-F04EC3CA5F04}" destId="{EE61822A-5923-4C55-BEB5-42CA231A540F}" srcOrd="0" destOrd="0" presId="urn:microsoft.com/office/officeart/2005/8/layout/bProcess3"/>
    <dgm:cxn modelId="{05B796D1-08C1-4827-9C5B-9E5D16FF65D2}" type="presParOf" srcId="{C0353BA2-4EC3-4355-B349-4AA3ABDCB241}" destId="{7530B99E-617B-4A4E-B133-3A56B91735F7}" srcOrd="0" destOrd="0" presId="urn:microsoft.com/office/officeart/2005/8/layout/bProcess3"/>
    <dgm:cxn modelId="{01857E9A-824B-4620-A55D-1C39D2846FFE}" type="presParOf" srcId="{C0353BA2-4EC3-4355-B349-4AA3ABDCB241}" destId="{C0FB505D-504D-4BBD-9941-55858824A1CB}" srcOrd="1" destOrd="0" presId="urn:microsoft.com/office/officeart/2005/8/layout/bProcess3"/>
    <dgm:cxn modelId="{442F14C4-706B-456B-839B-89A2FA9E7B9F}" type="presParOf" srcId="{C0FB505D-504D-4BBD-9941-55858824A1CB}" destId="{B7CE0384-CC8B-4D9D-8B75-4E1DF4346064}" srcOrd="0" destOrd="0" presId="urn:microsoft.com/office/officeart/2005/8/layout/bProcess3"/>
    <dgm:cxn modelId="{329BFC14-9585-45A7-8D6D-8F6219EC2050}" type="presParOf" srcId="{C0353BA2-4EC3-4355-B349-4AA3ABDCB241}" destId="{A685B4D1-848A-4553-8100-70F87A1F40FA}" srcOrd="2" destOrd="0" presId="urn:microsoft.com/office/officeart/2005/8/layout/bProcess3"/>
    <dgm:cxn modelId="{10C19DAB-EC26-46AA-A0E5-EE6411E50B29}" type="presParOf" srcId="{C0353BA2-4EC3-4355-B349-4AA3ABDCB241}" destId="{0132AC5D-8BF1-4F06-8009-A61B96C295A7}" srcOrd="3" destOrd="0" presId="urn:microsoft.com/office/officeart/2005/8/layout/bProcess3"/>
    <dgm:cxn modelId="{376F77B8-CBE2-4E91-B288-86E7E9CE7392}" type="presParOf" srcId="{0132AC5D-8BF1-4F06-8009-A61B96C295A7}" destId="{8271CEC3-84DF-4683-924B-3FD53D0A0F82}" srcOrd="0" destOrd="0" presId="urn:microsoft.com/office/officeart/2005/8/layout/bProcess3"/>
    <dgm:cxn modelId="{0792DFC9-AC44-4E52-8915-076F71A949F5}" type="presParOf" srcId="{C0353BA2-4EC3-4355-B349-4AA3ABDCB241}" destId="{77E31B8C-3693-4338-8B69-ECC91BCA4CBB}" srcOrd="4" destOrd="0" presId="urn:microsoft.com/office/officeart/2005/8/layout/bProcess3"/>
    <dgm:cxn modelId="{ABAB9FA4-6E76-4924-8614-35481EC60986}" type="presParOf" srcId="{C0353BA2-4EC3-4355-B349-4AA3ABDCB241}" destId="{CF72CEE1-36CB-4092-B915-7F81318BA92E}" srcOrd="5" destOrd="0" presId="urn:microsoft.com/office/officeart/2005/8/layout/bProcess3"/>
    <dgm:cxn modelId="{97685C74-8250-498A-94A2-B5F76C5FF02B}" type="presParOf" srcId="{CF72CEE1-36CB-4092-B915-7F81318BA92E}" destId="{58CE9FB2-BF49-408B-9CC9-FE9A988221C2}" srcOrd="0" destOrd="0" presId="urn:microsoft.com/office/officeart/2005/8/layout/bProcess3"/>
    <dgm:cxn modelId="{8D5E7967-3AAB-4680-AF5F-9A7B5D50B01E}" type="presParOf" srcId="{C0353BA2-4EC3-4355-B349-4AA3ABDCB241}" destId="{2D21BD09-1D13-463A-BD0F-E759CD551E73}" srcOrd="6" destOrd="0" presId="urn:microsoft.com/office/officeart/2005/8/layout/bProcess3"/>
    <dgm:cxn modelId="{D5B2ED5F-D615-463D-89C6-C390F1963F4D}" type="presParOf" srcId="{C0353BA2-4EC3-4355-B349-4AA3ABDCB241}" destId="{EE61822A-5923-4C55-BEB5-42CA231A540F}" srcOrd="7" destOrd="0" presId="urn:microsoft.com/office/officeart/2005/8/layout/bProcess3"/>
    <dgm:cxn modelId="{0FB711AF-1300-4CA2-82EB-23E90CDCD5FD}" type="presParOf" srcId="{EE61822A-5923-4C55-BEB5-42CA231A540F}" destId="{5144A3FD-C072-4CEC-B617-79E52DFBE94F}" srcOrd="0" destOrd="0" presId="urn:microsoft.com/office/officeart/2005/8/layout/bProcess3"/>
    <dgm:cxn modelId="{7D3B2FF7-2E2A-4BEC-ACB1-C57C9087B875}" type="presParOf" srcId="{C0353BA2-4EC3-4355-B349-4AA3ABDCB241}" destId="{CFA7FECC-ED6C-480D-8D32-59D891D1C4EB}" srcOrd="8" destOrd="0" presId="urn:microsoft.com/office/officeart/2005/8/layout/bProcess3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643B7895-AA7D-4722-97D3-3D51779AC7C2}" type="doc">
      <dgm:prSet loTypeId="urn:microsoft.com/office/officeart/2005/8/layout/arrow2" loCatId="process" qsTypeId="urn:microsoft.com/office/officeart/2005/8/quickstyle/simple1" qsCatId="simple" csTypeId="urn:microsoft.com/office/officeart/2005/8/colors/accent1_2" csCatId="accent1" phldr="1"/>
      <dgm:spPr/>
    </dgm:pt>
    <dgm:pt modelId="{E0C1A045-0141-4AA2-8F8D-0E262165D0EC}">
      <dgm:prSet phldrT="[Текст]" custT="1"/>
      <dgm:spPr/>
      <dgm:t>
        <a:bodyPr/>
        <a:lstStyle/>
        <a:p>
          <a:r>
            <a:rPr lang="ru-RU" sz="15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  <a:ea typeface="+mn-ea"/>
              <a:cs typeface="PT Sans"/>
            </a:rPr>
            <a:t>АНАЛИЗ КОНКУРЕНТОВ</a:t>
          </a:r>
          <a:endParaRPr lang="ru-RU" sz="1500" b="1" kern="1200" dirty="0">
            <a:solidFill>
              <a:schemeClr val="tx1">
                <a:lumMod val="75000"/>
                <a:lumOff val="25000"/>
              </a:schemeClr>
            </a:solidFill>
            <a:latin typeface="PT Sans"/>
            <a:ea typeface="+mn-ea"/>
            <a:cs typeface="PT Sans"/>
          </a:endParaRPr>
        </a:p>
      </dgm:t>
    </dgm:pt>
    <dgm:pt modelId="{361BD810-3D8B-49D5-AAA1-3F397DE21FC1}" type="parTrans" cxnId="{3C4FCB2F-90B3-4995-BCD0-411C711E2135}">
      <dgm:prSet/>
      <dgm:spPr/>
      <dgm:t>
        <a:bodyPr/>
        <a:lstStyle/>
        <a:p>
          <a:endParaRPr lang="ru-RU"/>
        </a:p>
      </dgm:t>
    </dgm:pt>
    <dgm:pt modelId="{A82908C6-B191-4466-81ED-A3919A1BA2A2}" type="sibTrans" cxnId="{3C4FCB2F-90B3-4995-BCD0-411C711E2135}">
      <dgm:prSet/>
      <dgm:spPr/>
      <dgm:t>
        <a:bodyPr/>
        <a:lstStyle/>
        <a:p>
          <a:endParaRPr lang="ru-RU"/>
        </a:p>
      </dgm:t>
    </dgm:pt>
    <dgm:pt modelId="{19BC69D8-BB8B-4AB3-A8B7-1215AC3975D9}">
      <dgm:prSet phldrT="[Текст]" custT="1"/>
      <dgm:spPr/>
      <dgm:t>
        <a:bodyPr/>
        <a:lstStyle/>
        <a:p>
          <a:r>
            <a:rPr lang="ru-RU" sz="15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  <a:ea typeface="+mn-ea"/>
              <a:cs typeface="PT Sans"/>
            </a:rPr>
            <a:t>ОПТИМИЗАЦИЯ</a:t>
          </a:r>
          <a:r>
            <a:rPr lang="ru-RU" sz="1500" kern="1200" dirty="0" smtClean="0"/>
            <a:t> </a:t>
          </a:r>
          <a:r>
            <a:rPr lang="ru-RU" sz="15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  <a:ea typeface="+mn-ea"/>
              <a:cs typeface="PT Sans"/>
            </a:rPr>
            <a:t>МЕТАДАННЫХ</a:t>
          </a:r>
          <a:endParaRPr lang="ru-RU" sz="1500" b="1" kern="1200" dirty="0">
            <a:solidFill>
              <a:schemeClr val="tx1">
                <a:lumMod val="75000"/>
                <a:lumOff val="25000"/>
              </a:schemeClr>
            </a:solidFill>
            <a:latin typeface="PT Sans"/>
            <a:ea typeface="+mn-ea"/>
            <a:cs typeface="PT Sans"/>
          </a:endParaRPr>
        </a:p>
      </dgm:t>
    </dgm:pt>
    <dgm:pt modelId="{264F21B5-1CDC-47C4-B840-0EE0A4EC2FDF}" type="parTrans" cxnId="{39FB307D-4FA9-4C9F-A689-10DAE2908206}">
      <dgm:prSet/>
      <dgm:spPr/>
      <dgm:t>
        <a:bodyPr/>
        <a:lstStyle/>
        <a:p>
          <a:endParaRPr lang="ru-RU"/>
        </a:p>
      </dgm:t>
    </dgm:pt>
    <dgm:pt modelId="{5AB2EB11-A579-4150-ABC4-416BE37C049A}" type="sibTrans" cxnId="{39FB307D-4FA9-4C9F-A689-10DAE2908206}">
      <dgm:prSet/>
      <dgm:spPr/>
      <dgm:t>
        <a:bodyPr/>
        <a:lstStyle/>
        <a:p>
          <a:endParaRPr lang="ru-RU"/>
        </a:p>
      </dgm:t>
    </dgm:pt>
    <dgm:pt modelId="{96F40A59-A75F-4AE3-BEB9-4681E6126DE0}">
      <dgm:prSet phldrT="[Текст]" custT="1"/>
      <dgm:spPr/>
      <dgm:t>
        <a:bodyPr/>
        <a:lstStyle/>
        <a:p>
          <a:r>
            <a:rPr lang="ru-RU" sz="15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  <a:ea typeface="+mn-ea"/>
              <a:cs typeface="PT Sans"/>
            </a:rPr>
            <a:t>ПРОВЕРКА</a:t>
          </a:r>
          <a:r>
            <a:rPr lang="ru-RU" sz="1500" kern="1200" dirty="0" smtClean="0"/>
            <a:t> </a:t>
          </a:r>
          <a:r>
            <a:rPr lang="ru-RU" sz="15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  <a:ea typeface="+mn-ea"/>
              <a:cs typeface="PT Sans"/>
            </a:rPr>
            <a:t>РЕЛЕВАНТНОСТИ</a:t>
          </a:r>
          <a:endParaRPr lang="ru-RU" sz="1500" b="1" kern="1200" dirty="0">
            <a:solidFill>
              <a:schemeClr val="tx1">
                <a:lumMod val="75000"/>
                <a:lumOff val="25000"/>
              </a:schemeClr>
            </a:solidFill>
            <a:latin typeface="PT Sans"/>
            <a:ea typeface="+mn-ea"/>
            <a:cs typeface="PT Sans"/>
          </a:endParaRPr>
        </a:p>
      </dgm:t>
    </dgm:pt>
    <dgm:pt modelId="{5355293A-5926-4F68-9531-DEA549F6C771}" type="parTrans" cxnId="{BC5CC5DF-EA2D-4E4F-9398-5D408FC17A05}">
      <dgm:prSet/>
      <dgm:spPr/>
      <dgm:t>
        <a:bodyPr/>
        <a:lstStyle/>
        <a:p>
          <a:endParaRPr lang="ru-RU"/>
        </a:p>
      </dgm:t>
    </dgm:pt>
    <dgm:pt modelId="{E15FAD47-A3D2-4CE8-9877-7398FD75B51D}" type="sibTrans" cxnId="{BC5CC5DF-EA2D-4E4F-9398-5D408FC17A05}">
      <dgm:prSet/>
      <dgm:spPr/>
      <dgm:t>
        <a:bodyPr/>
        <a:lstStyle/>
        <a:p>
          <a:endParaRPr lang="ru-RU"/>
        </a:p>
      </dgm:t>
    </dgm:pt>
    <dgm:pt modelId="{F4544F9F-0F97-4976-98C7-E192DDB3F6A1}" type="pres">
      <dgm:prSet presAssocID="{643B7895-AA7D-4722-97D3-3D51779AC7C2}" presName="arrowDiagram" presStyleCnt="0">
        <dgm:presLayoutVars>
          <dgm:chMax val="5"/>
          <dgm:dir/>
          <dgm:resizeHandles val="exact"/>
        </dgm:presLayoutVars>
      </dgm:prSet>
      <dgm:spPr/>
    </dgm:pt>
    <dgm:pt modelId="{99AFF2A2-5639-4E05-845F-3F13E67EB374}" type="pres">
      <dgm:prSet presAssocID="{643B7895-AA7D-4722-97D3-3D51779AC7C2}" presName="arrow" presStyleLbl="bgShp" presStyleIdx="0" presStyleCnt="1" custLinFactNeighborX="0"/>
      <dgm:spPr>
        <a:solidFill>
          <a:schemeClr val="accent3">
            <a:lumMod val="60000"/>
            <a:lumOff val="40000"/>
          </a:schemeClr>
        </a:solidFill>
      </dgm:spPr>
    </dgm:pt>
    <dgm:pt modelId="{24542E64-20F4-4750-B54D-082F898859E5}" type="pres">
      <dgm:prSet presAssocID="{643B7895-AA7D-4722-97D3-3D51779AC7C2}" presName="arrowDiagram3" presStyleCnt="0"/>
      <dgm:spPr/>
    </dgm:pt>
    <dgm:pt modelId="{075F2373-4375-47B4-AAB5-EEDB7F93222E}" type="pres">
      <dgm:prSet presAssocID="{E0C1A045-0141-4AA2-8F8D-0E262165D0EC}" presName="bullet3a" presStyleLbl="node1" presStyleIdx="0" presStyleCnt="3"/>
      <dgm:spPr>
        <a:solidFill>
          <a:srgbClr val="54B64E"/>
        </a:solidFill>
        <a:ln>
          <a:solidFill>
            <a:srgbClr val="54B64E"/>
          </a:solidFill>
        </a:ln>
      </dgm:spPr>
    </dgm:pt>
    <dgm:pt modelId="{0FE990F4-656B-46A9-8CE7-A053A356CFE2}" type="pres">
      <dgm:prSet presAssocID="{E0C1A045-0141-4AA2-8F8D-0E262165D0EC}" presName="textBox3a" presStyleLbl="revTx" presStyleIdx="0" presStyleCnt="3" custScaleX="110845" custLinFactNeighborX="13089" custLinFactNeighborY="8442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131FFCB-D5C9-406D-9933-AA2135248D3B}" type="pres">
      <dgm:prSet presAssocID="{19BC69D8-BB8B-4AB3-A8B7-1215AC3975D9}" presName="bullet3b" presStyleLbl="node1" presStyleIdx="1" presStyleCnt="3"/>
      <dgm:spPr>
        <a:solidFill>
          <a:srgbClr val="54B64E"/>
        </a:solidFill>
        <a:ln>
          <a:solidFill>
            <a:srgbClr val="54B64E"/>
          </a:solidFill>
        </a:ln>
      </dgm:spPr>
    </dgm:pt>
    <dgm:pt modelId="{5AAF7E03-F890-4576-AF72-DE82C0D87885}" type="pres">
      <dgm:prSet presAssocID="{19BC69D8-BB8B-4AB3-A8B7-1215AC3975D9}" presName="textBox3b" presStyleLbl="revTx" presStyleIdx="1" presStyleCnt="3" custScaleX="121778" custLinFactNeighborX="15883" custLinFactNeighborY="0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44F6B29-1DF8-46A3-A357-8A9D95B5A2D3}" type="pres">
      <dgm:prSet presAssocID="{96F40A59-A75F-4AE3-BEB9-4681E6126DE0}" presName="bullet3c" presStyleLbl="node1" presStyleIdx="2" presStyleCnt="3"/>
      <dgm:spPr>
        <a:solidFill>
          <a:srgbClr val="54B64E"/>
        </a:solidFill>
        <a:ln>
          <a:solidFill>
            <a:srgbClr val="54B64E"/>
          </a:solidFill>
        </a:ln>
      </dgm:spPr>
    </dgm:pt>
    <dgm:pt modelId="{627DA346-B409-4F5B-A963-C3F42424E757}" type="pres">
      <dgm:prSet presAssocID="{96F40A59-A75F-4AE3-BEB9-4681E6126DE0}" presName="textBox3c" presStyleLbl="revTx" presStyleIdx="2" presStyleCnt="3" custScaleX="134188" custLinFactNeighborX="24356" custLinFactNeighborY="681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C4FCB2F-90B3-4995-BCD0-411C711E2135}" srcId="{643B7895-AA7D-4722-97D3-3D51779AC7C2}" destId="{E0C1A045-0141-4AA2-8F8D-0E262165D0EC}" srcOrd="0" destOrd="0" parTransId="{361BD810-3D8B-49D5-AAA1-3F397DE21FC1}" sibTransId="{A82908C6-B191-4466-81ED-A3919A1BA2A2}"/>
    <dgm:cxn modelId="{6BBCE489-127B-41A6-B119-B8B83029445F}" type="presOf" srcId="{643B7895-AA7D-4722-97D3-3D51779AC7C2}" destId="{F4544F9F-0F97-4976-98C7-E192DDB3F6A1}" srcOrd="0" destOrd="0" presId="urn:microsoft.com/office/officeart/2005/8/layout/arrow2"/>
    <dgm:cxn modelId="{C430CBA9-E03C-406C-9DF8-DBE2F09013C5}" type="presOf" srcId="{E0C1A045-0141-4AA2-8F8D-0E262165D0EC}" destId="{0FE990F4-656B-46A9-8CE7-A053A356CFE2}" srcOrd="0" destOrd="0" presId="urn:microsoft.com/office/officeart/2005/8/layout/arrow2"/>
    <dgm:cxn modelId="{EDB941A5-9A6A-472E-AE9B-B751A9ED324A}" type="presOf" srcId="{96F40A59-A75F-4AE3-BEB9-4681E6126DE0}" destId="{627DA346-B409-4F5B-A963-C3F42424E757}" srcOrd="0" destOrd="0" presId="urn:microsoft.com/office/officeart/2005/8/layout/arrow2"/>
    <dgm:cxn modelId="{BC5CC5DF-EA2D-4E4F-9398-5D408FC17A05}" srcId="{643B7895-AA7D-4722-97D3-3D51779AC7C2}" destId="{96F40A59-A75F-4AE3-BEB9-4681E6126DE0}" srcOrd="2" destOrd="0" parTransId="{5355293A-5926-4F68-9531-DEA549F6C771}" sibTransId="{E15FAD47-A3D2-4CE8-9877-7398FD75B51D}"/>
    <dgm:cxn modelId="{39FB307D-4FA9-4C9F-A689-10DAE2908206}" srcId="{643B7895-AA7D-4722-97D3-3D51779AC7C2}" destId="{19BC69D8-BB8B-4AB3-A8B7-1215AC3975D9}" srcOrd="1" destOrd="0" parTransId="{264F21B5-1CDC-47C4-B840-0EE0A4EC2FDF}" sibTransId="{5AB2EB11-A579-4150-ABC4-416BE37C049A}"/>
    <dgm:cxn modelId="{5A0BFD1B-3140-4C65-BE95-14FB12F252C4}" type="presOf" srcId="{19BC69D8-BB8B-4AB3-A8B7-1215AC3975D9}" destId="{5AAF7E03-F890-4576-AF72-DE82C0D87885}" srcOrd="0" destOrd="0" presId="urn:microsoft.com/office/officeart/2005/8/layout/arrow2"/>
    <dgm:cxn modelId="{34B901C1-F0EF-4FBD-A61C-DA836D32E9BE}" type="presParOf" srcId="{F4544F9F-0F97-4976-98C7-E192DDB3F6A1}" destId="{99AFF2A2-5639-4E05-845F-3F13E67EB374}" srcOrd="0" destOrd="0" presId="urn:microsoft.com/office/officeart/2005/8/layout/arrow2"/>
    <dgm:cxn modelId="{55A55B4E-1A73-4F83-A9B3-FE793F099106}" type="presParOf" srcId="{F4544F9F-0F97-4976-98C7-E192DDB3F6A1}" destId="{24542E64-20F4-4750-B54D-082F898859E5}" srcOrd="1" destOrd="0" presId="urn:microsoft.com/office/officeart/2005/8/layout/arrow2"/>
    <dgm:cxn modelId="{859290C4-EE40-4C08-9F60-8EB3C782BCF6}" type="presParOf" srcId="{24542E64-20F4-4750-B54D-082F898859E5}" destId="{075F2373-4375-47B4-AAB5-EEDB7F93222E}" srcOrd="0" destOrd="0" presId="urn:microsoft.com/office/officeart/2005/8/layout/arrow2"/>
    <dgm:cxn modelId="{9E3EF0E2-57AF-47B3-B657-231E87E106A9}" type="presParOf" srcId="{24542E64-20F4-4750-B54D-082F898859E5}" destId="{0FE990F4-656B-46A9-8CE7-A053A356CFE2}" srcOrd="1" destOrd="0" presId="urn:microsoft.com/office/officeart/2005/8/layout/arrow2"/>
    <dgm:cxn modelId="{AA94FCEE-FE4F-4265-8021-077DBDE0A198}" type="presParOf" srcId="{24542E64-20F4-4750-B54D-082F898859E5}" destId="{B131FFCB-D5C9-406D-9933-AA2135248D3B}" srcOrd="2" destOrd="0" presId="urn:microsoft.com/office/officeart/2005/8/layout/arrow2"/>
    <dgm:cxn modelId="{187A8199-BB57-402D-833F-478DA2FC06E1}" type="presParOf" srcId="{24542E64-20F4-4750-B54D-082F898859E5}" destId="{5AAF7E03-F890-4576-AF72-DE82C0D87885}" srcOrd="3" destOrd="0" presId="urn:microsoft.com/office/officeart/2005/8/layout/arrow2"/>
    <dgm:cxn modelId="{1D89D81B-C2A5-4CA3-96F3-42CF92E31F8C}" type="presParOf" srcId="{24542E64-20F4-4750-B54D-082F898859E5}" destId="{E44F6B29-1DF8-46A3-A357-8A9D95B5A2D3}" srcOrd="4" destOrd="0" presId="urn:microsoft.com/office/officeart/2005/8/layout/arrow2"/>
    <dgm:cxn modelId="{ED25EA4E-DF14-400F-921E-D809B2227E21}" type="presParOf" srcId="{24542E64-20F4-4750-B54D-082F898859E5}" destId="{627DA346-B409-4F5B-A963-C3F42424E757}" srcOrd="5" destOrd="0" presId="urn:microsoft.com/office/officeart/2005/8/layout/arrow2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4.xml><?xml version="1.0" encoding="utf-8"?>
<dgm:dataModel xmlns:dgm="http://schemas.openxmlformats.org/drawingml/2006/diagram" xmlns:a="http://schemas.openxmlformats.org/drawingml/2006/main">
  <dgm:ptLst>
    <dgm:pt modelId="{DCCC09A6-050D-4F30-AD51-0D2B47EC34C6}" type="doc">
      <dgm:prSet loTypeId="urn:microsoft.com/office/officeart/2005/8/layout/StepDown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7EE5CD9-F0A7-428D-A469-00B78873E9E0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1</a:t>
          </a:r>
          <a:endParaRPr lang="ru-RU" dirty="0"/>
        </a:p>
      </dgm:t>
    </dgm:pt>
    <dgm:pt modelId="{3A4FD7C9-62E6-4897-A68F-B6DE6317416E}" type="parTrans" cxnId="{A89174EC-38CB-4DC0-9C92-B1782CB5613A}">
      <dgm:prSet/>
      <dgm:spPr/>
      <dgm:t>
        <a:bodyPr/>
        <a:lstStyle/>
        <a:p>
          <a:endParaRPr lang="ru-RU"/>
        </a:p>
      </dgm:t>
    </dgm:pt>
    <dgm:pt modelId="{C1F5C039-7B67-48C7-8FEE-27111090125E}" type="sibTrans" cxnId="{A89174EC-38CB-4DC0-9C92-B1782CB5613A}">
      <dgm:prSet/>
      <dgm:spPr/>
      <dgm:t>
        <a:bodyPr/>
        <a:lstStyle/>
        <a:p>
          <a:endParaRPr lang="ru-RU"/>
        </a:p>
      </dgm:t>
    </dgm:pt>
    <dgm:pt modelId="{33B4CD11-6DD2-44BA-9C11-6F4DF9115423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2</a:t>
          </a:r>
          <a:endParaRPr lang="ru-RU" dirty="0"/>
        </a:p>
      </dgm:t>
    </dgm:pt>
    <dgm:pt modelId="{9741DA34-8F0E-481E-B657-3EBBC72BAD33}" type="parTrans" cxnId="{93A69013-1FDA-4317-8565-3A305B130E4B}">
      <dgm:prSet/>
      <dgm:spPr/>
      <dgm:t>
        <a:bodyPr/>
        <a:lstStyle/>
        <a:p>
          <a:endParaRPr lang="ru-RU"/>
        </a:p>
      </dgm:t>
    </dgm:pt>
    <dgm:pt modelId="{57FAF8B3-0497-44D4-9836-DE61586F3A89}" type="sibTrans" cxnId="{93A69013-1FDA-4317-8565-3A305B130E4B}">
      <dgm:prSet/>
      <dgm:spPr/>
      <dgm:t>
        <a:bodyPr/>
        <a:lstStyle/>
        <a:p>
          <a:endParaRPr lang="ru-RU"/>
        </a:p>
      </dgm:t>
    </dgm:pt>
    <dgm:pt modelId="{E61A5E04-A9FA-4FF2-A5E4-B39D7D42AE44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3</a:t>
          </a:r>
          <a:endParaRPr lang="ru-RU" dirty="0"/>
        </a:p>
      </dgm:t>
    </dgm:pt>
    <dgm:pt modelId="{4B33E705-00E4-495E-86D2-58EFC87618B0}" type="parTrans" cxnId="{821C1A49-2F70-457E-A614-C3AB9394D87A}">
      <dgm:prSet/>
      <dgm:spPr/>
      <dgm:t>
        <a:bodyPr/>
        <a:lstStyle/>
        <a:p>
          <a:endParaRPr lang="ru-RU"/>
        </a:p>
      </dgm:t>
    </dgm:pt>
    <dgm:pt modelId="{4081B9F3-5118-476C-868C-D4E1A2A10A18}" type="sibTrans" cxnId="{821C1A49-2F70-457E-A614-C3AB9394D87A}">
      <dgm:prSet/>
      <dgm:spPr/>
      <dgm:t>
        <a:bodyPr/>
        <a:lstStyle/>
        <a:p>
          <a:endParaRPr lang="ru-RU"/>
        </a:p>
      </dgm:t>
    </dgm:pt>
    <dgm:pt modelId="{B884E4CF-FFAE-4DF5-93B6-EFC97916ADFC}" type="pres">
      <dgm:prSet presAssocID="{DCCC09A6-050D-4F30-AD51-0D2B47EC34C6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36A9DE73-E3E8-4B4A-BAD5-8CCB66BB7574}" type="pres">
      <dgm:prSet presAssocID="{27EE5CD9-F0A7-428D-A469-00B78873E9E0}" presName="composite" presStyleCnt="0"/>
      <dgm:spPr/>
    </dgm:pt>
    <dgm:pt modelId="{9A9DE8E1-49E8-4EF9-AB1E-F93726DCC1BA}" type="pres">
      <dgm:prSet presAssocID="{27EE5CD9-F0A7-428D-A469-00B78873E9E0}" presName="bentUpArrow1" presStyleLbl="alignImgPlace1" presStyleIdx="0" presStyleCnt="2"/>
      <dgm:spPr>
        <a:solidFill>
          <a:schemeClr val="accent3">
            <a:lumMod val="40000"/>
            <a:lumOff val="60000"/>
          </a:schemeClr>
        </a:solidFill>
      </dgm:spPr>
    </dgm:pt>
    <dgm:pt modelId="{ABBFDA36-7D50-4991-9660-96C84DC9A77A}" type="pres">
      <dgm:prSet presAssocID="{27EE5CD9-F0A7-428D-A469-00B78873E9E0}" presName="ParentText" presStyleLbl="node1" presStyleIdx="0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A2F10A-C085-415C-8ED7-BF12D02A2BD5}" type="pres">
      <dgm:prSet presAssocID="{27EE5CD9-F0A7-428D-A469-00B78873E9E0}" presName="ChildText" presStyleLbl="revTx" presStyleIdx="0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97B9BD-9356-41D7-AB47-4DA50A4FC55A}" type="pres">
      <dgm:prSet presAssocID="{C1F5C039-7B67-48C7-8FEE-27111090125E}" presName="sibTrans" presStyleCnt="0"/>
      <dgm:spPr/>
    </dgm:pt>
    <dgm:pt modelId="{CA9D5A06-F50A-4132-A699-9B1EAC6E5F0C}" type="pres">
      <dgm:prSet presAssocID="{33B4CD11-6DD2-44BA-9C11-6F4DF9115423}" presName="composite" presStyleCnt="0"/>
      <dgm:spPr/>
    </dgm:pt>
    <dgm:pt modelId="{F4662974-957B-41B0-9216-9F087C841E51}" type="pres">
      <dgm:prSet presAssocID="{33B4CD11-6DD2-44BA-9C11-6F4DF9115423}" presName="bentUpArrow1" presStyleLbl="alignImgPlace1" presStyleIdx="1" presStyleCnt="2"/>
      <dgm:spPr>
        <a:blipFill rotWithShape="0">
          <a:blip xmlns:r="http://schemas.openxmlformats.org/officeDocument/2006/relationships" r:embed="rId1"/>
          <a:stretch>
            <a:fillRect/>
          </a:stretch>
        </a:blipFill>
      </dgm:spPr>
      <dgm:t>
        <a:bodyPr/>
        <a:lstStyle/>
        <a:p>
          <a:endParaRPr lang="ru-RU"/>
        </a:p>
      </dgm:t>
    </dgm:pt>
    <dgm:pt modelId="{ACF436D0-7BA5-44E9-AF07-0F4B6D560893}" type="pres">
      <dgm:prSet presAssocID="{33B4CD11-6DD2-44BA-9C11-6F4DF9115423}" presName="ParentText" presStyleLbl="node1" presStyleIdx="1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B124D50-6CD1-4448-9957-DBAB4A9CD6A5}" type="pres">
      <dgm:prSet presAssocID="{33B4CD11-6DD2-44BA-9C11-6F4DF9115423}" presName="ChildText" presStyleLbl="revTx" presStyleIdx="1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AB31236-7B06-4FBC-A17E-C1A2E4E78BF5}" type="pres">
      <dgm:prSet presAssocID="{57FAF8B3-0497-44D4-9836-DE61586F3A89}" presName="sibTrans" presStyleCnt="0"/>
      <dgm:spPr/>
    </dgm:pt>
    <dgm:pt modelId="{98E723DD-3B7E-474F-B3EB-AB88DE8D71C9}" type="pres">
      <dgm:prSet presAssocID="{E61A5E04-A9FA-4FF2-A5E4-B39D7D42AE44}" presName="composite" presStyleCnt="0"/>
      <dgm:spPr/>
    </dgm:pt>
    <dgm:pt modelId="{D404270D-2DA1-469D-A14C-8F8749633973}" type="pres">
      <dgm:prSet presAssocID="{E61A5E04-A9FA-4FF2-A5E4-B39D7D42AE44}" presName="ParentText" presStyleLbl="node1" presStyleIdx="2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24EFEBC2-0297-400E-B6D1-CA0B198AFEBE}" type="presOf" srcId="{27EE5CD9-F0A7-428D-A469-00B78873E9E0}" destId="{ABBFDA36-7D50-4991-9660-96C84DC9A77A}" srcOrd="0" destOrd="0" presId="urn:microsoft.com/office/officeart/2005/8/layout/StepDownProcess"/>
    <dgm:cxn modelId="{3515A7A8-9285-48BD-8A06-A11B78B779BD}" type="presOf" srcId="{DCCC09A6-050D-4F30-AD51-0D2B47EC34C6}" destId="{B884E4CF-FFAE-4DF5-93B6-EFC97916ADFC}" srcOrd="0" destOrd="0" presId="urn:microsoft.com/office/officeart/2005/8/layout/StepDownProcess"/>
    <dgm:cxn modelId="{A89174EC-38CB-4DC0-9C92-B1782CB5613A}" srcId="{DCCC09A6-050D-4F30-AD51-0D2B47EC34C6}" destId="{27EE5CD9-F0A7-428D-A469-00B78873E9E0}" srcOrd="0" destOrd="0" parTransId="{3A4FD7C9-62E6-4897-A68F-B6DE6317416E}" sibTransId="{C1F5C039-7B67-48C7-8FEE-27111090125E}"/>
    <dgm:cxn modelId="{36050C1F-1566-48F7-BC02-56F423BC0787}" type="presOf" srcId="{E61A5E04-A9FA-4FF2-A5E4-B39D7D42AE44}" destId="{D404270D-2DA1-469D-A14C-8F8749633973}" srcOrd="0" destOrd="0" presId="urn:microsoft.com/office/officeart/2005/8/layout/StepDownProcess"/>
    <dgm:cxn modelId="{0D8021F6-9E43-4848-83D7-137A38876705}" type="presOf" srcId="{33B4CD11-6DD2-44BA-9C11-6F4DF9115423}" destId="{ACF436D0-7BA5-44E9-AF07-0F4B6D560893}" srcOrd="0" destOrd="0" presId="urn:microsoft.com/office/officeart/2005/8/layout/StepDownProcess"/>
    <dgm:cxn modelId="{93A69013-1FDA-4317-8565-3A305B130E4B}" srcId="{DCCC09A6-050D-4F30-AD51-0D2B47EC34C6}" destId="{33B4CD11-6DD2-44BA-9C11-6F4DF9115423}" srcOrd="1" destOrd="0" parTransId="{9741DA34-8F0E-481E-B657-3EBBC72BAD33}" sibTransId="{57FAF8B3-0497-44D4-9836-DE61586F3A89}"/>
    <dgm:cxn modelId="{821C1A49-2F70-457E-A614-C3AB9394D87A}" srcId="{DCCC09A6-050D-4F30-AD51-0D2B47EC34C6}" destId="{E61A5E04-A9FA-4FF2-A5E4-B39D7D42AE44}" srcOrd="2" destOrd="0" parTransId="{4B33E705-00E4-495E-86D2-58EFC87618B0}" sibTransId="{4081B9F3-5118-476C-868C-D4E1A2A10A18}"/>
    <dgm:cxn modelId="{B10E4687-3CC8-4F7E-976B-227CDEFBF47E}" type="presParOf" srcId="{B884E4CF-FFAE-4DF5-93B6-EFC97916ADFC}" destId="{36A9DE73-E3E8-4B4A-BAD5-8CCB66BB7574}" srcOrd="0" destOrd="0" presId="urn:microsoft.com/office/officeart/2005/8/layout/StepDownProcess"/>
    <dgm:cxn modelId="{0D45F519-26EE-4D9D-8F4F-51D50CB22629}" type="presParOf" srcId="{36A9DE73-E3E8-4B4A-BAD5-8CCB66BB7574}" destId="{9A9DE8E1-49E8-4EF9-AB1E-F93726DCC1BA}" srcOrd="0" destOrd="0" presId="urn:microsoft.com/office/officeart/2005/8/layout/StepDownProcess"/>
    <dgm:cxn modelId="{DA42EE5F-3513-4438-A71A-40E3359D5FEF}" type="presParOf" srcId="{36A9DE73-E3E8-4B4A-BAD5-8CCB66BB7574}" destId="{ABBFDA36-7D50-4991-9660-96C84DC9A77A}" srcOrd="1" destOrd="0" presId="urn:microsoft.com/office/officeart/2005/8/layout/StepDownProcess"/>
    <dgm:cxn modelId="{62D6114A-0A07-40F5-A214-9DF3E67745C9}" type="presParOf" srcId="{36A9DE73-E3E8-4B4A-BAD5-8CCB66BB7574}" destId="{B3A2F10A-C085-415C-8ED7-BF12D02A2BD5}" srcOrd="2" destOrd="0" presId="urn:microsoft.com/office/officeart/2005/8/layout/StepDownProcess"/>
    <dgm:cxn modelId="{450E62A7-5D62-4B22-9F29-4B055F7CD6F1}" type="presParOf" srcId="{B884E4CF-FFAE-4DF5-93B6-EFC97916ADFC}" destId="{1D97B9BD-9356-41D7-AB47-4DA50A4FC55A}" srcOrd="1" destOrd="0" presId="urn:microsoft.com/office/officeart/2005/8/layout/StepDownProcess"/>
    <dgm:cxn modelId="{F8995420-0C08-4D59-AAFF-B57CF6D2629F}" type="presParOf" srcId="{B884E4CF-FFAE-4DF5-93B6-EFC97916ADFC}" destId="{CA9D5A06-F50A-4132-A699-9B1EAC6E5F0C}" srcOrd="2" destOrd="0" presId="urn:microsoft.com/office/officeart/2005/8/layout/StepDownProcess"/>
    <dgm:cxn modelId="{4B47F425-F91F-4ABF-8BC4-A3FA6E341FE5}" type="presParOf" srcId="{CA9D5A06-F50A-4132-A699-9B1EAC6E5F0C}" destId="{F4662974-957B-41B0-9216-9F087C841E51}" srcOrd="0" destOrd="0" presId="urn:microsoft.com/office/officeart/2005/8/layout/StepDownProcess"/>
    <dgm:cxn modelId="{1B5CD526-5967-4372-B640-EE0958569A28}" type="presParOf" srcId="{CA9D5A06-F50A-4132-A699-9B1EAC6E5F0C}" destId="{ACF436D0-7BA5-44E9-AF07-0F4B6D560893}" srcOrd="1" destOrd="0" presId="urn:microsoft.com/office/officeart/2005/8/layout/StepDownProcess"/>
    <dgm:cxn modelId="{AE2EF19E-BFCF-4D2B-8FF6-3D37635BEDD7}" type="presParOf" srcId="{CA9D5A06-F50A-4132-A699-9B1EAC6E5F0C}" destId="{AB124D50-6CD1-4448-9957-DBAB4A9CD6A5}" srcOrd="2" destOrd="0" presId="urn:microsoft.com/office/officeart/2005/8/layout/StepDownProcess"/>
    <dgm:cxn modelId="{375687A0-83F6-492E-9281-12E103F8F6D1}" type="presParOf" srcId="{B884E4CF-FFAE-4DF5-93B6-EFC97916ADFC}" destId="{5AB31236-7B06-4FBC-A17E-C1A2E4E78BF5}" srcOrd="3" destOrd="0" presId="urn:microsoft.com/office/officeart/2005/8/layout/StepDownProcess"/>
    <dgm:cxn modelId="{3BA968C0-F2AB-4FE3-B3B4-42B85D0007C0}" type="presParOf" srcId="{B884E4CF-FFAE-4DF5-93B6-EFC97916ADFC}" destId="{98E723DD-3B7E-474F-B3EB-AB88DE8D71C9}" srcOrd="4" destOrd="0" presId="urn:microsoft.com/office/officeart/2005/8/layout/StepDownProcess"/>
    <dgm:cxn modelId="{8E785158-7CA2-4C9B-A3CD-EC48553DF46F}" type="presParOf" srcId="{98E723DD-3B7E-474F-B3EB-AB88DE8D71C9}" destId="{D404270D-2DA1-469D-A14C-8F8749633973}" srcOrd="0" destOrd="0" presId="urn:microsoft.com/office/officeart/2005/8/layout/StepDownProcess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ata5.xml><?xml version="1.0" encoding="utf-8"?>
<dgm:dataModel xmlns:dgm="http://schemas.openxmlformats.org/drawingml/2006/diagram" xmlns:a="http://schemas.openxmlformats.org/drawingml/2006/main">
  <dgm:ptLst>
    <dgm:pt modelId="{DCCC09A6-050D-4F30-AD51-0D2B47EC34C6}" type="doc">
      <dgm:prSet loTypeId="urn:microsoft.com/office/officeart/2005/8/layout/StepDown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7EE5CD9-F0A7-428D-A469-00B78873E9E0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2</a:t>
          </a:r>
          <a:endParaRPr lang="ru-RU" dirty="0"/>
        </a:p>
      </dgm:t>
    </dgm:pt>
    <dgm:pt modelId="{3A4FD7C9-62E6-4897-A68F-B6DE6317416E}" type="parTrans" cxnId="{A89174EC-38CB-4DC0-9C92-B1782CB5613A}">
      <dgm:prSet/>
      <dgm:spPr/>
      <dgm:t>
        <a:bodyPr/>
        <a:lstStyle/>
        <a:p>
          <a:endParaRPr lang="ru-RU"/>
        </a:p>
      </dgm:t>
    </dgm:pt>
    <dgm:pt modelId="{C1F5C039-7B67-48C7-8FEE-27111090125E}" type="sibTrans" cxnId="{A89174EC-38CB-4DC0-9C92-B1782CB5613A}">
      <dgm:prSet/>
      <dgm:spPr/>
      <dgm:t>
        <a:bodyPr/>
        <a:lstStyle/>
        <a:p>
          <a:endParaRPr lang="ru-RU"/>
        </a:p>
      </dgm:t>
    </dgm:pt>
    <dgm:pt modelId="{33B4CD11-6DD2-44BA-9C11-6F4DF9115423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3</a:t>
          </a:r>
          <a:endParaRPr lang="ru-RU" dirty="0"/>
        </a:p>
      </dgm:t>
    </dgm:pt>
    <dgm:pt modelId="{9741DA34-8F0E-481E-B657-3EBBC72BAD33}" type="parTrans" cxnId="{93A69013-1FDA-4317-8565-3A305B130E4B}">
      <dgm:prSet/>
      <dgm:spPr/>
      <dgm:t>
        <a:bodyPr/>
        <a:lstStyle/>
        <a:p>
          <a:endParaRPr lang="ru-RU"/>
        </a:p>
      </dgm:t>
    </dgm:pt>
    <dgm:pt modelId="{57FAF8B3-0497-44D4-9836-DE61586F3A89}" type="sibTrans" cxnId="{93A69013-1FDA-4317-8565-3A305B130E4B}">
      <dgm:prSet/>
      <dgm:spPr/>
      <dgm:t>
        <a:bodyPr/>
        <a:lstStyle/>
        <a:p>
          <a:endParaRPr lang="ru-RU"/>
        </a:p>
      </dgm:t>
    </dgm:pt>
    <dgm:pt modelId="{E61A5E04-A9FA-4FF2-A5E4-B39D7D42AE44}">
      <dgm:prSet phldrT="[Текст]"/>
      <dgm:spPr>
        <a:solidFill>
          <a:srgbClr val="54B64E"/>
        </a:solidFill>
      </dgm:spPr>
      <dgm:t>
        <a:bodyPr/>
        <a:lstStyle/>
        <a:p>
          <a:r>
            <a:rPr lang="en-US" dirty="0" smtClean="0"/>
            <a:t>H4</a:t>
          </a:r>
          <a:endParaRPr lang="ru-RU" dirty="0"/>
        </a:p>
      </dgm:t>
    </dgm:pt>
    <dgm:pt modelId="{4B33E705-00E4-495E-86D2-58EFC87618B0}" type="parTrans" cxnId="{821C1A49-2F70-457E-A614-C3AB9394D87A}">
      <dgm:prSet/>
      <dgm:spPr/>
      <dgm:t>
        <a:bodyPr/>
        <a:lstStyle/>
        <a:p>
          <a:endParaRPr lang="ru-RU"/>
        </a:p>
      </dgm:t>
    </dgm:pt>
    <dgm:pt modelId="{4081B9F3-5118-476C-868C-D4E1A2A10A18}" type="sibTrans" cxnId="{821C1A49-2F70-457E-A614-C3AB9394D87A}">
      <dgm:prSet/>
      <dgm:spPr/>
      <dgm:t>
        <a:bodyPr/>
        <a:lstStyle/>
        <a:p>
          <a:endParaRPr lang="ru-RU"/>
        </a:p>
      </dgm:t>
    </dgm:pt>
    <dgm:pt modelId="{B884E4CF-FFAE-4DF5-93B6-EFC97916ADFC}" type="pres">
      <dgm:prSet presAssocID="{DCCC09A6-050D-4F30-AD51-0D2B47EC34C6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36A9DE73-E3E8-4B4A-BAD5-8CCB66BB7574}" type="pres">
      <dgm:prSet presAssocID="{27EE5CD9-F0A7-428D-A469-00B78873E9E0}" presName="composite" presStyleCnt="0"/>
      <dgm:spPr/>
    </dgm:pt>
    <dgm:pt modelId="{9A9DE8E1-49E8-4EF9-AB1E-F93726DCC1BA}" type="pres">
      <dgm:prSet presAssocID="{27EE5CD9-F0A7-428D-A469-00B78873E9E0}" presName="bentUpArrow1" presStyleLbl="alignImgPlace1" presStyleIdx="0" presStyleCnt="2"/>
      <dgm:spPr>
        <a:solidFill>
          <a:schemeClr val="accent3">
            <a:lumMod val="40000"/>
            <a:lumOff val="60000"/>
          </a:schemeClr>
        </a:solidFill>
      </dgm:spPr>
    </dgm:pt>
    <dgm:pt modelId="{ABBFDA36-7D50-4991-9660-96C84DC9A77A}" type="pres">
      <dgm:prSet presAssocID="{27EE5CD9-F0A7-428D-A469-00B78873E9E0}" presName="ParentText" presStyleLbl="node1" presStyleIdx="0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A2F10A-C085-415C-8ED7-BF12D02A2BD5}" type="pres">
      <dgm:prSet presAssocID="{27EE5CD9-F0A7-428D-A469-00B78873E9E0}" presName="ChildText" presStyleLbl="revTx" presStyleIdx="0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97B9BD-9356-41D7-AB47-4DA50A4FC55A}" type="pres">
      <dgm:prSet presAssocID="{C1F5C039-7B67-48C7-8FEE-27111090125E}" presName="sibTrans" presStyleCnt="0"/>
      <dgm:spPr/>
    </dgm:pt>
    <dgm:pt modelId="{CA9D5A06-F50A-4132-A699-9B1EAC6E5F0C}" type="pres">
      <dgm:prSet presAssocID="{33B4CD11-6DD2-44BA-9C11-6F4DF9115423}" presName="composite" presStyleCnt="0"/>
      <dgm:spPr/>
    </dgm:pt>
    <dgm:pt modelId="{F4662974-957B-41B0-9216-9F087C841E51}" type="pres">
      <dgm:prSet presAssocID="{33B4CD11-6DD2-44BA-9C11-6F4DF9115423}" presName="bentUpArrow1" presStyleLbl="alignImgPlace1" presStyleIdx="1" presStyleCnt="2"/>
      <dgm:spPr>
        <a:solidFill>
          <a:schemeClr val="accent3">
            <a:lumMod val="40000"/>
            <a:lumOff val="60000"/>
          </a:schemeClr>
        </a:solidFill>
      </dgm:spPr>
    </dgm:pt>
    <dgm:pt modelId="{ACF436D0-7BA5-44E9-AF07-0F4B6D560893}" type="pres">
      <dgm:prSet presAssocID="{33B4CD11-6DD2-44BA-9C11-6F4DF9115423}" presName="ParentText" presStyleLbl="node1" presStyleIdx="1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B124D50-6CD1-4448-9957-DBAB4A9CD6A5}" type="pres">
      <dgm:prSet presAssocID="{33B4CD11-6DD2-44BA-9C11-6F4DF9115423}" presName="ChildText" presStyleLbl="revTx" presStyleIdx="1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AB31236-7B06-4FBC-A17E-C1A2E4E78BF5}" type="pres">
      <dgm:prSet presAssocID="{57FAF8B3-0497-44D4-9836-DE61586F3A89}" presName="sibTrans" presStyleCnt="0"/>
      <dgm:spPr/>
    </dgm:pt>
    <dgm:pt modelId="{98E723DD-3B7E-474F-B3EB-AB88DE8D71C9}" type="pres">
      <dgm:prSet presAssocID="{E61A5E04-A9FA-4FF2-A5E4-B39D7D42AE44}" presName="composite" presStyleCnt="0"/>
      <dgm:spPr/>
    </dgm:pt>
    <dgm:pt modelId="{D404270D-2DA1-469D-A14C-8F8749633973}" type="pres">
      <dgm:prSet presAssocID="{E61A5E04-A9FA-4FF2-A5E4-B39D7D42AE44}" presName="ParentText" presStyleLbl="node1" presStyleIdx="2" presStyleCnt="3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89174EC-38CB-4DC0-9C92-B1782CB5613A}" srcId="{DCCC09A6-050D-4F30-AD51-0D2B47EC34C6}" destId="{27EE5CD9-F0A7-428D-A469-00B78873E9E0}" srcOrd="0" destOrd="0" parTransId="{3A4FD7C9-62E6-4897-A68F-B6DE6317416E}" sibTransId="{C1F5C039-7B67-48C7-8FEE-27111090125E}"/>
    <dgm:cxn modelId="{93A69013-1FDA-4317-8565-3A305B130E4B}" srcId="{DCCC09A6-050D-4F30-AD51-0D2B47EC34C6}" destId="{33B4CD11-6DD2-44BA-9C11-6F4DF9115423}" srcOrd="1" destOrd="0" parTransId="{9741DA34-8F0E-481E-B657-3EBBC72BAD33}" sibTransId="{57FAF8B3-0497-44D4-9836-DE61586F3A89}"/>
    <dgm:cxn modelId="{C4FFD82F-1ACC-4A3F-BA7E-34DB23A25ADC}" type="presOf" srcId="{DCCC09A6-050D-4F30-AD51-0D2B47EC34C6}" destId="{B884E4CF-FFAE-4DF5-93B6-EFC97916ADFC}" srcOrd="0" destOrd="0" presId="urn:microsoft.com/office/officeart/2005/8/layout/StepDownProcess"/>
    <dgm:cxn modelId="{C2C7055A-C19E-4237-BC58-16395DB93491}" type="presOf" srcId="{33B4CD11-6DD2-44BA-9C11-6F4DF9115423}" destId="{ACF436D0-7BA5-44E9-AF07-0F4B6D560893}" srcOrd="0" destOrd="0" presId="urn:microsoft.com/office/officeart/2005/8/layout/StepDownProcess"/>
    <dgm:cxn modelId="{B80270B8-A66C-4A38-B80E-A7926D746A36}" type="presOf" srcId="{E61A5E04-A9FA-4FF2-A5E4-B39D7D42AE44}" destId="{D404270D-2DA1-469D-A14C-8F8749633973}" srcOrd="0" destOrd="0" presId="urn:microsoft.com/office/officeart/2005/8/layout/StepDownProcess"/>
    <dgm:cxn modelId="{A5604230-71D4-441F-A9CD-B62E476D58C4}" type="presOf" srcId="{27EE5CD9-F0A7-428D-A469-00B78873E9E0}" destId="{ABBFDA36-7D50-4991-9660-96C84DC9A77A}" srcOrd="0" destOrd="0" presId="urn:microsoft.com/office/officeart/2005/8/layout/StepDownProcess"/>
    <dgm:cxn modelId="{821C1A49-2F70-457E-A614-C3AB9394D87A}" srcId="{DCCC09A6-050D-4F30-AD51-0D2B47EC34C6}" destId="{E61A5E04-A9FA-4FF2-A5E4-B39D7D42AE44}" srcOrd="2" destOrd="0" parTransId="{4B33E705-00E4-495E-86D2-58EFC87618B0}" sibTransId="{4081B9F3-5118-476C-868C-D4E1A2A10A18}"/>
    <dgm:cxn modelId="{022A34A9-FBDC-4BC1-8F7C-13D911D9AF8A}" type="presParOf" srcId="{B884E4CF-FFAE-4DF5-93B6-EFC97916ADFC}" destId="{36A9DE73-E3E8-4B4A-BAD5-8CCB66BB7574}" srcOrd="0" destOrd="0" presId="urn:microsoft.com/office/officeart/2005/8/layout/StepDownProcess"/>
    <dgm:cxn modelId="{D7C09292-EED1-405E-9334-CED9BE5EC921}" type="presParOf" srcId="{36A9DE73-E3E8-4B4A-BAD5-8CCB66BB7574}" destId="{9A9DE8E1-49E8-4EF9-AB1E-F93726DCC1BA}" srcOrd="0" destOrd="0" presId="urn:microsoft.com/office/officeart/2005/8/layout/StepDownProcess"/>
    <dgm:cxn modelId="{CEDA492A-31A7-4199-9FFC-443E7E93A67F}" type="presParOf" srcId="{36A9DE73-E3E8-4B4A-BAD5-8CCB66BB7574}" destId="{ABBFDA36-7D50-4991-9660-96C84DC9A77A}" srcOrd="1" destOrd="0" presId="urn:microsoft.com/office/officeart/2005/8/layout/StepDownProcess"/>
    <dgm:cxn modelId="{6D9C2EB2-A666-4399-987D-653E30AC88DD}" type="presParOf" srcId="{36A9DE73-E3E8-4B4A-BAD5-8CCB66BB7574}" destId="{B3A2F10A-C085-415C-8ED7-BF12D02A2BD5}" srcOrd="2" destOrd="0" presId="urn:microsoft.com/office/officeart/2005/8/layout/StepDownProcess"/>
    <dgm:cxn modelId="{F92A70CD-2AA3-42D7-94EC-12B6062A75AE}" type="presParOf" srcId="{B884E4CF-FFAE-4DF5-93B6-EFC97916ADFC}" destId="{1D97B9BD-9356-41D7-AB47-4DA50A4FC55A}" srcOrd="1" destOrd="0" presId="urn:microsoft.com/office/officeart/2005/8/layout/StepDownProcess"/>
    <dgm:cxn modelId="{077EE4CE-19C5-4172-BE80-704CC3BFB90E}" type="presParOf" srcId="{B884E4CF-FFAE-4DF5-93B6-EFC97916ADFC}" destId="{CA9D5A06-F50A-4132-A699-9B1EAC6E5F0C}" srcOrd="2" destOrd="0" presId="urn:microsoft.com/office/officeart/2005/8/layout/StepDownProcess"/>
    <dgm:cxn modelId="{0A4B54E2-A46A-4CF9-A052-EB7AF1AE325B}" type="presParOf" srcId="{CA9D5A06-F50A-4132-A699-9B1EAC6E5F0C}" destId="{F4662974-957B-41B0-9216-9F087C841E51}" srcOrd="0" destOrd="0" presId="urn:microsoft.com/office/officeart/2005/8/layout/StepDownProcess"/>
    <dgm:cxn modelId="{67DF6603-79EE-4869-800F-7835CDEC2B36}" type="presParOf" srcId="{CA9D5A06-F50A-4132-A699-9B1EAC6E5F0C}" destId="{ACF436D0-7BA5-44E9-AF07-0F4B6D560893}" srcOrd="1" destOrd="0" presId="urn:microsoft.com/office/officeart/2005/8/layout/StepDownProcess"/>
    <dgm:cxn modelId="{7A556AB0-03E7-4F58-B40A-F2603871069E}" type="presParOf" srcId="{CA9D5A06-F50A-4132-A699-9B1EAC6E5F0C}" destId="{AB124D50-6CD1-4448-9957-DBAB4A9CD6A5}" srcOrd="2" destOrd="0" presId="urn:microsoft.com/office/officeart/2005/8/layout/StepDownProcess"/>
    <dgm:cxn modelId="{2814C56F-95B5-4758-859F-9FE71D6F1207}" type="presParOf" srcId="{B884E4CF-FFAE-4DF5-93B6-EFC97916ADFC}" destId="{5AB31236-7B06-4FBC-A17E-C1A2E4E78BF5}" srcOrd="3" destOrd="0" presId="urn:microsoft.com/office/officeart/2005/8/layout/StepDownProcess"/>
    <dgm:cxn modelId="{67D6B92E-D9AC-4C77-B97A-138923C012EC}" type="presParOf" srcId="{B884E4CF-FFAE-4DF5-93B6-EFC97916ADFC}" destId="{98E723DD-3B7E-474F-B3EB-AB88DE8D71C9}" srcOrd="4" destOrd="0" presId="urn:microsoft.com/office/officeart/2005/8/layout/StepDownProcess"/>
    <dgm:cxn modelId="{B9379E83-CF5B-4D30-B085-E29081869748}" type="presParOf" srcId="{98E723DD-3B7E-474F-B3EB-AB88DE8D71C9}" destId="{D404270D-2DA1-469D-A14C-8F8749633973}" srcOrd="0" destOrd="0" presId="urn:microsoft.com/office/officeart/2005/8/layout/StepDownProcess"/>
  </dgm:cxnLst>
  <dgm:bg/>
  <dgm:whole/>
  <dgm:extLst>
    <a:ext uri="http://schemas.microsoft.com/office/drawing/2008/diagram">
      <dsp:dataModelExt xmlns:dsp="http://schemas.microsoft.com/office/drawing/2008/diagram" relId="rId11" minVer="http://schemas.openxmlformats.org/drawingml/2006/diagram"/>
    </a:ext>
  </dgm:extLst>
</dgm:dataModel>
</file>

<file path=ppt/diagrams/data6.xml><?xml version="1.0" encoding="utf-8"?>
<dgm:dataModel xmlns:dgm="http://schemas.openxmlformats.org/drawingml/2006/diagram" xmlns:a="http://schemas.openxmlformats.org/drawingml/2006/main">
  <dgm:ptLst>
    <dgm:pt modelId="{DCCC09A6-050D-4F30-AD51-0D2B47EC34C6}" type="doc">
      <dgm:prSet loTypeId="urn:microsoft.com/office/officeart/2005/8/layout/StepDown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7EE5CD9-F0A7-428D-A469-00B78873E9E0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Машинки на радиоуправлении</a:t>
          </a:r>
          <a:endParaRPr lang="ru-RU" dirty="0"/>
        </a:p>
      </dgm:t>
    </dgm:pt>
    <dgm:pt modelId="{3A4FD7C9-62E6-4897-A68F-B6DE6317416E}" type="parTrans" cxnId="{A89174EC-38CB-4DC0-9C92-B1782CB5613A}">
      <dgm:prSet/>
      <dgm:spPr/>
      <dgm:t>
        <a:bodyPr/>
        <a:lstStyle/>
        <a:p>
          <a:endParaRPr lang="ru-RU"/>
        </a:p>
      </dgm:t>
    </dgm:pt>
    <dgm:pt modelId="{C1F5C039-7B67-48C7-8FEE-27111090125E}" type="sibTrans" cxnId="{A89174EC-38CB-4DC0-9C92-B1782CB5613A}">
      <dgm:prSet/>
      <dgm:spPr/>
      <dgm:t>
        <a:bodyPr/>
        <a:lstStyle/>
        <a:p>
          <a:endParaRPr lang="ru-RU"/>
        </a:p>
      </dgm:t>
    </dgm:pt>
    <dgm:pt modelId="{33B4CD11-6DD2-44BA-9C11-6F4DF9115423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Машинки с ДВС </a:t>
          </a:r>
          <a:endParaRPr lang="ru-RU" dirty="0"/>
        </a:p>
      </dgm:t>
    </dgm:pt>
    <dgm:pt modelId="{9741DA34-8F0E-481E-B657-3EBBC72BAD33}" type="parTrans" cxnId="{93A69013-1FDA-4317-8565-3A305B130E4B}">
      <dgm:prSet/>
      <dgm:spPr/>
      <dgm:t>
        <a:bodyPr/>
        <a:lstStyle/>
        <a:p>
          <a:endParaRPr lang="ru-RU"/>
        </a:p>
      </dgm:t>
    </dgm:pt>
    <dgm:pt modelId="{57FAF8B3-0497-44D4-9836-DE61586F3A89}" type="sibTrans" cxnId="{93A69013-1FDA-4317-8565-3A305B130E4B}">
      <dgm:prSet/>
      <dgm:spPr/>
      <dgm:t>
        <a:bodyPr/>
        <a:lstStyle/>
        <a:p>
          <a:endParaRPr lang="ru-RU"/>
        </a:p>
      </dgm:t>
    </dgm:pt>
    <dgm:pt modelId="{E61A5E04-A9FA-4FF2-A5E4-B39D7D42AE44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Виды</a:t>
          </a:r>
          <a:r>
            <a:rPr lang="ru-RU" baseline="0" dirty="0" smtClean="0"/>
            <a:t> ДВС для машинок</a:t>
          </a:r>
          <a:endParaRPr lang="ru-RU" dirty="0"/>
        </a:p>
      </dgm:t>
    </dgm:pt>
    <dgm:pt modelId="{4B33E705-00E4-495E-86D2-58EFC87618B0}" type="parTrans" cxnId="{821C1A49-2F70-457E-A614-C3AB9394D87A}">
      <dgm:prSet/>
      <dgm:spPr/>
      <dgm:t>
        <a:bodyPr/>
        <a:lstStyle/>
        <a:p>
          <a:endParaRPr lang="ru-RU"/>
        </a:p>
      </dgm:t>
    </dgm:pt>
    <dgm:pt modelId="{4081B9F3-5118-476C-868C-D4E1A2A10A18}" type="sibTrans" cxnId="{821C1A49-2F70-457E-A614-C3AB9394D87A}">
      <dgm:prSet/>
      <dgm:spPr/>
      <dgm:t>
        <a:bodyPr/>
        <a:lstStyle/>
        <a:p>
          <a:endParaRPr lang="ru-RU"/>
        </a:p>
      </dgm:t>
    </dgm:pt>
    <dgm:pt modelId="{B884E4CF-FFAE-4DF5-93B6-EFC97916ADFC}" type="pres">
      <dgm:prSet presAssocID="{DCCC09A6-050D-4F30-AD51-0D2B47EC34C6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36A9DE73-E3E8-4B4A-BAD5-8CCB66BB7574}" type="pres">
      <dgm:prSet presAssocID="{27EE5CD9-F0A7-428D-A469-00B78873E9E0}" presName="composite" presStyleCnt="0"/>
      <dgm:spPr/>
    </dgm:pt>
    <dgm:pt modelId="{9A9DE8E1-49E8-4EF9-AB1E-F93726DCC1BA}" type="pres">
      <dgm:prSet presAssocID="{27EE5CD9-F0A7-428D-A469-00B78873E9E0}" presName="bentUpArrow1" presStyleLbl="alignImgPlace1" presStyleIdx="0" presStyleCnt="2" custLinFactNeighborX="-50164" custLinFactNeighborY="2318"/>
      <dgm:spPr>
        <a:solidFill>
          <a:schemeClr val="accent3">
            <a:lumMod val="40000"/>
            <a:lumOff val="60000"/>
          </a:schemeClr>
        </a:solidFill>
      </dgm:spPr>
    </dgm:pt>
    <dgm:pt modelId="{ABBFDA36-7D50-4991-9660-96C84DC9A77A}" type="pres">
      <dgm:prSet presAssocID="{27EE5CD9-F0A7-428D-A469-00B78873E9E0}" presName="ParentText" presStyleLbl="node1" presStyleIdx="0" presStyleCnt="3" custScaleX="238269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A2F10A-C085-415C-8ED7-BF12D02A2BD5}" type="pres">
      <dgm:prSet presAssocID="{27EE5CD9-F0A7-428D-A469-00B78873E9E0}" presName="ChildText" presStyleLbl="revTx" presStyleIdx="0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97B9BD-9356-41D7-AB47-4DA50A4FC55A}" type="pres">
      <dgm:prSet presAssocID="{C1F5C039-7B67-48C7-8FEE-27111090125E}" presName="sibTrans" presStyleCnt="0"/>
      <dgm:spPr/>
    </dgm:pt>
    <dgm:pt modelId="{CA9D5A06-F50A-4132-A699-9B1EAC6E5F0C}" type="pres">
      <dgm:prSet presAssocID="{33B4CD11-6DD2-44BA-9C11-6F4DF9115423}" presName="composite" presStyleCnt="0"/>
      <dgm:spPr/>
    </dgm:pt>
    <dgm:pt modelId="{F4662974-957B-41B0-9216-9F087C841E51}" type="pres">
      <dgm:prSet presAssocID="{33B4CD11-6DD2-44BA-9C11-6F4DF9115423}" presName="bentUpArrow1" presStyleLbl="alignImgPlace1" presStyleIdx="1" presStyleCnt="2" custLinFactNeighborX="-77151" custLinFactNeighborY="13452"/>
      <dgm:spPr>
        <a:solidFill>
          <a:schemeClr val="accent3">
            <a:lumMod val="40000"/>
            <a:lumOff val="60000"/>
          </a:schemeClr>
        </a:solidFill>
      </dgm:spPr>
    </dgm:pt>
    <dgm:pt modelId="{ACF436D0-7BA5-44E9-AF07-0F4B6D560893}" type="pres">
      <dgm:prSet presAssocID="{33B4CD11-6DD2-44BA-9C11-6F4DF9115423}" presName="ParentText" presStyleLbl="node1" presStyleIdx="1" presStyleCnt="3" custScaleX="239411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B124D50-6CD1-4448-9957-DBAB4A9CD6A5}" type="pres">
      <dgm:prSet presAssocID="{33B4CD11-6DD2-44BA-9C11-6F4DF9115423}" presName="ChildText" presStyleLbl="revTx" presStyleIdx="1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AB31236-7B06-4FBC-A17E-C1A2E4E78BF5}" type="pres">
      <dgm:prSet presAssocID="{57FAF8B3-0497-44D4-9836-DE61586F3A89}" presName="sibTrans" presStyleCnt="0"/>
      <dgm:spPr/>
    </dgm:pt>
    <dgm:pt modelId="{98E723DD-3B7E-474F-B3EB-AB88DE8D71C9}" type="pres">
      <dgm:prSet presAssocID="{E61A5E04-A9FA-4FF2-A5E4-B39D7D42AE44}" presName="composite" presStyleCnt="0"/>
      <dgm:spPr/>
    </dgm:pt>
    <dgm:pt modelId="{D404270D-2DA1-469D-A14C-8F8749633973}" type="pres">
      <dgm:prSet presAssocID="{E61A5E04-A9FA-4FF2-A5E4-B39D7D42AE44}" presName="ParentText" presStyleLbl="node1" presStyleIdx="2" presStyleCnt="3" custScaleX="274732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89174EC-38CB-4DC0-9C92-B1782CB5613A}" srcId="{DCCC09A6-050D-4F30-AD51-0D2B47EC34C6}" destId="{27EE5CD9-F0A7-428D-A469-00B78873E9E0}" srcOrd="0" destOrd="0" parTransId="{3A4FD7C9-62E6-4897-A68F-B6DE6317416E}" sibTransId="{C1F5C039-7B67-48C7-8FEE-27111090125E}"/>
    <dgm:cxn modelId="{085847AC-4481-4308-8BF6-5B052804A344}" type="presOf" srcId="{E61A5E04-A9FA-4FF2-A5E4-B39D7D42AE44}" destId="{D404270D-2DA1-469D-A14C-8F8749633973}" srcOrd="0" destOrd="0" presId="urn:microsoft.com/office/officeart/2005/8/layout/StepDownProcess"/>
    <dgm:cxn modelId="{93A69013-1FDA-4317-8565-3A305B130E4B}" srcId="{DCCC09A6-050D-4F30-AD51-0D2B47EC34C6}" destId="{33B4CD11-6DD2-44BA-9C11-6F4DF9115423}" srcOrd="1" destOrd="0" parTransId="{9741DA34-8F0E-481E-B657-3EBBC72BAD33}" sibTransId="{57FAF8B3-0497-44D4-9836-DE61586F3A89}"/>
    <dgm:cxn modelId="{F332820A-C0E4-4D87-97A3-D62BAA9A3B7B}" type="presOf" srcId="{33B4CD11-6DD2-44BA-9C11-6F4DF9115423}" destId="{ACF436D0-7BA5-44E9-AF07-0F4B6D560893}" srcOrd="0" destOrd="0" presId="urn:microsoft.com/office/officeart/2005/8/layout/StepDownProcess"/>
    <dgm:cxn modelId="{067C61B9-B716-4E74-A984-49D883437CC9}" type="presOf" srcId="{27EE5CD9-F0A7-428D-A469-00B78873E9E0}" destId="{ABBFDA36-7D50-4991-9660-96C84DC9A77A}" srcOrd="0" destOrd="0" presId="urn:microsoft.com/office/officeart/2005/8/layout/StepDownProcess"/>
    <dgm:cxn modelId="{821C1A49-2F70-457E-A614-C3AB9394D87A}" srcId="{DCCC09A6-050D-4F30-AD51-0D2B47EC34C6}" destId="{E61A5E04-A9FA-4FF2-A5E4-B39D7D42AE44}" srcOrd="2" destOrd="0" parTransId="{4B33E705-00E4-495E-86D2-58EFC87618B0}" sibTransId="{4081B9F3-5118-476C-868C-D4E1A2A10A18}"/>
    <dgm:cxn modelId="{8741CADB-68C1-4B63-8210-2CF27C099B8A}" type="presOf" srcId="{DCCC09A6-050D-4F30-AD51-0D2B47EC34C6}" destId="{B884E4CF-FFAE-4DF5-93B6-EFC97916ADFC}" srcOrd="0" destOrd="0" presId="urn:microsoft.com/office/officeart/2005/8/layout/StepDownProcess"/>
    <dgm:cxn modelId="{B9C00E6E-D54D-496B-A083-D9A256F15A51}" type="presParOf" srcId="{B884E4CF-FFAE-4DF5-93B6-EFC97916ADFC}" destId="{36A9DE73-E3E8-4B4A-BAD5-8CCB66BB7574}" srcOrd="0" destOrd="0" presId="urn:microsoft.com/office/officeart/2005/8/layout/StepDownProcess"/>
    <dgm:cxn modelId="{5470D7A1-4C4C-46B2-9F5F-F386194DB77D}" type="presParOf" srcId="{36A9DE73-E3E8-4B4A-BAD5-8CCB66BB7574}" destId="{9A9DE8E1-49E8-4EF9-AB1E-F93726DCC1BA}" srcOrd="0" destOrd="0" presId="urn:microsoft.com/office/officeart/2005/8/layout/StepDownProcess"/>
    <dgm:cxn modelId="{AC90A833-A672-4266-934F-36609D9E42E2}" type="presParOf" srcId="{36A9DE73-E3E8-4B4A-BAD5-8CCB66BB7574}" destId="{ABBFDA36-7D50-4991-9660-96C84DC9A77A}" srcOrd="1" destOrd="0" presId="urn:microsoft.com/office/officeart/2005/8/layout/StepDownProcess"/>
    <dgm:cxn modelId="{81741934-F655-495F-912A-FC6BDC0B24DD}" type="presParOf" srcId="{36A9DE73-E3E8-4B4A-BAD5-8CCB66BB7574}" destId="{B3A2F10A-C085-415C-8ED7-BF12D02A2BD5}" srcOrd="2" destOrd="0" presId="urn:microsoft.com/office/officeart/2005/8/layout/StepDownProcess"/>
    <dgm:cxn modelId="{609D3BDE-06C6-459C-8333-B34205B8CB44}" type="presParOf" srcId="{B884E4CF-FFAE-4DF5-93B6-EFC97916ADFC}" destId="{1D97B9BD-9356-41D7-AB47-4DA50A4FC55A}" srcOrd="1" destOrd="0" presId="urn:microsoft.com/office/officeart/2005/8/layout/StepDownProcess"/>
    <dgm:cxn modelId="{A58ACD1D-D8AA-44E6-82C2-FDCF1079CC1F}" type="presParOf" srcId="{B884E4CF-FFAE-4DF5-93B6-EFC97916ADFC}" destId="{CA9D5A06-F50A-4132-A699-9B1EAC6E5F0C}" srcOrd="2" destOrd="0" presId="urn:microsoft.com/office/officeart/2005/8/layout/StepDownProcess"/>
    <dgm:cxn modelId="{0F872D90-6220-4CC2-80A2-58FABD8E218B}" type="presParOf" srcId="{CA9D5A06-F50A-4132-A699-9B1EAC6E5F0C}" destId="{F4662974-957B-41B0-9216-9F087C841E51}" srcOrd="0" destOrd="0" presId="urn:microsoft.com/office/officeart/2005/8/layout/StepDownProcess"/>
    <dgm:cxn modelId="{A99056E6-0FE5-4CEF-8BC6-206A54E77289}" type="presParOf" srcId="{CA9D5A06-F50A-4132-A699-9B1EAC6E5F0C}" destId="{ACF436D0-7BA5-44E9-AF07-0F4B6D560893}" srcOrd="1" destOrd="0" presId="urn:microsoft.com/office/officeart/2005/8/layout/StepDownProcess"/>
    <dgm:cxn modelId="{A5A3DC40-A6F8-4518-B96E-CCFADE055613}" type="presParOf" srcId="{CA9D5A06-F50A-4132-A699-9B1EAC6E5F0C}" destId="{AB124D50-6CD1-4448-9957-DBAB4A9CD6A5}" srcOrd="2" destOrd="0" presId="urn:microsoft.com/office/officeart/2005/8/layout/StepDownProcess"/>
    <dgm:cxn modelId="{D74F2788-20B6-4506-B08D-5BE434EC08D0}" type="presParOf" srcId="{B884E4CF-FFAE-4DF5-93B6-EFC97916ADFC}" destId="{5AB31236-7B06-4FBC-A17E-C1A2E4E78BF5}" srcOrd="3" destOrd="0" presId="urn:microsoft.com/office/officeart/2005/8/layout/StepDownProcess"/>
    <dgm:cxn modelId="{0499C093-BAF7-4735-929F-DC51088A6495}" type="presParOf" srcId="{B884E4CF-FFAE-4DF5-93B6-EFC97916ADFC}" destId="{98E723DD-3B7E-474F-B3EB-AB88DE8D71C9}" srcOrd="4" destOrd="0" presId="urn:microsoft.com/office/officeart/2005/8/layout/StepDownProcess"/>
    <dgm:cxn modelId="{BF07229A-F83E-484E-9CB5-AADD4C197BB9}" type="presParOf" srcId="{98E723DD-3B7E-474F-B3EB-AB88DE8D71C9}" destId="{D404270D-2DA1-469D-A14C-8F8749633973}" srcOrd="0" destOrd="0" presId="urn:microsoft.com/office/officeart/2005/8/layout/StepDownProcess"/>
  </dgm:cxnLst>
  <dgm:bg/>
  <dgm:whole/>
  <dgm:extLst>
    <a:ext uri="http://schemas.microsoft.com/office/drawing/2008/diagram">
      <dsp:dataModelExt xmlns:dsp="http://schemas.microsoft.com/office/drawing/2008/diagram" relId="rId16" minVer="http://schemas.openxmlformats.org/drawingml/2006/diagram"/>
    </a:ext>
  </dgm:extLst>
</dgm:dataModel>
</file>

<file path=ppt/diagrams/data7.xml><?xml version="1.0" encoding="utf-8"?>
<dgm:dataModel xmlns:dgm="http://schemas.openxmlformats.org/drawingml/2006/diagram" xmlns:a="http://schemas.openxmlformats.org/drawingml/2006/main">
  <dgm:ptLst>
    <dgm:pt modelId="{DCCC09A6-050D-4F30-AD51-0D2B47EC34C6}" type="doc">
      <dgm:prSet loTypeId="urn:microsoft.com/office/officeart/2005/8/layout/StepDownProcess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27EE5CD9-F0A7-428D-A469-00B78873E9E0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Машинки с электродвигателями</a:t>
          </a:r>
          <a:endParaRPr lang="ru-RU" dirty="0"/>
        </a:p>
      </dgm:t>
    </dgm:pt>
    <dgm:pt modelId="{3A4FD7C9-62E6-4897-A68F-B6DE6317416E}" type="parTrans" cxnId="{A89174EC-38CB-4DC0-9C92-B1782CB5613A}">
      <dgm:prSet/>
      <dgm:spPr/>
      <dgm:t>
        <a:bodyPr/>
        <a:lstStyle/>
        <a:p>
          <a:endParaRPr lang="ru-RU"/>
        </a:p>
      </dgm:t>
    </dgm:pt>
    <dgm:pt modelId="{C1F5C039-7B67-48C7-8FEE-27111090125E}" type="sibTrans" cxnId="{A89174EC-38CB-4DC0-9C92-B1782CB5613A}">
      <dgm:prSet/>
      <dgm:spPr/>
      <dgm:t>
        <a:bodyPr/>
        <a:lstStyle/>
        <a:p>
          <a:endParaRPr lang="ru-RU"/>
        </a:p>
      </dgm:t>
    </dgm:pt>
    <dgm:pt modelId="{33B4CD11-6DD2-44BA-9C11-6F4DF9115423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Виды электродвигателей</a:t>
          </a:r>
          <a:endParaRPr lang="ru-RU" dirty="0"/>
        </a:p>
      </dgm:t>
    </dgm:pt>
    <dgm:pt modelId="{9741DA34-8F0E-481E-B657-3EBBC72BAD33}" type="parTrans" cxnId="{93A69013-1FDA-4317-8565-3A305B130E4B}">
      <dgm:prSet/>
      <dgm:spPr/>
      <dgm:t>
        <a:bodyPr/>
        <a:lstStyle/>
        <a:p>
          <a:endParaRPr lang="ru-RU"/>
        </a:p>
      </dgm:t>
    </dgm:pt>
    <dgm:pt modelId="{57FAF8B3-0497-44D4-9836-DE61586F3A89}" type="sibTrans" cxnId="{93A69013-1FDA-4317-8565-3A305B130E4B}">
      <dgm:prSet/>
      <dgm:spPr/>
      <dgm:t>
        <a:bodyPr/>
        <a:lstStyle/>
        <a:p>
          <a:endParaRPr lang="ru-RU"/>
        </a:p>
      </dgm:t>
    </dgm:pt>
    <dgm:pt modelId="{E61A5E04-A9FA-4FF2-A5E4-B39D7D42AE44}">
      <dgm:prSet phldrT="[Текст]"/>
      <dgm:spPr>
        <a:solidFill>
          <a:srgbClr val="54B64E"/>
        </a:solidFill>
      </dgm:spPr>
      <dgm:t>
        <a:bodyPr/>
        <a:lstStyle/>
        <a:p>
          <a:r>
            <a:rPr lang="ru-RU" dirty="0" smtClean="0"/>
            <a:t>Асинхронные двигатели</a:t>
          </a:r>
          <a:endParaRPr lang="ru-RU" dirty="0"/>
        </a:p>
      </dgm:t>
    </dgm:pt>
    <dgm:pt modelId="{4B33E705-00E4-495E-86D2-58EFC87618B0}" type="parTrans" cxnId="{821C1A49-2F70-457E-A614-C3AB9394D87A}">
      <dgm:prSet/>
      <dgm:spPr/>
      <dgm:t>
        <a:bodyPr/>
        <a:lstStyle/>
        <a:p>
          <a:endParaRPr lang="ru-RU"/>
        </a:p>
      </dgm:t>
    </dgm:pt>
    <dgm:pt modelId="{4081B9F3-5118-476C-868C-D4E1A2A10A18}" type="sibTrans" cxnId="{821C1A49-2F70-457E-A614-C3AB9394D87A}">
      <dgm:prSet/>
      <dgm:spPr/>
      <dgm:t>
        <a:bodyPr/>
        <a:lstStyle/>
        <a:p>
          <a:endParaRPr lang="ru-RU"/>
        </a:p>
      </dgm:t>
    </dgm:pt>
    <dgm:pt modelId="{B884E4CF-FFAE-4DF5-93B6-EFC97916ADFC}" type="pres">
      <dgm:prSet presAssocID="{DCCC09A6-050D-4F30-AD51-0D2B47EC34C6}" presName="rootnode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36A9DE73-E3E8-4B4A-BAD5-8CCB66BB7574}" type="pres">
      <dgm:prSet presAssocID="{27EE5CD9-F0A7-428D-A469-00B78873E9E0}" presName="composite" presStyleCnt="0"/>
      <dgm:spPr/>
    </dgm:pt>
    <dgm:pt modelId="{9A9DE8E1-49E8-4EF9-AB1E-F93726DCC1BA}" type="pres">
      <dgm:prSet presAssocID="{27EE5CD9-F0A7-428D-A469-00B78873E9E0}" presName="bentUpArrow1" presStyleLbl="alignImgPlace1" presStyleIdx="0" presStyleCnt="2" custLinFactNeighborX="-77226" custLinFactNeighborY="1912"/>
      <dgm:spPr>
        <a:solidFill>
          <a:schemeClr val="accent3">
            <a:lumMod val="40000"/>
            <a:lumOff val="60000"/>
          </a:schemeClr>
        </a:solidFill>
      </dgm:spPr>
    </dgm:pt>
    <dgm:pt modelId="{ABBFDA36-7D50-4991-9660-96C84DC9A77A}" type="pres">
      <dgm:prSet presAssocID="{27EE5CD9-F0A7-428D-A469-00B78873E9E0}" presName="ParentText" presStyleLbl="node1" presStyleIdx="0" presStyleCnt="3" custScaleX="247187" custLinFactNeighborX="-1962" custLinFactNeighborY="-1882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B3A2F10A-C085-415C-8ED7-BF12D02A2BD5}" type="pres">
      <dgm:prSet presAssocID="{27EE5CD9-F0A7-428D-A469-00B78873E9E0}" presName="ChildText" presStyleLbl="revTx" presStyleIdx="0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97B9BD-9356-41D7-AB47-4DA50A4FC55A}" type="pres">
      <dgm:prSet presAssocID="{C1F5C039-7B67-48C7-8FEE-27111090125E}" presName="sibTrans" presStyleCnt="0"/>
      <dgm:spPr/>
    </dgm:pt>
    <dgm:pt modelId="{CA9D5A06-F50A-4132-A699-9B1EAC6E5F0C}" type="pres">
      <dgm:prSet presAssocID="{33B4CD11-6DD2-44BA-9C11-6F4DF9115423}" presName="composite" presStyleCnt="0"/>
      <dgm:spPr/>
    </dgm:pt>
    <dgm:pt modelId="{F4662974-957B-41B0-9216-9F087C841E51}" type="pres">
      <dgm:prSet presAssocID="{33B4CD11-6DD2-44BA-9C11-6F4DF9115423}" presName="bentUpArrow1" presStyleLbl="alignImgPlace1" presStyleIdx="1" presStyleCnt="2" custLinFactNeighborX="-90657" custLinFactNeighborY="12889"/>
      <dgm:spPr>
        <a:solidFill>
          <a:schemeClr val="accent3">
            <a:lumMod val="40000"/>
            <a:lumOff val="60000"/>
          </a:schemeClr>
        </a:solidFill>
      </dgm:spPr>
    </dgm:pt>
    <dgm:pt modelId="{ACF436D0-7BA5-44E9-AF07-0F4B6D560893}" type="pres">
      <dgm:prSet presAssocID="{33B4CD11-6DD2-44BA-9C11-6F4DF9115423}" presName="ParentText" presStyleLbl="node1" presStyleIdx="1" presStyleCnt="3" custScaleX="268853" custLinFactNeighborX="4567" custLinFactNeighborY="1067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B124D50-6CD1-4448-9957-DBAB4A9CD6A5}" type="pres">
      <dgm:prSet presAssocID="{33B4CD11-6DD2-44BA-9C11-6F4DF9115423}" presName="ChildText" presStyleLbl="revTx" presStyleIdx="1" presStyleCnt="2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5AB31236-7B06-4FBC-A17E-C1A2E4E78BF5}" type="pres">
      <dgm:prSet presAssocID="{57FAF8B3-0497-44D4-9836-DE61586F3A89}" presName="sibTrans" presStyleCnt="0"/>
      <dgm:spPr/>
    </dgm:pt>
    <dgm:pt modelId="{98E723DD-3B7E-474F-B3EB-AB88DE8D71C9}" type="pres">
      <dgm:prSet presAssocID="{E61A5E04-A9FA-4FF2-A5E4-B39D7D42AE44}" presName="composite" presStyleCnt="0"/>
      <dgm:spPr/>
    </dgm:pt>
    <dgm:pt modelId="{D404270D-2DA1-469D-A14C-8F8749633973}" type="pres">
      <dgm:prSet presAssocID="{E61A5E04-A9FA-4FF2-A5E4-B39D7D42AE44}" presName="ParentText" presStyleLbl="node1" presStyleIdx="2" presStyleCnt="3" custScaleX="202874" custLinFactNeighborX="36125" custLinFactNeighborY="1882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A89174EC-38CB-4DC0-9C92-B1782CB5613A}" srcId="{DCCC09A6-050D-4F30-AD51-0D2B47EC34C6}" destId="{27EE5CD9-F0A7-428D-A469-00B78873E9E0}" srcOrd="0" destOrd="0" parTransId="{3A4FD7C9-62E6-4897-A68F-B6DE6317416E}" sibTransId="{C1F5C039-7B67-48C7-8FEE-27111090125E}"/>
    <dgm:cxn modelId="{93A69013-1FDA-4317-8565-3A305B130E4B}" srcId="{DCCC09A6-050D-4F30-AD51-0D2B47EC34C6}" destId="{33B4CD11-6DD2-44BA-9C11-6F4DF9115423}" srcOrd="1" destOrd="0" parTransId="{9741DA34-8F0E-481E-B657-3EBBC72BAD33}" sibTransId="{57FAF8B3-0497-44D4-9836-DE61586F3A89}"/>
    <dgm:cxn modelId="{15B927CE-6CB2-4DCB-A738-EAE1940130B9}" type="presOf" srcId="{DCCC09A6-050D-4F30-AD51-0D2B47EC34C6}" destId="{B884E4CF-FFAE-4DF5-93B6-EFC97916ADFC}" srcOrd="0" destOrd="0" presId="urn:microsoft.com/office/officeart/2005/8/layout/StepDownProcess"/>
    <dgm:cxn modelId="{CE665CB9-F959-4E38-ACB3-41AAD90DDDDE}" type="presOf" srcId="{33B4CD11-6DD2-44BA-9C11-6F4DF9115423}" destId="{ACF436D0-7BA5-44E9-AF07-0F4B6D560893}" srcOrd="0" destOrd="0" presId="urn:microsoft.com/office/officeart/2005/8/layout/StepDownProcess"/>
    <dgm:cxn modelId="{94857EC0-469D-4F25-93C5-43B46F753F7E}" type="presOf" srcId="{27EE5CD9-F0A7-428D-A469-00B78873E9E0}" destId="{ABBFDA36-7D50-4991-9660-96C84DC9A77A}" srcOrd="0" destOrd="0" presId="urn:microsoft.com/office/officeart/2005/8/layout/StepDownProcess"/>
    <dgm:cxn modelId="{86447FF7-D963-4201-905E-5950BAAAD6DE}" type="presOf" srcId="{E61A5E04-A9FA-4FF2-A5E4-B39D7D42AE44}" destId="{D404270D-2DA1-469D-A14C-8F8749633973}" srcOrd="0" destOrd="0" presId="urn:microsoft.com/office/officeart/2005/8/layout/StepDownProcess"/>
    <dgm:cxn modelId="{821C1A49-2F70-457E-A614-C3AB9394D87A}" srcId="{DCCC09A6-050D-4F30-AD51-0D2B47EC34C6}" destId="{E61A5E04-A9FA-4FF2-A5E4-B39D7D42AE44}" srcOrd="2" destOrd="0" parTransId="{4B33E705-00E4-495E-86D2-58EFC87618B0}" sibTransId="{4081B9F3-5118-476C-868C-D4E1A2A10A18}"/>
    <dgm:cxn modelId="{3D169FA8-59B6-4D68-BFBB-B5A8059ABC1F}" type="presParOf" srcId="{B884E4CF-FFAE-4DF5-93B6-EFC97916ADFC}" destId="{36A9DE73-E3E8-4B4A-BAD5-8CCB66BB7574}" srcOrd="0" destOrd="0" presId="urn:microsoft.com/office/officeart/2005/8/layout/StepDownProcess"/>
    <dgm:cxn modelId="{CC672DA1-4042-44BB-B47F-6E1BA3362647}" type="presParOf" srcId="{36A9DE73-E3E8-4B4A-BAD5-8CCB66BB7574}" destId="{9A9DE8E1-49E8-4EF9-AB1E-F93726DCC1BA}" srcOrd="0" destOrd="0" presId="urn:microsoft.com/office/officeart/2005/8/layout/StepDownProcess"/>
    <dgm:cxn modelId="{95235E5A-3AC6-4327-8CA5-4D2B48E13751}" type="presParOf" srcId="{36A9DE73-E3E8-4B4A-BAD5-8CCB66BB7574}" destId="{ABBFDA36-7D50-4991-9660-96C84DC9A77A}" srcOrd="1" destOrd="0" presId="urn:microsoft.com/office/officeart/2005/8/layout/StepDownProcess"/>
    <dgm:cxn modelId="{C822A5D3-C3C7-44B6-A6DF-EE6CDE7CD57B}" type="presParOf" srcId="{36A9DE73-E3E8-4B4A-BAD5-8CCB66BB7574}" destId="{B3A2F10A-C085-415C-8ED7-BF12D02A2BD5}" srcOrd="2" destOrd="0" presId="urn:microsoft.com/office/officeart/2005/8/layout/StepDownProcess"/>
    <dgm:cxn modelId="{1F41B099-EF24-49D7-9054-4AB3ABC4C443}" type="presParOf" srcId="{B884E4CF-FFAE-4DF5-93B6-EFC97916ADFC}" destId="{1D97B9BD-9356-41D7-AB47-4DA50A4FC55A}" srcOrd="1" destOrd="0" presId="urn:microsoft.com/office/officeart/2005/8/layout/StepDownProcess"/>
    <dgm:cxn modelId="{21898ADE-69A7-4C05-82F8-BA76762A1DA3}" type="presParOf" srcId="{B884E4CF-FFAE-4DF5-93B6-EFC97916ADFC}" destId="{CA9D5A06-F50A-4132-A699-9B1EAC6E5F0C}" srcOrd="2" destOrd="0" presId="urn:microsoft.com/office/officeart/2005/8/layout/StepDownProcess"/>
    <dgm:cxn modelId="{4C94D66C-6C07-4C50-A5F1-F6DD363472C4}" type="presParOf" srcId="{CA9D5A06-F50A-4132-A699-9B1EAC6E5F0C}" destId="{F4662974-957B-41B0-9216-9F087C841E51}" srcOrd="0" destOrd="0" presId="urn:microsoft.com/office/officeart/2005/8/layout/StepDownProcess"/>
    <dgm:cxn modelId="{1FC51656-D07F-47BC-B798-7C34CA053D6C}" type="presParOf" srcId="{CA9D5A06-F50A-4132-A699-9B1EAC6E5F0C}" destId="{ACF436D0-7BA5-44E9-AF07-0F4B6D560893}" srcOrd="1" destOrd="0" presId="urn:microsoft.com/office/officeart/2005/8/layout/StepDownProcess"/>
    <dgm:cxn modelId="{65819B20-03C1-4258-82CF-78E45846A7B2}" type="presParOf" srcId="{CA9D5A06-F50A-4132-A699-9B1EAC6E5F0C}" destId="{AB124D50-6CD1-4448-9957-DBAB4A9CD6A5}" srcOrd="2" destOrd="0" presId="urn:microsoft.com/office/officeart/2005/8/layout/StepDownProcess"/>
    <dgm:cxn modelId="{A35D7466-7CD9-45C6-BC60-F2855F463A93}" type="presParOf" srcId="{B884E4CF-FFAE-4DF5-93B6-EFC97916ADFC}" destId="{5AB31236-7B06-4FBC-A17E-C1A2E4E78BF5}" srcOrd="3" destOrd="0" presId="urn:microsoft.com/office/officeart/2005/8/layout/StepDownProcess"/>
    <dgm:cxn modelId="{FC736978-C96E-464F-BF20-9BC17CB36FC0}" type="presParOf" srcId="{B884E4CF-FFAE-4DF5-93B6-EFC97916ADFC}" destId="{98E723DD-3B7E-474F-B3EB-AB88DE8D71C9}" srcOrd="4" destOrd="0" presId="urn:microsoft.com/office/officeart/2005/8/layout/StepDownProcess"/>
    <dgm:cxn modelId="{AA9C115A-C5AC-4C06-BBBC-F9F67E5A0F31}" type="presParOf" srcId="{98E723DD-3B7E-474F-B3EB-AB88DE8D71C9}" destId="{D404270D-2DA1-469D-A14C-8F8749633973}" srcOrd="0" destOrd="0" presId="urn:microsoft.com/office/officeart/2005/8/layout/StepDownProcess"/>
  </dgm:cxnLst>
  <dgm:bg/>
  <dgm:whole/>
  <dgm:extLst>
    <a:ext uri="http://schemas.microsoft.com/office/drawing/2008/diagram">
      <dsp:dataModelExt xmlns:dsp="http://schemas.microsoft.com/office/drawing/2008/diagram" relId="rId21" minVer="http://schemas.openxmlformats.org/drawingml/2006/diagram"/>
    </a:ext>
  </dgm:extLst>
</dgm:dataModel>
</file>

<file path=ppt/diagrams/data8.xml><?xml version="1.0" encoding="utf-8"?>
<dgm:dataModel xmlns:dgm="http://schemas.openxmlformats.org/drawingml/2006/diagram" xmlns:a="http://schemas.openxmlformats.org/drawingml/2006/main">
  <dgm:ptLst>
    <dgm:pt modelId="{90D15E17-3D2C-460C-9F3E-56F5F324E565}" type="doc">
      <dgm:prSet loTypeId="urn:microsoft.com/office/officeart/2005/8/layout/equation1" loCatId="relationship" qsTypeId="urn:microsoft.com/office/officeart/2005/8/quickstyle/simple1" qsCatId="simple" csTypeId="urn:microsoft.com/office/officeart/2005/8/colors/accent1_2" csCatId="accent1" phldr="1"/>
      <dgm:spPr/>
    </dgm:pt>
    <dgm:pt modelId="{D2C65A3C-89A2-42E6-B517-9AB0969C9F3A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/>
            <a:t>ЗАПРОС</a:t>
          </a:r>
          <a:endParaRPr lang="ru-RU" b="1" dirty="0"/>
        </a:p>
      </dgm:t>
    </dgm:pt>
    <dgm:pt modelId="{4168CD58-C64C-40C2-AE74-CB88EA21EF0E}" type="parTrans" cxnId="{209CE5C2-FDCC-4EE4-9AA7-D7E86F2BE958}">
      <dgm:prSet/>
      <dgm:spPr/>
      <dgm:t>
        <a:bodyPr/>
        <a:lstStyle/>
        <a:p>
          <a:endParaRPr lang="ru-RU"/>
        </a:p>
      </dgm:t>
    </dgm:pt>
    <dgm:pt modelId="{4B5FAC34-5EBF-4D78-A2EE-F0D3C8845606}" type="sibTrans" cxnId="{209CE5C2-FDCC-4EE4-9AA7-D7E86F2BE958}">
      <dgm:prSet/>
      <dgm:spPr>
        <a:solidFill>
          <a:schemeClr val="accent3">
            <a:lumMod val="60000"/>
            <a:lumOff val="40000"/>
          </a:schemeClr>
        </a:solidFill>
      </dgm:spPr>
      <dgm:t>
        <a:bodyPr/>
        <a:lstStyle/>
        <a:p>
          <a:endParaRPr lang="ru-RU" dirty="0"/>
        </a:p>
      </dgm:t>
    </dgm:pt>
    <dgm:pt modelId="{30328000-1911-4488-AA44-E179D083493D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/>
            <a:t>ИНТЕНТ</a:t>
          </a:r>
          <a:endParaRPr lang="ru-RU" b="1" dirty="0"/>
        </a:p>
      </dgm:t>
    </dgm:pt>
    <dgm:pt modelId="{8FD53A68-56E8-415A-AF6D-1080E335CFA3}" type="parTrans" cxnId="{C7D3FC09-FB25-4CC3-B08C-5E4737F32CB5}">
      <dgm:prSet/>
      <dgm:spPr/>
      <dgm:t>
        <a:bodyPr/>
        <a:lstStyle/>
        <a:p>
          <a:endParaRPr lang="ru-RU"/>
        </a:p>
      </dgm:t>
    </dgm:pt>
    <dgm:pt modelId="{6676429A-490C-4FE6-9158-8FBABD76A545}" type="sibTrans" cxnId="{C7D3FC09-FB25-4CC3-B08C-5E4737F32CB5}">
      <dgm:prSet/>
      <dgm:spPr>
        <a:solidFill>
          <a:schemeClr val="accent3">
            <a:lumMod val="60000"/>
            <a:lumOff val="40000"/>
          </a:schemeClr>
        </a:solidFill>
      </dgm:spPr>
      <dgm:t>
        <a:bodyPr/>
        <a:lstStyle/>
        <a:p>
          <a:endParaRPr lang="ru-RU"/>
        </a:p>
      </dgm:t>
    </dgm:pt>
    <dgm:pt modelId="{6F3745E4-FF56-49D9-AC43-5A8E0728E33E}">
      <dgm:prSet phldrT="[Текст]"/>
      <dgm:spPr>
        <a:solidFill>
          <a:srgbClr val="54B64E"/>
        </a:solidFill>
      </dgm:spPr>
      <dgm:t>
        <a:bodyPr/>
        <a:lstStyle/>
        <a:p>
          <a:r>
            <a:rPr lang="ru-RU" b="1" dirty="0" smtClean="0"/>
            <a:t>КОНТЕНТ</a:t>
          </a:r>
          <a:endParaRPr lang="ru-RU" b="1" dirty="0"/>
        </a:p>
      </dgm:t>
    </dgm:pt>
    <dgm:pt modelId="{C54EFAC5-49B3-4BFC-A822-8C27F7BF3F64}" type="parTrans" cxnId="{4FEA0D8D-178F-4A00-B8C2-F60974135390}">
      <dgm:prSet/>
      <dgm:spPr/>
      <dgm:t>
        <a:bodyPr/>
        <a:lstStyle/>
        <a:p>
          <a:endParaRPr lang="ru-RU"/>
        </a:p>
      </dgm:t>
    </dgm:pt>
    <dgm:pt modelId="{6F18DA65-4F52-4110-9619-71BCFDD34DF0}" type="sibTrans" cxnId="{4FEA0D8D-178F-4A00-B8C2-F60974135390}">
      <dgm:prSet/>
      <dgm:spPr/>
      <dgm:t>
        <a:bodyPr/>
        <a:lstStyle/>
        <a:p>
          <a:endParaRPr lang="ru-RU"/>
        </a:p>
      </dgm:t>
    </dgm:pt>
    <dgm:pt modelId="{8A6C67F1-E431-4AC6-8509-F557E5A99F0E}" type="pres">
      <dgm:prSet presAssocID="{90D15E17-3D2C-460C-9F3E-56F5F324E565}" presName="linearFlow" presStyleCnt="0">
        <dgm:presLayoutVars>
          <dgm:dir/>
          <dgm:resizeHandles val="exact"/>
        </dgm:presLayoutVars>
      </dgm:prSet>
      <dgm:spPr/>
    </dgm:pt>
    <dgm:pt modelId="{EA32EBDA-EBF3-459A-AEC9-1525D9BE7749}" type="pres">
      <dgm:prSet presAssocID="{D2C65A3C-89A2-42E6-B517-9AB0969C9F3A}" presName="node" presStyleLbl="node1" presStyleIdx="0" presStyleCnt="3" custLinFactNeighborX="-92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1CCFD26-BEA0-40C6-88D6-DA57F42E1117}" type="pres">
      <dgm:prSet presAssocID="{4B5FAC34-5EBF-4D78-A2EE-F0D3C8845606}" presName="spacerL" presStyleCnt="0"/>
      <dgm:spPr/>
    </dgm:pt>
    <dgm:pt modelId="{BDAB98D5-FA0C-4A0F-86DD-423437DD74BC}" type="pres">
      <dgm:prSet presAssocID="{4B5FAC34-5EBF-4D78-A2EE-F0D3C8845606}" presName="sibTrans" presStyleLbl="sibTrans2D1" presStyleIdx="0" presStyleCnt="2"/>
      <dgm:spPr/>
      <dgm:t>
        <a:bodyPr/>
        <a:lstStyle/>
        <a:p>
          <a:endParaRPr lang="ru-RU"/>
        </a:p>
      </dgm:t>
    </dgm:pt>
    <dgm:pt modelId="{A5C09C39-9C97-4FA8-B6D1-BCE5ED4FA5E1}" type="pres">
      <dgm:prSet presAssocID="{4B5FAC34-5EBF-4D78-A2EE-F0D3C8845606}" presName="spacerR" presStyleCnt="0"/>
      <dgm:spPr/>
    </dgm:pt>
    <dgm:pt modelId="{C09A8FC6-A069-468E-8ACB-E153DE14B45E}" type="pres">
      <dgm:prSet presAssocID="{30328000-1911-4488-AA44-E179D083493D}" presName="node" presStyleLbl="node1" presStyleIdx="1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BA1A9B1-1C00-41A0-84D2-04390C48D9BC}" type="pres">
      <dgm:prSet presAssocID="{6676429A-490C-4FE6-9158-8FBABD76A545}" presName="spacerL" presStyleCnt="0"/>
      <dgm:spPr/>
    </dgm:pt>
    <dgm:pt modelId="{CF7FDE4F-7CB5-4B18-9F6B-936E91C097BE}" type="pres">
      <dgm:prSet presAssocID="{6676429A-490C-4FE6-9158-8FBABD76A545}" presName="sibTrans" presStyleLbl="sibTrans2D1" presStyleIdx="1" presStyleCnt="2"/>
      <dgm:spPr/>
      <dgm:t>
        <a:bodyPr/>
        <a:lstStyle/>
        <a:p>
          <a:endParaRPr lang="ru-RU"/>
        </a:p>
      </dgm:t>
    </dgm:pt>
    <dgm:pt modelId="{C6035643-2850-45A3-B515-217103BD02F9}" type="pres">
      <dgm:prSet presAssocID="{6676429A-490C-4FE6-9158-8FBABD76A545}" presName="spacerR" presStyleCnt="0"/>
      <dgm:spPr/>
    </dgm:pt>
    <dgm:pt modelId="{67DADDAE-E66A-464C-9D43-A833445C40DD}" type="pres">
      <dgm:prSet presAssocID="{6F3745E4-FF56-49D9-AC43-5A8E0728E33E}" presName="node" presStyleLbl="node1" presStyleIdx="2" presStyleCnt="3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3D358295-4BE5-4F48-9641-98BEDEC970DD}" type="presOf" srcId="{D2C65A3C-89A2-42E6-B517-9AB0969C9F3A}" destId="{EA32EBDA-EBF3-459A-AEC9-1525D9BE7749}" srcOrd="0" destOrd="0" presId="urn:microsoft.com/office/officeart/2005/8/layout/equation1"/>
    <dgm:cxn modelId="{E72C1D0C-FFEE-487E-8DCF-8E8CEC907D79}" type="presOf" srcId="{30328000-1911-4488-AA44-E179D083493D}" destId="{C09A8FC6-A069-468E-8ACB-E153DE14B45E}" srcOrd="0" destOrd="0" presId="urn:microsoft.com/office/officeart/2005/8/layout/equation1"/>
    <dgm:cxn modelId="{859EFDD2-7DB4-4BAE-9134-50F39817B505}" type="presOf" srcId="{4B5FAC34-5EBF-4D78-A2EE-F0D3C8845606}" destId="{BDAB98D5-FA0C-4A0F-86DD-423437DD74BC}" srcOrd="0" destOrd="0" presId="urn:microsoft.com/office/officeart/2005/8/layout/equation1"/>
    <dgm:cxn modelId="{C7D3FC09-FB25-4CC3-B08C-5E4737F32CB5}" srcId="{90D15E17-3D2C-460C-9F3E-56F5F324E565}" destId="{30328000-1911-4488-AA44-E179D083493D}" srcOrd="1" destOrd="0" parTransId="{8FD53A68-56E8-415A-AF6D-1080E335CFA3}" sibTransId="{6676429A-490C-4FE6-9158-8FBABD76A545}"/>
    <dgm:cxn modelId="{EC526B19-21FF-471A-B715-1651C2C9F348}" type="presOf" srcId="{90D15E17-3D2C-460C-9F3E-56F5F324E565}" destId="{8A6C67F1-E431-4AC6-8509-F557E5A99F0E}" srcOrd="0" destOrd="0" presId="urn:microsoft.com/office/officeart/2005/8/layout/equation1"/>
    <dgm:cxn modelId="{5C07A8C7-03FF-41CE-A701-FD7B6D1CA6CE}" type="presOf" srcId="{6676429A-490C-4FE6-9158-8FBABD76A545}" destId="{CF7FDE4F-7CB5-4B18-9F6B-936E91C097BE}" srcOrd="0" destOrd="0" presId="urn:microsoft.com/office/officeart/2005/8/layout/equation1"/>
    <dgm:cxn modelId="{209CE5C2-FDCC-4EE4-9AA7-D7E86F2BE958}" srcId="{90D15E17-3D2C-460C-9F3E-56F5F324E565}" destId="{D2C65A3C-89A2-42E6-B517-9AB0969C9F3A}" srcOrd="0" destOrd="0" parTransId="{4168CD58-C64C-40C2-AE74-CB88EA21EF0E}" sibTransId="{4B5FAC34-5EBF-4D78-A2EE-F0D3C8845606}"/>
    <dgm:cxn modelId="{5BD159B0-4D9A-4679-9383-67F9F4F979B7}" type="presOf" srcId="{6F3745E4-FF56-49D9-AC43-5A8E0728E33E}" destId="{67DADDAE-E66A-464C-9D43-A833445C40DD}" srcOrd="0" destOrd="0" presId="urn:microsoft.com/office/officeart/2005/8/layout/equation1"/>
    <dgm:cxn modelId="{4FEA0D8D-178F-4A00-B8C2-F60974135390}" srcId="{90D15E17-3D2C-460C-9F3E-56F5F324E565}" destId="{6F3745E4-FF56-49D9-AC43-5A8E0728E33E}" srcOrd="2" destOrd="0" parTransId="{C54EFAC5-49B3-4BFC-A822-8C27F7BF3F64}" sibTransId="{6F18DA65-4F52-4110-9619-71BCFDD34DF0}"/>
    <dgm:cxn modelId="{68203628-8281-44DE-A19E-D9916E8DA499}" type="presParOf" srcId="{8A6C67F1-E431-4AC6-8509-F557E5A99F0E}" destId="{EA32EBDA-EBF3-459A-AEC9-1525D9BE7749}" srcOrd="0" destOrd="0" presId="urn:microsoft.com/office/officeart/2005/8/layout/equation1"/>
    <dgm:cxn modelId="{567567A4-77F0-4F7D-84B4-E3A857397244}" type="presParOf" srcId="{8A6C67F1-E431-4AC6-8509-F557E5A99F0E}" destId="{71CCFD26-BEA0-40C6-88D6-DA57F42E1117}" srcOrd="1" destOrd="0" presId="urn:microsoft.com/office/officeart/2005/8/layout/equation1"/>
    <dgm:cxn modelId="{458CB56D-FD1C-4BAD-8714-76451C4BB179}" type="presParOf" srcId="{8A6C67F1-E431-4AC6-8509-F557E5A99F0E}" destId="{BDAB98D5-FA0C-4A0F-86DD-423437DD74BC}" srcOrd="2" destOrd="0" presId="urn:microsoft.com/office/officeart/2005/8/layout/equation1"/>
    <dgm:cxn modelId="{8B4D89F8-96A0-4C76-8717-868741332323}" type="presParOf" srcId="{8A6C67F1-E431-4AC6-8509-F557E5A99F0E}" destId="{A5C09C39-9C97-4FA8-B6D1-BCE5ED4FA5E1}" srcOrd="3" destOrd="0" presId="urn:microsoft.com/office/officeart/2005/8/layout/equation1"/>
    <dgm:cxn modelId="{DB3DC423-F3F1-42F0-A619-0E45BDE9B73F}" type="presParOf" srcId="{8A6C67F1-E431-4AC6-8509-F557E5A99F0E}" destId="{C09A8FC6-A069-468E-8ACB-E153DE14B45E}" srcOrd="4" destOrd="0" presId="urn:microsoft.com/office/officeart/2005/8/layout/equation1"/>
    <dgm:cxn modelId="{EA3462E0-9EFF-499E-9280-C628C14FD741}" type="presParOf" srcId="{8A6C67F1-E431-4AC6-8509-F557E5A99F0E}" destId="{7BA1A9B1-1C00-41A0-84D2-04390C48D9BC}" srcOrd="5" destOrd="0" presId="urn:microsoft.com/office/officeart/2005/8/layout/equation1"/>
    <dgm:cxn modelId="{D4294A1B-C28D-4CD1-B7E6-CA50ED41A131}" type="presParOf" srcId="{8A6C67F1-E431-4AC6-8509-F557E5A99F0E}" destId="{CF7FDE4F-7CB5-4B18-9F6B-936E91C097BE}" srcOrd="6" destOrd="0" presId="urn:microsoft.com/office/officeart/2005/8/layout/equation1"/>
    <dgm:cxn modelId="{14CAF6CB-8203-4191-AF9B-B369E5A5BDBD}" type="presParOf" srcId="{8A6C67F1-E431-4AC6-8509-F557E5A99F0E}" destId="{C6035643-2850-45A3-B515-217103BD02F9}" srcOrd="7" destOrd="0" presId="urn:microsoft.com/office/officeart/2005/8/layout/equation1"/>
    <dgm:cxn modelId="{24872B72-F71C-478B-8890-4CE9D1EC7AE7}" type="presParOf" srcId="{8A6C67F1-E431-4AC6-8509-F557E5A99F0E}" destId="{67DADDAE-E66A-464C-9D43-A833445C40DD}" srcOrd="8" destOrd="0" presId="urn:microsoft.com/office/officeart/2005/8/layout/equation1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ata9.xml><?xml version="1.0" encoding="utf-8"?>
<dgm:dataModel xmlns:dgm="http://schemas.openxmlformats.org/drawingml/2006/diagram" xmlns:a="http://schemas.openxmlformats.org/drawingml/2006/main">
  <dgm:ptLst>
    <dgm:pt modelId="{9ACC9366-0492-47FA-BF1C-E9C0D0CE27DF}" type="doc">
      <dgm:prSet loTypeId="urn:microsoft.com/office/officeart/2008/layout/AlternatingHexagons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ru-RU"/>
        </a:p>
      </dgm:t>
    </dgm:pt>
    <dgm:pt modelId="{1B694B90-5C0B-4EE3-A096-C4558E42D078}">
      <dgm:prSet phldrT="[Текст]" custT="1"/>
      <dgm:spPr>
        <a:solidFill>
          <a:srgbClr val="54B64E"/>
        </a:solidFill>
      </dgm:spPr>
      <dgm:t>
        <a:bodyPr/>
        <a:lstStyle/>
        <a:p>
          <a:r>
            <a:rPr lang="ru-RU" sz="1600" b="1" dirty="0" smtClean="0">
              <a:latin typeface="PT Sans"/>
            </a:rPr>
            <a:t>РАНГ</a:t>
          </a:r>
          <a:endParaRPr lang="ru-RU" sz="1600" b="1" dirty="0">
            <a:latin typeface="PT Sans"/>
          </a:endParaRPr>
        </a:p>
      </dgm:t>
    </dgm:pt>
    <dgm:pt modelId="{44D952E7-B7D7-4A00-8225-61C53DE38A87}" type="parTrans" cxnId="{EB7AE22E-F2A4-4E8C-A063-9A78B2734E29}">
      <dgm:prSet/>
      <dgm:spPr/>
      <dgm:t>
        <a:bodyPr/>
        <a:lstStyle/>
        <a:p>
          <a:endParaRPr lang="ru-RU"/>
        </a:p>
      </dgm:t>
    </dgm:pt>
    <dgm:pt modelId="{53D6B482-1ED1-4B53-B41C-8173E8387DA1}" type="sibTrans" cxnId="{EB7AE22E-F2A4-4E8C-A063-9A78B2734E29}">
      <dgm:prSet/>
      <dgm:spPr>
        <a:solidFill>
          <a:srgbClr val="54B64E"/>
        </a:solidFill>
      </dgm:spPr>
      <dgm:t>
        <a:bodyPr/>
        <a:lstStyle/>
        <a:p>
          <a:endParaRPr lang="ru-RU" dirty="0"/>
        </a:p>
      </dgm:t>
    </dgm:pt>
    <dgm:pt modelId="{400B6920-A430-4FC6-B23A-76B3464A80C7}">
      <dgm:prSet phldrT="[Текст]" custT="1"/>
      <dgm:spPr>
        <a:solidFill>
          <a:srgbClr val="54B64E"/>
        </a:solidFill>
      </dgm:spPr>
      <dgm:t>
        <a:bodyPr/>
        <a:lstStyle/>
        <a:p>
          <a:r>
            <a:rPr lang="ru-RU" sz="1600" b="1" dirty="0" smtClean="0">
              <a:latin typeface="PT Sans"/>
            </a:rPr>
            <a:t>ЦЕНА</a:t>
          </a:r>
          <a:endParaRPr lang="ru-RU" sz="1600" b="1" dirty="0">
            <a:latin typeface="PT Sans"/>
          </a:endParaRPr>
        </a:p>
      </dgm:t>
    </dgm:pt>
    <dgm:pt modelId="{2DE21F44-5D08-4219-B472-D0A8465D7E83}" type="parTrans" cxnId="{4BAD8814-BBDC-4B12-8DCB-8CC25B3D4A47}">
      <dgm:prSet/>
      <dgm:spPr/>
      <dgm:t>
        <a:bodyPr/>
        <a:lstStyle/>
        <a:p>
          <a:endParaRPr lang="ru-RU"/>
        </a:p>
      </dgm:t>
    </dgm:pt>
    <dgm:pt modelId="{283B3FCC-7E5C-4FB0-965E-5B05A40C2CBC}" type="sibTrans" cxnId="{4BAD8814-BBDC-4B12-8DCB-8CC25B3D4A47}">
      <dgm:prSet/>
      <dgm:spPr>
        <a:solidFill>
          <a:srgbClr val="54B64E"/>
        </a:solidFill>
      </dgm:spPr>
      <dgm:t>
        <a:bodyPr/>
        <a:lstStyle/>
        <a:p>
          <a:endParaRPr lang="ru-RU" dirty="0"/>
        </a:p>
      </dgm:t>
    </dgm:pt>
    <dgm:pt modelId="{47B6023D-D4B2-4D9D-97A8-B467F03A2AEE}">
      <dgm:prSet phldrT="[Текст]" custT="1"/>
      <dgm:spPr>
        <a:solidFill>
          <a:srgbClr val="54B64E"/>
        </a:solidFill>
      </dgm:spPr>
      <dgm:t>
        <a:bodyPr/>
        <a:lstStyle/>
        <a:p>
          <a:r>
            <a:rPr lang="ru-RU" sz="1200" b="1" dirty="0" smtClean="0">
              <a:latin typeface="PT Sans"/>
            </a:rPr>
            <a:t>ОТЗЫВЫ</a:t>
          </a:r>
          <a:endParaRPr lang="ru-RU" sz="1200" b="1" dirty="0">
            <a:latin typeface="PT Sans"/>
          </a:endParaRPr>
        </a:p>
      </dgm:t>
    </dgm:pt>
    <dgm:pt modelId="{B4D8BC70-9837-4C37-BF9F-F2D486E98D87}" type="parTrans" cxnId="{673D490B-4311-4B52-AB61-2DFF333F5810}">
      <dgm:prSet/>
      <dgm:spPr/>
      <dgm:t>
        <a:bodyPr/>
        <a:lstStyle/>
        <a:p>
          <a:endParaRPr lang="ru-RU"/>
        </a:p>
      </dgm:t>
    </dgm:pt>
    <dgm:pt modelId="{016DF663-9A51-4BDE-A462-BE1B16F05BC6}" type="sibTrans" cxnId="{673D490B-4311-4B52-AB61-2DFF333F5810}">
      <dgm:prSet/>
      <dgm:spPr>
        <a:solidFill>
          <a:srgbClr val="54B64E"/>
        </a:solidFill>
      </dgm:spPr>
      <dgm:t>
        <a:bodyPr/>
        <a:lstStyle/>
        <a:p>
          <a:endParaRPr lang="ru-RU"/>
        </a:p>
      </dgm:t>
    </dgm:pt>
    <dgm:pt modelId="{87A80161-88CD-4AE8-B5C2-B88DC97F2975}" type="pres">
      <dgm:prSet presAssocID="{9ACC9366-0492-47FA-BF1C-E9C0D0CE27DF}" presName="Name0" presStyleCnt="0">
        <dgm:presLayoutVars>
          <dgm:chMax/>
          <dgm:chPref/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1D0B0DF8-18FF-453E-96A1-A2F67AB5D5CD}" type="pres">
      <dgm:prSet presAssocID="{1B694B90-5C0B-4EE3-A096-C4558E42D078}" presName="composite" presStyleCnt="0"/>
      <dgm:spPr/>
    </dgm:pt>
    <dgm:pt modelId="{4378463F-C34D-40CF-B779-4819C1AEB485}" type="pres">
      <dgm:prSet presAssocID="{1B694B90-5C0B-4EE3-A096-C4558E42D078}" presName="Parent1" presStyleLbl="node1" presStyleIdx="0" presStyleCnt="6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6B025CF-E32B-4A0B-B899-6A9B41731FE4}" type="pres">
      <dgm:prSet presAssocID="{1B694B90-5C0B-4EE3-A096-C4558E42D078}" presName="Childtext1" presStyleLbl="revTx" presStyleIdx="0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3DF7F7F-07EE-4D8E-AB2E-CD65763BA446}" type="pres">
      <dgm:prSet presAssocID="{1B694B90-5C0B-4EE3-A096-C4558E42D078}" presName="BalanceSpacing" presStyleCnt="0"/>
      <dgm:spPr/>
    </dgm:pt>
    <dgm:pt modelId="{671D8FF2-DDCF-4260-A8D5-516DAE7D5BA5}" type="pres">
      <dgm:prSet presAssocID="{1B694B90-5C0B-4EE3-A096-C4558E42D078}" presName="BalanceSpacing1" presStyleCnt="0"/>
      <dgm:spPr/>
    </dgm:pt>
    <dgm:pt modelId="{7B8726A9-2738-4D03-B0C4-759959AFA3E6}" type="pres">
      <dgm:prSet presAssocID="{53D6B482-1ED1-4B53-B41C-8173E8387DA1}" presName="Accent1Text" presStyleLbl="node1" presStyleIdx="1" presStyleCnt="6"/>
      <dgm:spPr/>
      <dgm:t>
        <a:bodyPr/>
        <a:lstStyle/>
        <a:p>
          <a:endParaRPr lang="ru-RU"/>
        </a:p>
      </dgm:t>
    </dgm:pt>
    <dgm:pt modelId="{7911D619-E31D-4428-A703-029B51316024}" type="pres">
      <dgm:prSet presAssocID="{53D6B482-1ED1-4B53-B41C-8173E8387DA1}" presName="spaceBetweenRectangles" presStyleCnt="0"/>
      <dgm:spPr/>
    </dgm:pt>
    <dgm:pt modelId="{B6008EE7-4DC3-4298-B434-8E35A5FDABC1}" type="pres">
      <dgm:prSet presAssocID="{400B6920-A430-4FC6-B23A-76B3464A80C7}" presName="composite" presStyleCnt="0"/>
      <dgm:spPr/>
    </dgm:pt>
    <dgm:pt modelId="{72A6BD80-0B8E-4B53-83A4-3EAC21240281}" type="pres">
      <dgm:prSet presAssocID="{400B6920-A430-4FC6-B23A-76B3464A80C7}" presName="Parent1" presStyleLbl="node1" presStyleIdx="2" presStyleCnt="6" custLinFactNeighborY="622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0C460BE-A430-495C-A241-A1D216F08BA6}" type="pres">
      <dgm:prSet presAssocID="{400B6920-A430-4FC6-B23A-76B3464A80C7}" presName="Childtext1" presStyleLbl="revTx" presStyleIdx="1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FB580F83-044A-48DA-BA46-BF77C302BDD8}" type="pres">
      <dgm:prSet presAssocID="{400B6920-A430-4FC6-B23A-76B3464A80C7}" presName="BalanceSpacing" presStyleCnt="0"/>
      <dgm:spPr/>
    </dgm:pt>
    <dgm:pt modelId="{2E213F95-99CC-467B-B6D7-2DD6C791C715}" type="pres">
      <dgm:prSet presAssocID="{400B6920-A430-4FC6-B23A-76B3464A80C7}" presName="BalanceSpacing1" presStyleCnt="0"/>
      <dgm:spPr/>
    </dgm:pt>
    <dgm:pt modelId="{B7CF44A1-B134-4F21-8B46-E56C18F4A01C}" type="pres">
      <dgm:prSet presAssocID="{283B3FCC-7E5C-4FB0-965E-5B05A40C2CBC}" presName="Accent1Text" presStyleLbl="node1" presStyleIdx="3" presStyleCnt="6"/>
      <dgm:spPr/>
      <dgm:t>
        <a:bodyPr/>
        <a:lstStyle/>
        <a:p>
          <a:endParaRPr lang="ru-RU"/>
        </a:p>
      </dgm:t>
    </dgm:pt>
    <dgm:pt modelId="{77D36F60-7065-4F2F-88F1-8085F777369D}" type="pres">
      <dgm:prSet presAssocID="{283B3FCC-7E5C-4FB0-965E-5B05A40C2CBC}" presName="spaceBetweenRectangles" presStyleCnt="0"/>
      <dgm:spPr/>
    </dgm:pt>
    <dgm:pt modelId="{72AFC0B5-5EFB-4933-8E7C-6E04D7DF241B}" type="pres">
      <dgm:prSet presAssocID="{47B6023D-D4B2-4D9D-97A8-B467F03A2AEE}" presName="composite" presStyleCnt="0"/>
      <dgm:spPr/>
    </dgm:pt>
    <dgm:pt modelId="{65298F9C-51BA-4165-A3AC-79E87B3BD14F}" type="pres">
      <dgm:prSet presAssocID="{47B6023D-D4B2-4D9D-97A8-B467F03A2AEE}" presName="Parent1" presStyleLbl="node1" presStyleIdx="4" presStyleCnt="6">
        <dgm:presLayoutVars>
          <dgm:chMax val="1"/>
          <dgm:chPref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12D484C-4CD8-446D-BCA8-11AC291F6D70}" type="pres">
      <dgm:prSet presAssocID="{47B6023D-D4B2-4D9D-97A8-B467F03A2AEE}" presName="Childtext1" presStyleLbl="revTx" presStyleIdx="2" presStyleCnt="3">
        <dgm:presLayoutVars>
          <dgm:chMax val="0"/>
          <dgm:chPref val="0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32572A0-8B5A-442A-9E72-A80F375F48BA}" type="pres">
      <dgm:prSet presAssocID="{47B6023D-D4B2-4D9D-97A8-B467F03A2AEE}" presName="BalanceSpacing" presStyleCnt="0"/>
      <dgm:spPr/>
    </dgm:pt>
    <dgm:pt modelId="{91E801AF-B5F2-4FEB-B70C-E432450EB370}" type="pres">
      <dgm:prSet presAssocID="{47B6023D-D4B2-4D9D-97A8-B467F03A2AEE}" presName="BalanceSpacing1" presStyleCnt="0"/>
      <dgm:spPr/>
    </dgm:pt>
    <dgm:pt modelId="{85B305F1-F1D1-4D2A-A90F-04AB0B5B54E6}" type="pres">
      <dgm:prSet presAssocID="{016DF663-9A51-4BDE-A462-BE1B16F05BC6}" presName="Accent1Text" presStyleLbl="node1" presStyleIdx="5" presStyleCnt="6"/>
      <dgm:spPr/>
      <dgm:t>
        <a:bodyPr/>
        <a:lstStyle/>
        <a:p>
          <a:endParaRPr lang="ru-RU"/>
        </a:p>
      </dgm:t>
    </dgm:pt>
  </dgm:ptLst>
  <dgm:cxnLst>
    <dgm:cxn modelId="{62A18616-18B9-4E4C-830F-5AEA069D6FE9}" type="presOf" srcId="{400B6920-A430-4FC6-B23A-76B3464A80C7}" destId="{72A6BD80-0B8E-4B53-83A4-3EAC21240281}" srcOrd="0" destOrd="0" presId="urn:microsoft.com/office/officeart/2008/layout/AlternatingHexagons"/>
    <dgm:cxn modelId="{EB7AE22E-F2A4-4E8C-A063-9A78B2734E29}" srcId="{9ACC9366-0492-47FA-BF1C-E9C0D0CE27DF}" destId="{1B694B90-5C0B-4EE3-A096-C4558E42D078}" srcOrd="0" destOrd="0" parTransId="{44D952E7-B7D7-4A00-8225-61C53DE38A87}" sibTransId="{53D6B482-1ED1-4B53-B41C-8173E8387DA1}"/>
    <dgm:cxn modelId="{A25F016E-1A59-44C7-B65F-C8F1D640B2B7}" type="presOf" srcId="{53D6B482-1ED1-4B53-B41C-8173E8387DA1}" destId="{7B8726A9-2738-4D03-B0C4-759959AFA3E6}" srcOrd="0" destOrd="0" presId="urn:microsoft.com/office/officeart/2008/layout/AlternatingHexagons"/>
    <dgm:cxn modelId="{CD5CE7C4-2D26-43CE-9C11-CF75E51E05EF}" type="presOf" srcId="{1B694B90-5C0B-4EE3-A096-C4558E42D078}" destId="{4378463F-C34D-40CF-B779-4819C1AEB485}" srcOrd="0" destOrd="0" presId="urn:microsoft.com/office/officeart/2008/layout/AlternatingHexagons"/>
    <dgm:cxn modelId="{4BAD8814-BBDC-4B12-8DCB-8CC25B3D4A47}" srcId="{9ACC9366-0492-47FA-BF1C-E9C0D0CE27DF}" destId="{400B6920-A430-4FC6-B23A-76B3464A80C7}" srcOrd="1" destOrd="0" parTransId="{2DE21F44-5D08-4219-B472-D0A8465D7E83}" sibTransId="{283B3FCC-7E5C-4FB0-965E-5B05A40C2CBC}"/>
    <dgm:cxn modelId="{A8C1DE28-AA49-4C68-BB6B-BCCC43A46BEF}" type="presOf" srcId="{9ACC9366-0492-47FA-BF1C-E9C0D0CE27DF}" destId="{87A80161-88CD-4AE8-B5C2-B88DC97F2975}" srcOrd="0" destOrd="0" presId="urn:microsoft.com/office/officeart/2008/layout/AlternatingHexagons"/>
    <dgm:cxn modelId="{673D490B-4311-4B52-AB61-2DFF333F5810}" srcId="{9ACC9366-0492-47FA-BF1C-E9C0D0CE27DF}" destId="{47B6023D-D4B2-4D9D-97A8-B467F03A2AEE}" srcOrd="2" destOrd="0" parTransId="{B4D8BC70-9837-4C37-BF9F-F2D486E98D87}" sibTransId="{016DF663-9A51-4BDE-A462-BE1B16F05BC6}"/>
    <dgm:cxn modelId="{AF81639F-8424-4EDF-AF75-42704A3325A2}" type="presOf" srcId="{47B6023D-D4B2-4D9D-97A8-B467F03A2AEE}" destId="{65298F9C-51BA-4165-A3AC-79E87B3BD14F}" srcOrd="0" destOrd="0" presId="urn:microsoft.com/office/officeart/2008/layout/AlternatingHexagons"/>
    <dgm:cxn modelId="{ED8D788C-400D-43D4-A10D-D72398D9FEE0}" type="presOf" srcId="{283B3FCC-7E5C-4FB0-965E-5B05A40C2CBC}" destId="{B7CF44A1-B134-4F21-8B46-E56C18F4A01C}" srcOrd="0" destOrd="0" presId="urn:microsoft.com/office/officeart/2008/layout/AlternatingHexagons"/>
    <dgm:cxn modelId="{7207A4D8-EE40-4AD2-9818-F8C8E1DDFC39}" type="presOf" srcId="{016DF663-9A51-4BDE-A462-BE1B16F05BC6}" destId="{85B305F1-F1D1-4D2A-A90F-04AB0B5B54E6}" srcOrd="0" destOrd="0" presId="urn:microsoft.com/office/officeart/2008/layout/AlternatingHexagons"/>
    <dgm:cxn modelId="{624FFE14-E4E7-49DB-974B-3378D9225AEF}" type="presParOf" srcId="{87A80161-88CD-4AE8-B5C2-B88DC97F2975}" destId="{1D0B0DF8-18FF-453E-96A1-A2F67AB5D5CD}" srcOrd="0" destOrd="0" presId="urn:microsoft.com/office/officeart/2008/layout/AlternatingHexagons"/>
    <dgm:cxn modelId="{CE84BAB5-AC90-47F9-8D54-E39D87421CC5}" type="presParOf" srcId="{1D0B0DF8-18FF-453E-96A1-A2F67AB5D5CD}" destId="{4378463F-C34D-40CF-B779-4819C1AEB485}" srcOrd="0" destOrd="0" presId="urn:microsoft.com/office/officeart/2008/layout/AlternatingHexagons"/>
    <dgm:cxn modelId="{456E809E-96AF-4EB6-922F-97C00E4B384C}" type="presParOf" srcId="{1D0B0DF8-18FF-453E-96A1-A2F67AB5D5CD}" destId="{96B025CF-E32B-4A0B-B899-6A9B41731FE4}" srcOrd="1" destOrd="0" presId="urn:microsoft.com/office/officeart/2008/layout/AlternatingHexagons"/>
    <dgm:cxn modelId="{739D28D9-7063-490B-9F85-65A22D6B6977}" type="presParOf" srcId="{1D0B0DF8-18FF-453E-96A1-A2F67AB5D5CD}" destId="{23DF7F7F-07EE-4D8E-AB2E-CD65763BA446}" srcOrd="2" destOrd="0" presId="urn:microsoft.com/office/officeart/2008/layout/AlternatingHexagons"/>
    <dgm:cxn modelId="{12D06AE0-9C5B-4C1B-86A9-CA6F63E06607}" type="presParOf" srcId="{1D0B0DF8-18FF-453E-96A1-A2F67AB5D5CD}" destId="{671D8FF2-DDCF-4260-A8D5-516DAE7D5BA5}" srcOrd="3" destOrd="0" presId="urn:microsoft.com/office/officeart/2008/layout/AlternatingHexagons"/>
    <dgm:cxn modelId="{E0D8DBF4-BD53-4A6D-8384-73E583CC5613}" type="presParOf" srcId="{1D0B0DF8-18FF-453E-96A1-A2F67AB5D5CD}" destId="{7B8726A9-2738-4D03-B0C4-759959AFA3E6}" srcOrd="4" destOrd="0" presId="urn:microsoft.com/office/officeart/2008/layout/AlternatingHexagons"/>
    <dgm:cxn modelId="{238997C3-322D-487A-A956-5397BEC70744}" type="presParOf" srcId="{87A80161-88CD-4AE8-B5C2-B88DC97F2975}" destId="{7911D619-E31D-4428-A703-029B51316024}" srcOrd="1" destOrd="0" presId="urn:microsoft.com/office/officeart/2008/layout/AlternatingHexagons"/>
    <dgm:cxn modelId="{A38B49D8-3F8C-4D00-AE51-34E5C180FBD8}" type="presParOf" srcId="{87A80161-88CD-4AE8-B5C2-B88DC97F2975}" destId="{B6008EE7-4DC3-4298-B434-8E35A5FDABC1}" srcOrd="2" destOrd="0" presId="urn:microsoft.com/office/officeart/2008/layout/AlternatingHexagons"/>
    <dgm:cxn modelId="{F434E9B8-C4FF-4689-B895-042F8B3D792B}" type="presParOf" srcId="{B6008EE7-4DC3-4298-B434-8E35A5FDABC1}" destId="{72A6BD80-0B8E-4B53-83A4-3EAC21240281}" srcOrd="0" destOrd="0" presId="urn:microsoft.com/office/officeart/2008/layout/AlternatingHexagons"/>
    <dgm:cxn modelId="{C5E024F9-8D3C-43A0-BB08-76031DB5670B}" type="presParOf" srcId="{B6008EE7-4DC3-4298-B434-8E35A5FDABC1}" destId="{90C460BE-A430-495C-A241-A1D216F08BA6}" srcOrd="1" destOrd="0" presId="urn:microsoft.com/office/officeart/2008/layout/AlternatingHexagons"/>
    <dgm:cxn modelId="{D990674F-617E-4EFE-9AB4-0A554783A7F3}" type="presParOf" srcId="{B6008EE7-4DC3-4298-B434-8E35A5FDABC1}" destId="{FB580F83-044A-48DA-BA46-BF77C302BDD8}" srcOrd="2" destOrd="0" presId="urn:microsoft.com/office/officeart/2008/layout/AlternatingHexagons"/>
    <dgm:cxn modelId="{50DFED81-4B21-4B28-B9BD-CFFA744CCE85}" type="presParOf" srcId="{B6008EE7-4DC3-4298-B434-8E35A5FDABC1}" destId="{2E213F95-99CC-467B-B6D7-2DD6C791C715}" srcOrd="3" destOrd="0" presId="urn:microsoft.com/office/officeart/2008/layout/AlternatingHexagons"/>
    <dgm:cxn modelId="{0EEFDB70-0642-4B37-9A54-BFCF9ADAC508}" type="presParOf" srcId="{B6008EE7-4DC3-4298-B434-8E35A5FDABC1}" destId="{B7CF44A1-B134-4F21-8B46-E56C18F4A01C}" srcOrd="4" destOrd="0" presId="urn:microsoft.com/office/officeart/2008/layout/AlternatingHexagons"/>
    <dgm:cxn modelId="{21F5F2C1-26D8-4323-87B8-9DB032CED247}" type="presParOf" srcId="{87A80161-88CD-4AE8-B5C2-B88DC97F2975}" destId="{77D36F60-7065-4F2F-88F1-8085F777369D}" srcOrd="3" destOrd="0" presId="urn:microsoft.com/office/officeart/2008/layout/AlternatingHexagons"/>
    <dgm:cxn modelId="{CF54C7EE-E00C-4F09-94DA-9BB9042CAFAE}" type="presParOf" srcId="{87A80161-88CD-4AE8-B5C2-B88DC97F2975}" destId="{72AFC0B5-5EFB-4933-8E7C-6E04D7DF241B}" srcOrd="4" destOrd="0" presId="urn:microsoft.com/office/officeart/2008/layout/AlternatingHexagons"/>
    <dgm:cxn modelId="{A97E1A98-C0C7-47CB-AD5C-1430D239CDFC}" type="presParOf" srcId="{72AFC0B5-5EFB-4933-8E7C-6E04D7DF241B}" destId="{65298F9C-51BA-4165-A3AC-79E87B3BD14F}" srcOrd="0" destOrd="0" presId="urn:microsoft.com/office/officeart/2008/layout/AlternatingHexagons"/>
    <dgm:cxn modelId="{8D0119CD-8266-43B0-B3A5-3CAD91246E60}" type="presParOf" srcId="{72AFC0B5-5EFB-4933-8E7C-6E04D7DF241B}" destId="{712D484C-4CD8-446D-BCA8-11AC291F6D70}" srcOrd="1" destOrd="0" presId="urn:microsoft.com/office/officeart/2008/layout/AlternatingHexagons"/>
    <dgm:cxn modelId="{FE7A8439-05BB-4472-8C0A-AF323DF53849}" type="presParOf" srcId="{72AFC0B5-5EFB-4933-8E7C-6E04D7DF241B}" destId="{432572A0-8B5A-442A-9E72-A80F375F48BA}" srcOrd="2" destOrd="0" presId="urn:microsoft.com/office/officeart/2008/layout/AlternatingHexagons"/>
    <dgm:cxn modelId="{DDD059D7-BF2A-40F3-8744-808D6280FFB4}" type="presParOf" srcId="{72AFC0B5-5EFB-4933-8E7C-6E04D7DF241B}" destId="{91E801AF-B5F2-4FEB-B70C-E432450EB370}" srcOrd="3" destOrd="0" presId="urn:microsoft.com/office/officeart/2008/layout/AlternatingHexagons"/>
    <dgm:cxn modelId="{6E6464A2-223C-4744-B206-9EDD61E91D70}" type="presParOf" srcId="{72AFC0B5-5EFB-4933-8E7C-6E04D7DF241B}" destId="{85B305F1-F1D1-4D2A-A90F-04AB0B5B54E6}" srcOrd="4" destOrd="0" presId="urn:microsoft.com/office/officeart/2008/layout/AlternatingHexagons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6A52F87D-4E2B-4FA5-B124-CD7FADA63D2B}">
      <dsp:nvSpPr>
        <dsp:cNvPr id="0" name=""/>
        <dsp:cNvSpPr/>
      </dsp:nvSpPr>
      <dsp:spPr>
        <a:xfrm rot="5400000">
          <a:off x="797489" y="821320"/>
          <a:ext cx="1417222" cy="2358226"/>
        </a:xfrm>
        <a:prstGeom prst="corner">
          <a:avLst>
            <a:gd name="adj1" fmla="val 16120"/>
            <a:gd name="adj2" fmla="val 16110"/>
          </a:avLst>
        </a:prstGeom>
        <a:solidFill>
          <a:srgbClr val="54B64E"/>
        </a:solidFill>
        <a:ln w="25400" cap="flat" cmpd="sng" algn="ctr">
          <a:solidFill>
            <a:srgbClr val="54B64E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91D6512B-85D6-477C-B393-B65D882B6A9E}">
      <dsp:nvSpPr>
        <dsp:cNvPr id="0" name=""/>
        <dsp:cNvSpPr/>
      </dsp:nvSpPr>
      <dsp:spPr>
        <a:xfrm>
          <a:off x="560919" y="1525922"/>
          <a:ext cx="2129020" cy="186621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2390" tIns="72390" rIns="72390" bIns="72390" numCol="1" spcCol="1270" anchor="t" anchorCtr="0">
          <a:noAutofit/>
        </a:bodyPr>
        <a:lstStyle/>
        <a:p>
          <a:pPr lvl="0" algn="l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9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LSI</a:t>
          </a:r>
          <a:endParaRPr lang="ru-RU" sz="1900" b="1" kern="1200" dirty="0" smtClean="0">
            <a:solidFill>
              <a:schemeClr val="tx1">
                <a:lumMod val="75000"/>
                <a:lumOff val="25000"/>
              </a:schemeClr>
            </a:solidFill>
            <a:latin typeface="PT Sans"/>
          </a:endParaRPr>
        </a:p>
        <a:p>
          <a:pPr lvl="0" algn="l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900" kern="1200" dirty="0"/>
        </a:p>
      </dsp:txBody>
      <dsp:txXfrm>
        <a:off x="560919" y="1525922"/>
        <a:ext cx="2129020" cy="1866210"/>
      </dsp:txXfrm>
    </dsp:sp>
    <dsp:sp modelId="{C84BF2AD-3DC8-4059-AC02-DD550152D2AF}">
      <dsp:nvSpPr>
        <dsp:cNvPr id="0" name=""/>
        <dsp:cNvSpPr/>
      </dsp:nvSpPr>
      <dsp:spPr>
        <a:xfrm>
          <a:off x="2288237" y="647705"/>
          <a:ext cx="401701" cy="401701"/>
        </a:xfrm>
        <a:prstGeom prst="triangle">
          <a:avLst>
            <a:gd name="adj" fmla="val 100000"/>
          </a:avLst>
        </a:prstGeom>
        <a:solidFill>
          <a:srgbClr val="54B64E"/>
        </a:solidFill>
        <a:ln w="25400" cap="flat" cmpd="sng" algn="ctr">
          <a:solidFill>
            <a:srgbClr val="54B64E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5ACD845-B9E2-4908-BEBA-08FFA1EC2CD3}">
      <dsp:nvSpPr>
        <dsp:cNvPr id="0" name=""/>
        <dsp:cNvSpPr/>
      </dsp:nvSpPr>
      <dsp:spPr>
        <a:xfrm rot="5400000">
          <a:off x="3403825" y="176380"/>
          <a:ext cx="1417222" cy="2358226"/>
        </a:xfrm>
        <a:prstGeom prst="corner">
          <a:avLst>
            <a:gd name="adj1" fmla="val 16120"/>
            <a:gd name="adj2" fmla="val 16110"/>
          </a:avLst>
        </a:prstGeom>
        <a:solidFill>
          <a:srgbClr val="54B64E"/>
        </a:solidFill>
        <a:ln w="25400" cap="flat" cmpd="sng" algn="ctr">
          <a:solidFill>
            <a:srgbClr val="54B64E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ACEBA7A9-A169-48AB-82B5-FE84E17FFD83}">
      <dsp:nvSpPr>
        <dsp:cNvPr id="0" name=""/>
        <dsp:cNvSpPr/>
      </dsp:nvSpPr>
      <dsp:spPr>
        <a:xfrm>
          <a:off x="3167256" y="880981"/>
          <a:ext cx="2129020" cy="186621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2390" tIns="72390" rIns="72390" bIns="72390" numCol="1" spcCol="1270" anchor="t" anchorCtr="0">
          <a:noAutofit/>
        </a:bodyPr>
        <a:lstStyle/>
        <a:p>
          <a:pPr lvl="0" algn="l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9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СОСТАВ</a:t>
          </a:r>
          <a:r>
            <a:rPr lang="ru-RU" sz="1900" kern="1200" dirty="0" smtClean="0"/>
            <a:t> </a:t>
          </a:r>
          <a:r>
            <a:rPr lang="ru-RU" sz="19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КОНТЕНТА (ОПРЕДЕЛЕНИЕ ИНТЕНТА)</a:t>
          </a:r>
        </a:p>
        <a:p>
          <a:pPr lvl="0" algn="l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1900" kern="1200" dirty="0"/>
        </a:p>
      </dsp:txBody>
      <dsp:txXfrm>
        <a:off x="3167256" y="880981"/>
        <a:ext cx="2129020" cy="1866210"/>
      </dsp:txXfrm>
    </dsp:sp>
    <dsp:sp modelId="{B2D4046A-E928-415B-98E8-4C2F56B38E43}">
      <dsp:nvSpPr>
        <dsp:cNvPr id="0" name=""/>
        <dsp:cNvSpPr/>
      </dsp:nvSpPr>
      <dsp:spPr>
        <a:xfrm>
          <a:off x="4894574" y="2764"/>
          <a:ext cx="401701" cy="401701"/>
        </a:xfrm>
        <a:prstGeom prst="triangle">
          <a:avLst>
            <a:gd name="adj" fmla="val 100000"/>
          </a:avLst>
        </a:prstGeom>
        <a:solidFill>
          <a:srgbClr val="54B64E"/>
        </a:solidFill>
        <a:ln w="25400" cap="flat" cmpd="sng" algn="ctr">
          <a:solidFill>
            <a:srgbClr val="54B64E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25D4ADBF-6CBC-43BE-829A-BDCF1B04F1DB}">
      <dsp:nvSpPr>
        <dsp:cNvPr id="0" name=""/>
        <dsp:cNvSpPr/>
      </dsp:nvSpPr>
      <dsp:spPr>
        <a:xfrm rot="5400000">
          <a:off x="6010162" y="-468560"/>
          <a:ext cx="1417222" cy="2358226"/>
        </a:xfrm>
        <a:prstGeom prst="corner">
          <a:avLst>
            <a:gd name="adj1" fmla="val 16120"/>
            <a:gd name="adj2" fmla="val 16110"/>
          </a:avLst>
        </a:prstGeom>
        <a:solidFill>
          <a:srgbClr val="54B64E"/>
        </a:solidFill>
        <a:ln w="25400" cap="flat" cmpd="sng" algn="ctr">
          <a:solidFill>
            <a:srgbClr val="54B64E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</dsp:sp>
    <dsp:sp modelId="{D2EBF783-7476-4BDA-9DF5-02C202A86877}">
      <dsp:nvSpPr>
        <dsp:cNvPr id="0" name=""/>
        <dsp:cNvSpPr/>
      </dsp:nvSpPr>
      <dsp:spPr>
        <a:xfrm>
          <a:off x="5773592" y="236041"/>
          <a:ext cx="2129020" cy="1866210"/>
        </a:xfrm>
        <a:prstGeom prst="rect">
          <a:avLst/>
        </a:prstGeom>
        <a:noFill/>
        <a:ln>
          <a:noFill/>
        </a:ln>
        <a:effectLst/>
      </dsp:spPr>
      <dsp:style>
        <a:lnRef idx="0">
          <a:scrgbClr r="0" g="0" b="0"/>
        </a:lnRef>
        <a:fillRef idx="0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72390" tIns="72390" rIns="72390" bIns="72390" numCol="1" spcCol="1270" anchor="t" anchorCtr="0">
          <a:noAutofit/>
        </a:bodyPr>
        <a:lstStyle/>
        <a:p>
          <a:pPr lvl="0" algn="l" defTabSz="844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9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ОПРЕДЕЛЕНИЕ</a:t>
          </a:r>
          <a:r>
            <a:rPr lang="ru-RU" sz="1900" kern="1200" dirty="0" smtClean="0"/>
            <a:t> </a:t>
          </a:r>
          <a:r>
            <a:rPr lang="ru-RU" sz="1900" b="1" kern="1200" dirty="0" smtClean="0">
              <a:solidFill>
                <a:schemeClr val="tx1">
                  <a:lumMod val="75000"/>
                  <a:lumOff val="25000"/>
                </a:schemeClr>
              </a:solidFill>
              <a:latin typeface="PT Sans"/>
            </a:rPr>
            <a:t>НЕДОСТАТКОВ</a:t>
          </a:r>
          <a:r>
            <a:rPr lang="ru-RU" sz="1900" kern="1200" dirty="0" smtClean="0"/>
            <a:t> </a:t>
          </a:r>
          <a:endParaRPr lang="ru-RU" sz="1900" kern="1200" dirty="0"/>
        </a:p>
      </dsp:txBody>
      <dsp:txXfrm>
        <a:off x="5773592" y="236041"/>
        <a:ext cx="2129020" cy="186621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0FB505D-504D-4BBD-9941-55858824A1CB}">
      <dsp:nvSpPr>
        <dsp:cNvPr id="0" name=""/>
        <dsp:cNvSpPr/>
      </dsp:nvSpPr>
      <dsp:spPr>
        <a:xfrm>
          <a:off x="2382292" y="667422"/>
          <a:ext cx="523558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523558" y="45720"/>
              </a:lnTo>
            </a:path>
          </a:pathLst>
        </a:custGeom>
        <a:noFill/>
        <a:ln w="25400" cap="flat" cmpd="sng" algn="ctr">
          <a:solidFill>
            <a:schemeClr val="dk1"/>
          </a:solidFill>
          <a:prstDash val="solid"/>
          <a:tailEnd type="arrow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2">
          <a:schemeClr val="dk1"/>
        </a:lnRef>
        <a:fillRef idx="0">
          <a:schemeClr val="dk1"/>
        </a:fillRef>
        <a:effectRef idx="1">
          <a:schemeClr val="dk1"/>
        </a:effectRef>
        <a:fontRef idx="minor">
          <a:schemeClr val="tx1"/>
        </a:fontRef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2630217" y="710415"/>
        <a:ext cx="27707" cy="5452"/>
      </dsp:txXfrm>
    </dsp:sp>
    <dsp:sp modelId="{7530B99E-617B-4A4E-B133-3A56B91735F7}">
      <dsp:nvSpPr>
        <dsp:cNvPr id="0" name=""/>
        <dsp:cNvSpPr/>
      </dsp:nvSpPr>
      <dsp:spPr>
        <a:xfrm>
          <a:off x="13260" y="1892"/>
          <a:ext cx="2370832" cy="1422499"/>
        </a:xfrm>
        <a:prstGeom prst="rect">
          <a:avLst/>
        </a:prstGeom>
        <a:solidFill>
          <a:srgbClr val="54B64E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PT Sans"/>
            </a:rPr>
            <a:t>РЕКОМЕНДАЦИИ ПО СТИЛИСТИКЕ</a:t>
          </a:r>
          <a:endParaRPr lang="ru-RU" sz="1800" b="1" kern="1200" dirty="0">
            <a:latin typeface="PT Sans"/>
          </a:endParaRPr>
        </a:p>
      </dsp:txBody>
      <dsp:txXfrm>
        <a:off x="13260" y="1892"/>
        <a:ext cx="2370832" cy="1422499"/>
      </dsp:txXfrm>
    </dsp:sp>
    <dsp:sp modelId="{0132AC5D-8BF1-4F06-8009-A61B96C295A7}">
      <dsp:nvSpPr>
        <dsp:cNvPr id="0" name=""/>
        <dsp:cNvSpPr/>
      </dsp:nvSpPr>
      <dsp:spPr>
        <a:xfrm>
          <a:off x="5307282" y="667422"/>
          <a:ext cx="505824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505824" y="45720"/>
              </a:lnTo>
            </a:path>
          </a:pathLst>
        </a:custGeom>
        <a:noFill/>
        <a:ln w="25400" cap="flat" cmpd="sng" algn="ctr">
          <a:solidFill>
            <a:schemeClr val="dk1"/>
          </a:solidFill>
          <a:prstDash val="solid"/>
          <a:tailEnd type="arrow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2">
          <a:schemeClr val="dk1"/>
        </a:lnRef>
        <a:fillRef idx="0">
          <a:schemeClr val="dk1"/>
        </a:fillRef>
        <a:effectRef idx="1">
          <a:schemeClr val="dk1"/>
        </a:effectRef>
        <a:fontRef idx="minor">
          <a:schemeClr val="tx1"/>
        </a:fontRef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5546784" y="710415"/>
        <a:ext cx="26821" cy="5452"/>
      </dsp:txXfrm>
    </dsp:sp>
    <dsp:sp modelId="{A685B4D1-848A-4553-8100-70F87A1F40FA}">
      <dsp:nvSpPr>
        <dsp:cNvPr id="0" name=""/>
        <dsp:cNvSpPr/>
      </dsp:nvSpPr>
      <dsp:spPr>
        <a:xfrm>
          <a:off x="2938250" y="1892"/>
          <a:ext cx="2370832" cy="1422499"/>
        </a:xfrm>
        <a:prstGeom prst="rect">
          <a:avLst/>
        </a:prstGeom>
        <a:solidFill>
          <a:srgbClr val="54B64E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PT Sans"/>
            </a:rPr>
            <a:t>КОНКРЕТИЗАЦИЯ</a:t>
          </a:r>
          <a:r>
            <a:rPr lang="ru-RU" sz="1800" kern="1200" dirty="0" smtClean="0"/>
            <a:t> </a:t>
          </a:r>
          <a:r>
            <a:rPr lang="ru-RU" sz="1800" b="1" kern="1200" dirty="0" smtClean="0">
              <a:latin typeface="PT Sans"/>
            </a:rPr>
            <a:t>ТЕМАТИКИ</a:t>
          </a:r>
          <a:endParaRPr lang="ru-RU" sz="1800" b="1" kern="1200" dirty="0">
            <a:latin typeface="PT Sans"/>
          </a:endParaRPr>
        </a:p>
      </dsp:txBody>
      <dsp:txXfrm>
        <a:off x="2938250" y="1892"/>
        <a:ext cx="2370832" cy="1422499"/>
      </dsp:txXfrm>
    </dsp:sp>
    <dsp:sp modelId="{CF72CEE1-36CB-4092-B915-7F81318BA92E}">
      <dsp:nvSpPr>
        <dsp:cNvPr id="0" name=""/>
        <dsp:cNvSpPr/>
      </dsp:nvSpPr>
      <dsp:spPr>
        <a:xfrm>
          <a:off x="1198676" y="1422591"/>
          <a:ext cx="5832246" cy="514691"/>
        </a:xfrm>
        <a:custGeom>
          <a:avLst/>
          <a:gdLst/>
          <a:ahLst/>
          <a:cxnLst/>
          <a:rect l="0" t="0" r="0" b="0"/>
          <a:pathLst>
            <a:path>
              <a:moveTo>
                <a:pt x="5832246" y="0"/>
              </a:moveTo>
              <a:lnTo>
                <a:pt x="5832246" y="274445"/>
              </a:lnTo>
              <a:lnTo>
                <a:pt x="0" y="274445"/>
              </a:lnTo>
              <a:lnTo>
                <a:pt x="0" y="514691"/>
              </a:lnTo>
            </a:path>
          </a:pathLst>
        </a:custGeom>
        <a:noFill/>
        <a:ln w="25400" cap="flat" cmpd="sng" algn="ctr">
          <a:solidFill>
            <a:schemeClr val="dk1"/>
          </a:solidFill>
          <a:prstDash val="solid"/>
          <a:tailEnd type="arrow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2">
          <a:schemeClr val="dk1"/>
        </a:lnRef>
        <a:fillRef idx="0">
          <a:schemeClr val="dk1"/>
        </a:fillRef>
        <a:effectRef idx="1">
          <a:schemeClr val="dk1"/>
        </a:effectRef>
        <a:fontRef idx="minor">
          <a:schemeClr val="tx1"/>
        </a:fontRef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3968357" y="1677211"/>
        <a:ext cx="292884" cy="5452"/>
      </dsp:txXfrm>
    </dsp:sp>
    <dsp:sp modelId="{77E31B8C-3693-4338-8B69-ECC91BCA4CBB}">
      <dsp:nvSpPr>
        <dsp:cNvPr id="0" name=""/>
        <dsp:cNvSpPr/>
      </dsp:nvSpPr>
      <dsp:spPr>
        <a:xfrm>
          <a:off x="5845507" y="1892"/>
          <a:ext cx="2370832" cy="1422499"/>
        </a:xfrm>
        <a:prstGeom prst="rect">
          <a:avLst/>
        </a:prstGeom>
        <a:solidFill>
          <a:srgbClr val="54B64E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PT Sans"/>
            </a:rPr>
            <a:t>РЕКОМЕНДАЦИИ</a:t>
          </a:r>
          <a:r>
            <a:rPr lang="ru-RU" sz="1800" kern="1200" dirty="0" smtClean="0"/>
            <a:t> </a:t>
          </a:r>
          <a:r>
            <a:rPr lang="ru-RU" sz="1800" b="1" kern="1200" dirty="0" smtClean="0">
              <a:latin typeface="PT Sans"/>
            </a:rPr>
            <a:t>ПО ОБЪЕМУ</a:t>
          </a:r>
          <a:endParaRPr lang="ru-RU" sz="1800" b="1" kern="1200" dirty="0">
            <a:latin typeface="PT Sans"/>
          </a:endParaRPr>
        </a:p>
      </dsp:txBody>
      <dsp:txXfrm>
        <a:off x="5845507" y="1892"/>
        <a:ext cx="2370832" cy="1422499"/>
      </dsp:txXfrm>
    </dsp:sp>
    <dsp:sp modelId="{EE61822A-5923-4C55-BEB5-42CA231A540F}">
      <dsp:nvSpPr>
        <dsp:cNvPr id="0" name=""/>
        <dsp:cNvSpPr/>
      </dsp:nvSpPr>
      <dsp:spPr>
        <a:xfrm>
          <a:off x="2382292" y="2635212"/>
          <a:ext cx="514691" cy="91440"/>
        </a:xfrm>
        <a:custGeom>
          <a:avLst/>
          <a:gdLst/>
          <a:ahLst/>
          <a:cxnLst/>
          <a:rect l="0" t="0" r="0" b="0"/>
          <a:pathLst>
            <a:path>
              <a:moveTo>
                <a:pt x="0" y="45720"/>
              </a:moveTo>
              <a:lnTo>
                <a:pt x="514691" y="45720"/>
              </a:lnTo>
            </a:path>
          </a:pathLst>
        </a:custGeom>
        <a:noFill/>
        <a:ln w="25400" cap="flat" cmpd="sng" algn="ctr">
          <a:solidFill>
            <a:schemeClr val="dk1"/>
          </a:solidFill>
          <a:prstDash val="solid"/>
          <a:tailEnd type="arrow"/>
        </a:ln>
        <a:effectLst>
          <a:outerShdw blurRad="40000" dist="20000" dir="5400000" rotWithShape="0">
            <a:srgbClr val="000000">
              <a:alpha val="38000"/>
            </a:srgbClr>
          </a:outerShdw>
        </a:effectLst>
      </dsp:spPr>
      <dsp:style>
        <a:lnRef idx="2">
          <a:schemeClr val="dk1"/>
        </a:lnRef>
        <a:fillRef idx="0">
          <a:schemeClr val="dk1"/>
        </a:fillRef>
        <a:effectRef idx="1">
          <a:schemeClr val="dk1"/>
        </a:effectRef>
        <a:fontRef idx="minor">
          <a:schemeClr val="tx1"/>
        </a:fontRef>
      </dsp:style>
      <dsp:txBody>
        <a:bodyPr spcFirstLastPara="0" vert="horz" wrap="square" lIns="12700" tIns="0" rIns="12700" bIns="0" numCol="1" spcCol="1270" anchor="ctr" anchorCtr="0">
          <a:noAutofit/>
        </a:bodyPr>
        <a:lstStyle/>
        <a:p>
          <a:pPr lvl="0" algn="ctr" defTabSz="2222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ru-RU" sz="500" kern="1200"/>
        </a:p>
      </dsp:txBody>
      <dsp:txXfrm>
        <a:off x="2626006" y="2678206"/>
        <a:ext cx="27264" cy="5452"/>
      </dsp:txXfrm>
    </dsp:sp>
    <dsp:sp modelId="{2D21BD09-1D13-463A-BD0F-E759CD551E73}">
      <dsp:nvSpPr>
        <dsp:cNvPr id="0" name=""/>
        <dsp:cNvSpPr/>
      </dsp:nvSpPr>
      <dsp:spPr>
        <a:xfrm>
          <a:off x="13260" y="1969683"/>
          <a:ext cx="2370832" cy="1422499"/>
        </a:xfrm>
        <a:prstGeom prst="rect">
          <a:avLst/>
        </a:prstGeom>
        <a:solidFill>
          <a:srgbClr val="54B64E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PT Sans"/>
            </a:rPr>
            <a:t>РЕКОМЕНДАЦИИ</a:t>
          </a:r>
          <a:r>
            <a:rPr lang="ru-RU" sz="1800" kern="1200" dirty="0" smtClean="0"/>
            <a:t> </a:t>
          </a:r>
          <a:r>
            <a:rPr lang="ru-RU" sz="1800" b="1" kern="1200" dirty="0" smtClean="0">
              <a:latin typeface="PT Sans"/>
            </a:rPr>
            <a:t>ПО СОДЕРЖАНИЮ</a:t>
          </a:r>
          <a:endParaRPr lang="ru-RU" sz="1800" b="1" kern="1200" dirty="0">
            <a:latin typeface="PT Sans"/>
          </a:endParaRPr>
        </a:p>
      </dsp:txBody>
      <dsp:txXfrm>
        <a:off x="13260" y="1969683"/>
        <a:ext cx="2370832" cy="1422499"/>
      </dsp:txXfrm>
    </dsp:sp>
    <dsp:sp modelId="{CFA7FECC-ED6C-480D-8D32-59D891D1C4EB}">
      <dsp:nvSpPr>
        <dsp:cNvPr id="0" name=""/>
        <dsp:cNvSpPr/>
      </dsp:nvSpPr>
      <dsp:spPr>
        <a:xfrm>
          <a:off x="2929383" y="1969683"/>
          <a:ext cx="2370832" cy="1422499"/>
        </a:xfrm>
        <a:prstGeom prst="rect">
          <a:avLst/>
        </a:prstGeom>
        <a:solidFill>
          <a:srgbClr val="54B64E"/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28016" tIns="128016" rIns="128016" bIns="128016" numCol="1" spcCol="1270" anchor="ctr" anchorCtr="0">
          <a:noAutofit/>
        </a:bodyPr>
        <a:lstStyle/>
        <a:p>
          <a:pPr lvl="0" algn="ctr" defTabSz="8001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800" b="1" kern="1200" dirty="0" smtClean="0">
              <a:latin typeface="PT Sans"/>
            </a:rPr>
            <a:t>СМЕЖНЫЕ КЛЮЧЕВЫЕ ЗАПРОСЫ</a:t>
          </a:r>
          <a:endParaRPr lang="ru-RU" sz="1800" b="1" kern="1200" dirty="0">
            <a:latin typeface="PT Sans"/>
          </a:endParaRPr>
        </a:p>
      </dsp:txBody>
      <dsp:txXfrm>
        <a:off x="2929383" y="1969683"/>
        <a:ext cx="2370832" cy="142249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9/3/layout/StepUpProcess">
  <dgm:title val=""/>
  <dgm:desc val=""/>
  <dgm:catLst>
    <dgm:cat type="process" pri="1300"/>
  </dgm:catLst>
  <dgm:samp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b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b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onstrLst>
      <dgm:constr type="alignOff" forName="rootnode" val="1"/>
      <dgm:constr type="primFontSz" for="des" ptType="node" op="equ" val="65"/>
      <dgm:constr type="w" for="ch" forName="composite" refType="w"/>
      <dgm:constr type="h" for="ch" forName="composite" refType="h"/>
      <dgm:constr type="sp" refType="h" refFor="ch" refForName="composite" op="equ" fact="-0.765"/>
      <dgm:constr type="w" for="ch" forName="sibTrans" refType="w" fact="0.103"/>
      <dgm:constr type="h" for="ch" forName="sibTrans" refType="h" fact="0.103"/>
    </dgm:constrLst>
    <dgm:forEach name="nodesForEach" axis="ch" ptType="node">
      <dgm:layoutNode name="composite">
        <dgm:alg type="composite">
          <dgm:param type="ar" val="0.861"/>
        </dgm:alg>
        <dgm:shape xmlns:r="http://schemas.openxmlformats.org/officeDocument/2006/relationships" r:blip="">
          <dgm:adjLst/>
        </dgm:shape>
        <dgm:choose name="Name3">
          <dgm:if name="Name4" func="var" arg="dir" op="equ" val="norm">
            <dgm:constrLst>
              <dgm:constr type="l" for="ch" forName="LShape" refType="w" fact="0"/>
              <dgm:constr type="t" for="ch" forName="LShape" refType="h" fact="0.2347"/>
              <dgm:constr type="w" for="ch" forName="LShape" refType="w" fact="0.998"/>
              <dgm:constr type="h" for="ch" forName="LShape" refType="h" fact="0.5164"/>
              <dgm:constr type="r" for="ch" forName="ParentText" refType="w"/>
              <dgm:constr type="t" for="ch" forName="ParentText" refType="h" fact="0.32"/>
              <dgm:constr type="w" for="ch" forName="ParentText" refType="w" fact="0.901"/>
              <dgm:constr type="h" for="ch" forName="ParentText" refType="h" fact="0.68"/>
              <dgm:constr type="l" for="ch" forName="Triangle" refType="w" fact="0.83"/>
              <dgm:constr type="t" for="ch" forName="Triangle" refType="h" fact="0"/>
              <dgm:constr type="w" for="ch" forName="Triangle" refType="w" fact="0.17"/>
              <dgm:constr type="h" for="ch" forName="Triangle" refType="w" refFor="ch" refForName="Triangle"/>
            </dgm:constrLst>
          </dgm:if>
          <dgm:else name="Name5">
            <dgm:constrLst>
              <dgm:constr type="l" for="ch" forName="LShape" refType="w" fact="0.002"/>
              <dgm:constr type="t" for="ch" forName="LShape" refType="h" fact="0.2347"/>
              <dgm:constr type="w" for="ch" forName="LShape" refType="w"/>
              <dgm:constr type="h" for="ch" forName="LShape" refType="h" fact="0.5164"/>
              <dgm:constr type="l" for="ch" forName="ParentText" refType="w" fact="0"/>
              <dgm:constr type="t" for="ch" forName="ParentText" refType="h" fact="0.32"/>
              <dgm:constr type="w" for="ch" forName="ParentText" refType="w" fact="0.902"/>
              <dgm:constr type="h" for="ch" forName="ParentText" refType="h" fact="0.68"/>
              <dgm:constr type="l" for="ch" forName="Triangle" refType="w" fact="0"/>
              <dgm:constr type="t" for="ch" forName="Triangle" refType="h" fact="0"/>
              <dgm:constr type="w" for="ch" forName="Triangle" refType="w" fact="0.17"/>
              <dgm:constr type="h" for="ch" forName="Triangle" refType="w" refFor="ch" refForName="Triangle"/>
            </dgm:constrLst>
          </dgm:else>
        </dgm:choose>
        <dgm:layoutNode name="LShape" styleLbl="alignNode1">
          <dgm:alg type="sp"/>
          <dgm:choose name="Name6">
            <dgm:if name="Name7" func="var" arg="dir" op="equ" val="norm">
              <dgm:shape xmlns:r="http://schemas.openxmlformats.org/officeDocument/2006/relationships" rot="90" type="corner" r:blip="">
                <dgm:adjLst>
                  <dgm:adj idx="1" val="0.1612"/>
                  <dgm:adj idx="2" val="0.1611"/>
                </dgm:adjLst>
              </dgm:shape>
            </dgm:if>
            <dgm:else name="Name8">
              <dgm:shape xmlns:r="http://schemas.openxmlformats.org/officeDocument/2006/relationships" rot="180" type="corner" r:blip="">
                <dgm:adjLst>
                  <dgm:adj idx="1" val="0.1612"/>
                  <dgm:adj idx="2" val="0.1611"/>
                </dgm:adjLst>
              </dgm:shape>
            </dgm:else>
          </dgm:choose>
          <dgm:presOf/>
        </dgm:layoutNode>
        <dgm:layoutNode name="ParentText" styleLbl="revTx">
          <dgm:varLst>
            <dgm:chMax val="0"/>
            <dgm:chPref val="0"/>
            <dgm:bulletEnabled val="1"/>
          </dgm:varLst>
          <dgm:alg type="tx">
            <dgm:param type="parTxLTRAlign" val="l"/>
            <dgm:param type="txAnchorVert" val="t"/>
          </dgm:alg>
          <dgm:shape xmlns:r="http://schemas.openxmlformats.org/officeDocument/2006/relationships" type="rect" r:blip="">
            <dgm:adjLst/>
          </dgm:shape>
          <dgm:presOf axis="desOr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9">
          <dgm:if name="Name10" axis="followSib" ptType="node" func="cnt" op="gte" val="1">
            <dgm:layoutNode name="Triangle" styleLbl="alignNode1">
              <dgm:alg type="sp"/>
              <dgm:choose name="Name11">
                <dgm:if name="Name12" func="var" arg="dir" op="equ" val="norm">
                  <dgm:shape xmlns:r="http://schemas.openxmlformats.org/officeDocument/2006/relationships" type="triangle" r:blip="">
                    <dgm:adjLst>
                      <dgm:adj idx="1" val="1"/>
                    </dgm:adjLst>
                  </dgm:shape>
                </dgm:if>
                <dgm:else name="Name13">
                  <dgm:shape xmlns:r="http://schemas.openxmlformats.org/officeDocument/2006/relationships" rot="90" type="triangle" r:blip="">
                    <dgm:adjLst>
                      <dgm:adj idx="1" val="1"/>
                    </dgm:adjLst>
                  </dgm:shape>
                </dgm:else>
              </dgm:choose>
              <dgm:presOf/>
            </dgm:layoutNode>
          </dgm:if>
          <dgm:else name="Name14"/>
        </dgm:choose>
      </dgm:layoutNode>
      <dgm:forEach name="sibTransForEach" axis="followSib" ptType="sibTrans" cnt="1">
        <dgm:layoutNode name="sibTrans">
          <dgm:alg type="composite">
            <dgm:param type="ar" val="0.861"/>
          </dgm:alg>
          <dgm:constrLst>
            <dgm:constr type="w" for="ch" forName="space" refType="w"/>
            <dgm:constr type="h" for="ch" forName="space" refType="w"/>
          </dgm:constrLst>
          <dgm:layoutNode name="space" styleLbl="alignNode1">
            <dgm:alg type="sp"/>
            <dgm:shape xmlns:r="http://schemas.openxmlformats.org/officeDocument/2006/relationships" r:blip="">
              <dgm:adjLst/>
            </dgm:shape>
            <dgm:presOf/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bProcess3">
  <dgm:title val=""/>
  <dgm:desc val=""/>
  <dgm:catLst>
    <dgm:cat type="process" pri="18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7" srcId="0" destId="1" srcOrd="0" destOrd="0"/>
        <dgm:cxn modelId="8" srcId="0" destId="2" srcOrd="1" destOrd="0"/>
        <dgm:cxn modelId="9" srcId="0" destId="3" srcOrd="2" destOrd="0"/>
        <dgm:cxn modelId="10" srcId="0" destId="4" srcOrd="3" destOrd="0"/>
        <dgm:cxn modelId="11" srcId="0" destId="5" srcOrd="4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axis="self" func="var" arg="dir" op="equ" val="norm">
        <dgm:alg type="snake">
          <dgm:param type="grDir" val="tL"/>
          <dgm:param type="flowDir" val="row"/>
          <dgm:param type="contDir" val="sameDir"/>
          <dgm:param type="bkpt" val="endCnv"/>
        </dgm:alg>
      </dgm:if>
      <dgm:else name="Name3">
        <dgm:alg type="snake">
          <dgm:param type="grDir" val="tR"/>
          <dgm:param type="flowDir" val="row"/>
          <dgm:param type="contDir" val="sameDir"/>
          <dgm:param type="bkpt" val="endCnv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forName="sibTrans" refType="w" refFor="ch" refPtType="node" op="equ" fact="0.23"/>
      <dgm:constr type="sp" refType="w" refFor="ch" refForName="sibTrans" op="equ"/>
      <dgm:constr type="userB" for="des" forName="connectorText" refType="sp"/>
      <dgm:constr type="primFontSz" for="ch" ptType="node" op="equ" val="65"/>
      <dgm:constr type="h" for="ch" ptType="sibTrans" op="equ"/>
      <dgm:constr type="primFontSz" for="des" forName="connectorText" op="equ" val="55"/>
      <dgm:constr type="primFontSz" for="des" forName="connectorText" refType="primFontSz" refFor="ch" refPtType="node" op="lte" fact="0.8"/>
    </dgm:constrLst>
    <dgm:ruleLst/>
    <dgm:forEach name="nodesForEach" axis="ch" ptType="node">
      <dgm:layoutNode name="node">
        <dgm:varLst>
          <dgm:bulletEnabled val="1"/>
        </dgm:varLst>
        <dgm:alg type="tx"/>
        <dgm:shape xmlns:r="http://schemas.openxmlformats.org/officeDocument/2006/relationships" type="rect" r:blip="">
          <dgm:adjLst/>
        </dgm:shape>
        <dgm:presOf axis="desOrSelf" ptType="node"/>
        <dgm:constrLst>
          <dgm:constr type="h" refType="w" fact="0.6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ibTrans">
          <dgm:choose name="Name4">
            <dgm:if name="Name5" axis="self" func="var" arg="dir" op="equ" val="norm">
              <dgm:alg type="conn">
                <dgm:param type="connRout" val="bend"/>
                <dgm:param type="dim" val="1D"/>
                <dgm:param type="begPts" val="midR bCtr"/>
                <dgm:param type="endPts" val="midL tCtr"/>
              </dgm:alg>
            </dgm:if>
            <dgm:else name="Name6">
              <dgm:alg type="conn">
                <dgm:param type="connRout" val="bend"/>
                <dgm:param type="dim" val="1D"/>
                <dgm:param type="begPts" val="midL bCtr"/>
                <dgm:param type="endPts" val="midR tCtr"/>
              </dgm:alg>
            </dgm:else>
          </dgm:choose>
          <dgm:shape xmlns:r="http://schemas.openxmlformats.org/officeDocument/2006/relationships" type="conn" r:blip="" zOrderOff="-2">
            <dgm:adjLst/>
          </dgm:shape>
          <dgm:presOf axis="self"/>
          <dgm:constrLst>
            <dgm:constr type="begPad" val="-0.05"/>
            <dgm:constr type="endPad" val="0.9"/>
            <dgm:constr type="userA" for="ch" refType="connDist"/>
          </dgm:constrLst>
          <dgm:ruleLst/>
          <dgm:layoutNode name="connectorText">
            <dgm:alg type="tx">
              <dgm:param type="autoTxRot" val="upr"/>
            </dgm:alg>
            <dgm:shape xmlns:r="http://schemas.openxmlformats.org/officeDocument/2006/relationships" type="rect" r:blip="" hideGeom="1">
              <dgm:adjLst/>
            </dgm:shape>
            <dgm:presOf axis="self"/>
            <dgm:constrLst>
              <dgm:constr type="userA"/>
              <dgm:constr type="userB"/>
              <dgm:constr type="w" refType="userA" fact="0.05"/>
              <dgm:constr type="h" refType="userB" fact="0.01"/>
              <dgm:constr type="lMarg" val="1"/>
              <dgm:constr type="rMarg" val="1"/>
              <dgm:constr type="tMarg"/>
              <dgm:constr type="bMarg"/>
            </dgm:constrLst>
            <dgm:ruleLst>
              <dgm:rule type="w" val="NaN" fact="0.6" max="NaN"/>
              <dgm:rule type="h" val="NaN" fact="0.6" max="NaN"/>
              <dgm:rule type="primFontSz" val="5" fact="NaN" max="NaN"/>
            </dgm:ruleLst>
          </dgm:layoutNode>
        </dgm:layoutNode>
      </dgm:forEach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arrow2">
  <dgm:title val=""/>
  <dgm:desc val=""/>
  <dgm:catLst>
    <dgm:cat type="process" pri="23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arrowDiagram">
    <dgm:varLst>
      <dgm:chMax val="5"/>
      <dgm:dir/>
      <dgm:resizeHandles val="exact"/>
    </dgm:varLst>
    <dgm:alg type="composite">
      <dgm:param type="ar" val="1.6"/>
    </dgm:alg>
    <dgm:shape xmlns:r="http://schemas.openxmlformats.org/officeDocument/2006/relationships" r:blip="">
      <dgm:adjLst/>
    </dgm:shape>
    <dgm:presOf/>
    <dgm:constrLst>
      <dgm:constr type="l" for="ch" forName="arrow"/>
      <dgm:constr type="t" for="ch" forName="arrow"/>
      <dgm:constr type="w" for="ch" forName="arrow" refType="w"/>
      <dgm:constr type="h" for="ch" forName="arrow" refType="h"/>
      <dgm:constr type="ctrX" for="ch" forName="arrowDiagram1" refType="w" fact="0.5"/>
      <dgm:constr type="ctrY" for="ch" forName="arrowDiagram1" refType="h" fact="0.5"/>
      <dgm:constr type="w" for="ch" forName="arrowDiagram1" refType="w"/>
      <dgm:constr type="h" for="ch" forName="arrowDiagram1" refType="h"/>
      <dgm:constr type="ctrX" for="ch" forName="arrowDiagram2" refType="w" fact="0.5"/>
      <dgm:constr type="ctrY" for="ch" forName="arrowDiagram2" refType="h" fact="0.5"/>
      <dgm:constr type="w" for="ch" forName="arrowDiagram2" refType="w"/>
      <dgm:constr type="h" for="ch" forName="arrowDiagram2" refType="h"/>
      <dgm:constr type="ctrX" for="ch" forName="arrowDiagram3" refType="w" fact="0.5"/>
      <dgm:constr type="ctrY" for="ch" forName="arrowDiagram3" refType="h" fact="0.5"/>
      <dgm:constr type="w" for="ch" forName="arrowDiagram3" refType="w"/>
      <dgm:constr type="h" for="ch" forName="arrowDiagram3" refType="h"/>
      <dgm:constr type="ctrX" for="ch" forName="arrowDiagram4" refType="w" fact="0.5"/>
      <dgm:constr type="ctrY" for="ch" forName="arrowDiagram4" refType="h" fact="0.5"/>
      <dgm:constr type="w" for="ch" forName="arrowDiagram4" refType="w"/>
      <dgm:constr type="h" for="ch" forName="arrowDiagram4" refType="h"/>
      <dgm:constr type="ctrX" for="ch" forName="arrowDiagram5" refType="w" fact="0.5"/>
      <dgm:constr type="ctrY" for="ch" forName="arrowDiagram5" refType="h" fact="0.5"/>
      <dgm:constr type="w" for="ch" forName="arrowDiagram5" refType="w"/>
      <dgm:constr type="h" for="ch" forName="arrowDiagram5" refType="h"/>
    </dgm:constrLst>
    <dgm:ruleLst/>
    <dgm:choose name="Name0">
      <dgm:if name="Name1" axis="ch" ptType="node" func="cnt" op="gte" val="1">
        <dgm:layoutNode name="arrow" styleLbl="bgShp">
          <dgm:alg type="sp"/>
          <dgm:shape xmlns:r="http://schemas.openxmlformats.org/officeDocument/2006/relationships" type="swooshArrow" r:blip="">
            <dgm:adjLst>
              <dgm:adj idx="2" val="0.25"/>
            </dgm:adjLst>
          </dgm:shape>
          <dgm:presOf/>
          <dgm:constrLst/>
          <dgm:ruleLst/>
        </dgm:layoutNode>
        <dgm:choose name="Name2">
          <dgm:if name="Name3" axis="ch" ptType="node" func="cnt" op="lt" val="1"/>
          <dgm:if name="Name4" axis="ch" ptType="node" func="cnt" op="equ" val="1">
            <dgm:layoutNode name="arrowDiagram1">
              <dgm:varLst>
                <dgm:bulletEnabled val="1"/>
              </dgm:varLst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ctrX" for="ch" forName="bullet1" refType="w" fact="0.8"/>
                <dgm:constr type="ctrY" for="ch" forName="bullet1" refType="h" fact="0.262"/>
                <dgm:constr type="w" for="ch" forName="bullet1" refType="w" fact="0.074"/>
                <dgm:constr type="h" for="ch" forName="bullet1" refType="w" refFor="ch" refForName="bullet1"/>
                <dgm:constr type="r" for="ch" forName="textBox1" refType="ctrX" refFor="ch" refForName="bullet1"/>
                <dgm:constr type="t" for="ch" forName="textBox1" refType="ctrY" refFor="ch" refForName="bullet1"/>
                <dgm:constr type="w" for="ch" forName="textBox1" refType="w" fact="0.4"/>
                <dgm:constr type="h" for="ch" forName="textBox1" refType="h" fact="0.738"/>
                <dgm:constr type="userA" refType="h" refFor="ch" refForName="bullet1" fact="0.53"/>
                <dgm:constr type="rMarg" for="ch" forName="textBox1" refType="userA" fact="2.834"/>
                <dgm:constr type="primFontSz" for="ch" ptType="node" op="equ" val="65"/>
              </dgm:constrLst>
              <dgm:ruleLst/>
              <dgm:forEach name="Name5" axis="ch" ptType="node" cnt="1">
                <dgm:layoutNode name="bullet1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1" styleLbl="revTx">
                  <dgm:varLst>
                    <dgm:bulletEnabled val="1"/>
                  </dgm:varLst>
                  <dgm:alg type="tx">
                    <dgm:param type="txAnchorVert" val="t"/>
                    <dgm:param type="parTxLTRAlign" val="r"/>
                    <dgm:param type="parTxRTLAlign" val="r"/>
                  </dgm:alg>
                  <dgm:shape xmlns:r="http://schemas.openxmlformats.org/officeDocument/2006/relationships" type="round2DiagRect" r:blip="">
                    <dgm:adjLst/>
                  </dgm:shape>
                  <dgm:presOf axis="desOrSelf" ptType="node"/>
                  <dgm:constrLst>
                    <dgm:constr type="lMarg"/>
                    <dgm:constr type="tMarg"/>
                    <dgm:constr type="bMarg"/>
                  </dgm:constrLst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6" axis="ch" ptType="node" func="cnt" op="equ" val="2">
            <dgm:layoutNode name="arrowDiagram2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7">
                <dgm:if name="Name8" func="var" arg="dir" op="equ" val="norm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l" for="ch" forName="textBox2a" refType="ctrX" refFor="ch" refForName="bullet2a"/>
                    <dgm:constr type="t" for="ch" forName="textBox2a" refType="ctrY" refFor="ch" refForName="bullet2a"/>
                    <dgm:constr type="w" for="ch" forName="textBox2a" refType="w" fact="0.325"/>
                    <dgm:constr type="h" for="ch" forName="textBox2a" refType="h" fact="0.427"/>
                    <dgm:constr type="userA" refType="h" refFor="ch" refForName="bullet2a" fact="0.53"/>
                    <dgm:constr type="l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l" for="ch" forName="textBox2b" refType="ctrX" refFor="ch" refForName="bullet2b"/>
                    <dgm:constr type="t" for="ch" forName="textBox2b" refType="ctrY" refFor="ch" refForName="bullet2b"/>
                    <dgm:constr type="w" for="ch" forName="textBox2b" refType="w" fact="0.325"/>
                    <dgm:constr type="h" for="ch" forName="textBox2b" refType="h" fact="0.662"/>
                    <dgm:constr type="userB" refType="h" refFor="ch" refForName="bullet2b" fact="0.53"/>
                    <dgm:constr type="lMarg" for="ch" forName="textBox2b" refType="userB" fact="2.834"/>
                    <dgm:constr type="primFontSz" for="ch" ptType="node" op="equ" val="65"/>
                  </dgm:constrLst>
                </dgm:if>
                <dgm:else name="Name9">
                  <dgm:constrLst>
                    <dgm:constr type="ctrX" for="ch" forName="bullet2a" refType="w" fact="0.25"/>
                    <dgm:constr type="ctrY" for="ch" forName="bullet2a" refType="h" fact="0.573"/>
                    <dgm:constr type="w" for="ch" forName="bullet2a" refType="w" fact="0.035"/>
                    <dgm:constr type="h" for="ch" forName="bullet2a" refType="w" refFor="ch" refForName="bullet2a"/>
                    <dgm:constr type="r" for="ch" forName="textBox2a" refType="ctrX" refFor="ch" refForName="bullet2a"/>
                    <dgm:constr type="b" for="ch" forName="textBox2a" refType="ctrY" refFor="ch" refForName="bullet2a"/>
                    <dgm:constr type="w" for="ch" forName="textBox2a" refType="w" fact="0.25"/>
                    <dgm:constr type="h" for="ch" forName="textBox2a" refType="h" fact="0.573"/>
                    <dgm:constr type="userA" refType="h" refFor="ch" refForName="bullet2a" fact="0.53"/>
                    <dgm:constr type="rMarg" for="ch" forName="textBox2a" refType="userA" fact="2.834"/>
                    <dgm:constr type="ctrX" for="ch" forName="bullet2b" refType="w" fact="0.585"/>
                    <dgm:constr type="ctrY" for="ch" forName="bullet2b" refType="h" fact="0.338"/>
                    <dgm:constr type="w" for="ch" forName="bullet2b" refType="w" fact="0.06"/>
                    <dgm:constr type="h" for="ch" forName="bullet2b" refType="w" refFor="ch" refForName="bullet2b"/>
                    <dgm:constr type="r" for="ch" forName="textBox2b" refType="ctrX" refFor="ch" refForName="bullet2b"/>
                    <dgm:constr type="b" for="ch" forName="textBox2b" refType="ctrY" refFor="ch" refForName="bullet2b"/>
                    <dgm:constr type="w" for="ch" forName="textBox2b" refType="w" fact="0.28"/>
                    <dgm:constr type="h" for="ch" forName="textBox2b" refType="h" fact="0.338"/>
                    <dgm:constr type="userB" refType="h" refFor="ch" refForName="bullet2b" fact="0.53"/>
                    <dgm:constr type="rMarg" for="ch" forName="textBox2b" refType="userB" fact="2.834"/>
                    <dgm:constr type="primFontSz" for="ch" ptType="node" op="equ" val="65"/>
                  </dgm:constrLst>
                </dgm:else>
              </dgm:choose>
              <dgm:ruleLst/>
              <dgm:forEach name="Name10" axis="ch" ptType="node" cnt="1">
                <dgm:layoutNode name="bullet2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a" styleLbl="revTx">
                  <dgm:varLst>
                    <dgm:bulletEnabled val="1"/>
                  </dgm:varLst>
                  <dgm:choose name="Name11">
                    <dgm:if name="Name12" func="var" arg="dir" op="equ" val="norm">
                      <dgm:choose name="Name13">
                        <dgm:if name="Name1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6">
                      <dgm:choose name="Name17">
                        <dgm:if name="Name1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">
                    <dgm:if name="Name2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23" axis="ch" ptType="node" st="2" cnt="1">
                <dgm:layoutNode name="bullet2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2b" styleLbl="revTx">
                  <dgm:varLst>
                    <dgm:bulletEnabled val="1"/>
                  </dgm:varLst>
                  <dgm:choose name="Name24">
                    <dgm:if name="Name25" func="var" arg="dir" op="equ" val="norm">
                      <dgm:choose name="Name26">
                        <dgm:if name="Name2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2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29">
                      <dgm:choose name="Name30">
                        <dgm:if name="Name3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3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33">
                    <dgm:if name="Name3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3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36" axis="ch" ptType="node" func="cnt" op="equ" val="3">
            <dgm:layoutNode name="arrowDiagram3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37">
                <dgm:if name="Name38" func="var" arg="dir" op="equ" val="norm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l" for="ch" forName="textBox3a" refType="ctrX" refFor="ch" refForName="bullet3a"/>
                    <dgm:constr type="t" for="ch" forName="textBox3a" refType="ctrY" refFor="ch" refForName="bullet3a"/>
                    <dgm:constr type="w" for="ch" forName="textBox3a" refType="w" fact="0.233"/>
                    <dgm:constr type="h" for="ch" forName="textBox3a" refType="h" fact="0.289"/>
                    <dgm:constr type="userA" refType="h" refFor="ch" refForName="bullet3a" fact="0.53"/>
                    <dgm:constr type="l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l" for="ch" forName="textBox3b" refType="ctrX" refFor="ch" refForName="bullet3b"/>
                    <dgm:constr type="t" for="ch" forName="textBox3b" refType="ctrY" refFor="ch" refForName="bullet3b"/>
                    <dgm:constr type="w" for="ch" forName="textBox3b" refType="w" fact="0.24"/>
                    <dgm:constr type="h" for="ch" forName="textBox3b" refType="h" fact="0.544"/>
                    <dgm:constr type="userB" refType="h" refFor="ch" refForName="bullet3b" fact="0.53"/>
                    <dgm:constr type="l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l" for="ch" forName="textBox3c" refType="ctrX" refFor="ch" refForName="bullet3c"/>
                    <dgm:constr type="t" for="ch" forName="textBox3c" refType="ctrY" refFor="ch" refForName="bullet3c"/>
                    <dgm:constr type="w" for="ch" forName="textBox3c" refType="w" fact="0.24"/>
                    <dgm:constr type="h" for="ch" forName="textBox3c" refType="h" fact="0.695"/>
                    <dgm:constr type="userC" refType="h" refFor="ch" refForName="bullet3c" fact="0.53"/>
                    <dgm:constr type="lMarg" for="ch" forName="textBox3c" refType="userC" fact="2.834"/>
                    <dgm:constr type="primFontSz" for="ch" ptType="node" op="equ" val="65"/>
                  </dgm:constrLst>
                </dgm:if>
                <dgm:else name="Name39">
                  <dgm:constrLst>
                    <dgm:constr type="ctrX" for="ch" forName="bullet3a" refType="w" fact="0.14"/>
                    <dgm:constr type="ctrY" for="ch" forName="bullet3a" refType="h" fact="0.711"/>
                    <dgm:constr type="w" for="ch" forName="bullet3a" refType="w" fact="0.026"/>
                    <dgm:constr type="h" for="ch" forName="bullet3a" refType="w" refFor="ch" refForName="bullet3a"/>
                    <dgm:constr type="r" for="ch" forName="textBox3a" refType="ctrX" refFor="ch" refForName="bullet3a"/>
                    <dgm:constr type="b" for="ch" forName="textBox3a" refType="ctrY" refFor="ch" refForName="bullet3a"/>
                    <dgm:constr type="w" for="ch" forName="textBox3a" refType="w" fact="0.14"/>
                    <dgm:constr type="h" for="ch" forName="textBox3a" refType="h" fact="0.711"/>
                    <dgm:constr type="userA" refType="h" refFor="ch" refForName="bullet3a" fact="0.53"/>
                    <dgm:constr type="rMarg" for="ch" forName="textBox3a" refType="userA" fact="2.834"/>
                    <dgm:constr type="ctrX" for="ch" forName="bullet3b" refType="w" fact="0.38"/>
                    <dgm:constr type="ctrY" for="ch" forName="bullet3b" refType="h" fact="0.456"/>
                    <dgm:constr type="w" for="ch" forName="bullet3b" refType="w" fact="0.047"/>
                    <dgm:constr type="h" for="ch" forName="bullet3b" refType="w" refFor="ch" refForName="bullet3b"/>
                    <dgm:constr type="r" for="ch" forName="textBox3b" refType="ctrX" refFor="ch" refForName="bullet3b"/>
                    <dgm:constr type="b" for="ch" forName="textBox3b" refType="ctrY" refFor="ch" refForName="bullet3b"/>
                    <dgm:constr type="w" for="ch" forName="textBox3b" refType="w" fact="0.24"/>
                    <dgm:constr type="h" for="ch" forName="textBox3b" refType="h" fact="0.456"/>
                    <dgm:constr type="userB" refType="h" refFor="ch" refForName="bullet3b" fact="0.53"/>
                    <dgm:constr type="rMarg" for="ch" forName="textBox3b" refType="userB" fact="2.834"/>
                    <dgm:constr type="ctrX" for="ch" forName="bullet3c" refType="w" fact="0.665"/>
                    <dgm:constr type="ctrY" for="ch" forName="bullet3c" refType="h" fact="0.305"/>
                    <dgm:constr type="w" for="ch" forName="bullet3c" refType="w" fact="0.065"/>
                    <dgm:constr type="h" for="ch" forName="bullet3c" refType="w" refFor="ch" refForName="bullet3c"/>
                    <dgm:constr type="r" for="ch" forName="textBox3c" refType="ctrX" refFor="ch" refForName="bullet3c"/>
                    <dgm:constr type="b" for="ch" forName="textBox3c" refType="ctrY" refFor="ch" refForName="bullet3c"/>
                    <dgm:constr type="w" for="ch" forName="textBox3c" refType="w" fact="0.24"/>
                    <dgm:constr type="h" for="ch" forName="textBox3c" refType="h" fact="0.305"/>
                    <dgm:constr type="userC" refType="h" refFor="ch" refForName="bullet3c" fact="0.53"/>
                    <dgm:constr type="rMarg" for="ch" forName="textBox3c" refType="userC" fact="2.834"/>
                    <dgm:constr type="primFontSz" for="ch" ptType="node" op="equ" val="65"/>
                  </dgm:constrLst>
                </dgm:else>
              </dgm:choose>
              <dgm:ruleLst/>
              <dgm:forEach name="Name40" axis="ch" ptType="node" cnt="1">
                <dgm:layoutNode name="bullet3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a" styleLbl="revTx">
                  <dgm:varLst>
                    <dgm:bulletEnabled val="1"/>
                  </dgm:varLst>
                  <dgm:choose name="Name41">
                    <dgm:if name="Name42" func="var" arg="dir" op="equ" val="norm">
                      <dgm:choose name="Name43">
                        <dgm:if name="Name44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45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46">
                      <dgm:choose name="Name47">
                        <dgm:if name="Name48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49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50">
                    <dgm:if name="Name51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52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53" axis="ch" ptType="node" st="2" cnt="1">
                <dgm:layoutNode name="bullet3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b" styleLbl="revTx">
                  <dgm:varLst>
                    <dgm:bulletEnabled val="1"/>
                  </dgm:varLst>
                  <dgm:choose name="Name54">
                    <dgm:if name="Name55" func="var" arg="dir" op="equ" val="norm">
                      <dgm:choose name="Name56">
                        <dgm:if name="Name5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5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59">
                      <dgm:choose name="Name60">
                        <dgm:if name="Name6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6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63">
                    <dgm:if name="Name6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6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66" axis="ch" ptType="node" st="3" cnt="1">
                <dgm:layoutNode name="bullet3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3c" styleLbl="revTx">
                  <dgm:varLst>
                    <dgm:bulletEnabled val="1"/>
                  </dgm:varLst>
                  <dgm:choose name="Name67">
                    <dgm:if name="Name68" func="var" arg="dir" op="equ" val="norm">
                      <dgm:choose name="Name69">
                        <dgm:if name="Name7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7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72">
                      <dgm:choose name="Name73">
                        <dgm:if name="Name7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7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76">
                    <dgm:if name="Name7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7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if name="Name79" axis="ch" ptType="node" func="cnt" op="equ" val="4">
            <dgm:layoutNode name="arrowDiagram4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80">
                <dgm:if name="Name81" func="var" arg="dir" op="equ" val="norm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l" for="ch" forName="textBox4a" refType="ctrX" refFor="ch" refForName="bullet4a"/>
                    <dgm:constr type="t" for="ch" forName="textBox4a" refType="ctrY" refFor="ch" refForName="bullet4a"/>
                    <dgm:constr type="w" for="ch" forName="textBox4a" refType="w" fact="0.171"/>
                    <dgm:constr type="h" for="ch" forName="textBox4a" refType="h" fact="0.238"/>
                    <dgm:constr type="userA" refType="h" refFor="ch" refForName="bullet4a" fact="0.53"/>
                    <dgm:constr type="l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l" for="ch" forName="textBox4b" refType="ctrX" refFor="ch" refForName="bullet4b"/>
                    <dgm:constr type="t" for="ch" forName="textBox4b" refType="ctrY" refFor="ch" refForName="bullet4b"/>
                    <dgm:constr type="w" for="ch" forName="textBox4b" refType="w" fact="0.21"/>
                    <dgm:constr type="h" for="ch" forName="textBox4b" refType="h" fact="0.457"/>
                    <dgm:constr type="userB" refType="h" refFor="ch" refForName="bullet4b" fact="0.53"/>
                    <dgm:constr type="l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l" for="ch" forName="textBox4c" refType="ctrX" refFor="ch" refForName="bullet4c"/>
                    <dgm:constr type="t" for="ch" forName="textBox4c" refType="ctrY" refFor="ch" refForName="bullet4c"/>
                    <dgm:constr type="w" for="ch" forName="textBox4c" refType="w" fact="0.21"/>
                    <dgm:constr type="h" for="ch" forName="textBox4c" refType="h" fact="0.618"/>
                    <dgm:constr type="userC" refType="h" refFor="ch" refForName="bullet4c" fact="0.53"/>
                    <dgm:constr type="l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l" for="ch" forName="textBox4d" refType="ctrX" refFor="ch" refForName="bullet4d"/>
                    <dgm:constr type="t" for="ch" forName="textBox4d" refType="ctrY" refFor="ch" refForName="bullet4d"/>
                    <dgm:constr type="w" for="ch" forName="textBox4d" refType="w" fact="0.21"/>
                    <dgm:constr type="h" for="ch" forName="textBox4d" refType="h" fact="0.717"/>
                    <dgm:constr type="userD" refType="h" refFor="ch" refForName="bullet4d" fact="0.53"/>
                    <dgm:constr type="lMarg" for="ch" forName="textBox4d" refType="userD" fact="2.834"/>
                    <dgm:constr type="primFontSz" for="ch" ptType="node" op="equ" val="65"/>
                  </dgm:constrLst>
                </dgm:if>
                <dgm:else name="Name82">
                  <dgm:constrLst>
                    <dgm:constr type="ctrX" for="ch" forName="bullet4a" refType="w" fact="0.11"/>
                    <dgm:constr type="ctrY" for="ch" forName="bullet4a" refType="h" fact="0.762"/>
                    <dgm:constr type="w" for="ch" forName="bullet4a" refType="w" fact="0.023"/>
                    <dgm:constr type="h" for="ch" forName="bullet4a" refType="w" refFor="ch" refForName="bullet4a"/>
                    <dgm:constr type="r" for="ch" forName="textBox4a" refType="ctrX" refFor="ch" refForName="bullet4a"/>
                    <dgm:constr type="b" for="ch" forName="textBox4a" refType="ctrY" refFor="ch" refForName="bullet4a"/>
                    <dgm:constr type="w" for="ch" forName="textBox4a" refType="w" fact="0.11"/>
                    <dgm:constr type="h" for="ch" forName="textBox4a" refType="h" fact="0.762"/>
                    <dgm:constr type="userA" refType="h" refFor="ch" refForName="bullet4a" fact="0.53"/>
                    <dgm:constr type="rMarg" for="ch" forName="textBox4a" refType="userA" fact="2.834"/>
                    <dgm:constr type="ctrX" for="ch" forName="bullet4b" refType="w" fact="0.281"/>
                    <dgm:constr type="ctrY" for="ch" forName="bullet4b" refType="h" fact="0.543"/>
                    <dgm:constr type="w" for="ch" forName="bullet4b" refType="w" fact="0.04"/>
                    <dgm:constr type="h" for="ch" forName="bullet4b" refType="w" refFor="ch" refForName="bullet4b"/>
                    <dgm:constr type="r" for="ch" forName="textBox4b" refType="ctrX" refFor="ch" refForName="bullet4b"/>
                    <dgm:constr type="b" for="ch" forName="textBox4b" refType="ctrY" refFor="ch" refForName="bullet4b"/>
                    <dgm:constr type="w" for="ch" forName="textBox4b" refType="w" fact="0.171"/>
                    <dgm:constr type="h" for="ch" forName="textBox4b" refType="h" fact="0.543"/>
                    <dgm:constr type="userB" refType="h" refFor="ch" refForName="bullet4b" fact="0.53"/>
                    <dgm:constr type="rMarg" for="ch" forName="textBox4b" refType="userB" fact="2.834"/>
                    <dgm:constr type="ctrX" for="ch" forName="bullet4c" refType="w" fact="0.495"/>
                    <dgm:constr type="ctrY" for="ch" forName="bullet4c" refType="h" fact="0.382"/>
                    <dgm:constr type="w" for="ch" forName="bullet4c" refType="w" fact="0.053"/>
                    <dgm:constr type="h" for="ch" forName="bullet4c" refType="w" refFor="ch" refForName="bullet4c"/>
                    <dgm:constr type="r" for="ch" forName="textBox4c" refType="ctrX" refFor="ch" refForName="bullet4c"/>
                    <dgm:constr type="b" for="ch" forName="textBox4c" refType="ctrY" refFor="ch" refForName="bullet4c"/>
                    <dgm:constr type="w" for="ch" forName="textBox4c" refType="w" fact="0.21"/>
                    <dgm:constr type="h" for="ch" forName="textBox4c" refType="h" fact="0.382"/>
                    <dgm:constr type="userC" refType="h" refFor="ch" refForName="bullet4c" fact="0.53"/>
                    <dgm:constr type="rMarg" for="ch" forName="textBox4c" refType="userC" fact="2.834"/>
                    <dgm:constr type="ctrX" for="ch" forName="bullet4d" refType="w" fact="0.73"/>
                    <dgm:constr type="ctrY" for="ch" forName="bullet4d" refType="h" fact="0.283"/>
                    <dgm:constr type="w" for="ch" forName="bullet4d" refType="w" fact="0.071"/>
                    <dgm:constr type="h" for="ch" forName="bullet4d" refType="w" refFor="ch" refForName="bullet4d"/>
                    <dgm:constr type="r" for="ch" forName="textBox4d" refType="ctrX" refFor="ch" refForName="bullet4d"/>
                    <dgm:constr type="b" for="ch" forName="textBox4d" refType="ctrY" refFor="ch" refForName="bullet4d"/>
                    <dgm:constr type="w" for="ch" forName="textBox4d" refType="w" fact="0.21"/>
                    <dgm:constr type="h" for="ch" forName="textBox4d" refType="h" fact="0.283"/>
                    <dgm:constr type="userD" refType="h" refFor="ch" refForName="bullet4d" fact="0.53"/>
                    <dgm:constr type="rMarg" for="ch" forName="textBox4d" refType="userD" fact="2.834"/>
                    <dgm:constr type="primFontSz" for="ch" ptType="node" op="equ" val="65"/>
                  </dgm:constrLst>
                </dgm:else>
              </dgm:choose>
              <dgm:ruleLst/>
              <dgm:forEach name="Name83" axis="ch" ptType="node" cnt="1">
                <dgm:layoutNode name="bullet4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a" styleLbl="revTx">
                  <dgm:varLst>
                    <dgm:bulletEnabled val="1"/>
                  </dgm:varLst>
                  <dgm:choose name="Name84">
                    <dgm:if name="Name85" func="var" arg="dir" op="equ" val="norm">
                      <dgm:choose name="Name86">
                        <dgm:if name="Name87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88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89">
                      <dgm:choose name="Name90">
                        <dgm:if name="Name91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92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93">
                    <dgm:if name="Name94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95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96" axis="ch" ptType="node" st="2" cnt="1">
                <dgm:layoutNode name="bullet4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b" styleLbl="revTx">
                  <dgm:varLst>
                    <dgm:bulletEnabled val="1"/>
                  </dgm:varLst>
                  <dgm:choose name="Name97">
                    <dgm:if name="Name98" func="var" arg="dir" op="equ" val="norm">
                      <dgm:choose name="Name99">
                        <dgm:if name="Name100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01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02">
                      <dgm:choose name="Name103">
                        <dgm:if name="Name104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05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06">
                    <dgm:if name="Name107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08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09" axis="ch" ptType="node" st="3" cnt="1">
                <dgm:layoutNode name="bullet4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c" styleLbl="revTx">
                  <dgm:varLst>
                    <dgm:bulletEnabled val="1"/>
                  </dgm:varLst>
                  <dgm:choose name="Name110">
                    <dgm:if name="Name111" func="var" arg="dir" op="equ" val="norm">
                      <dgm:choose name="Name112">
                        <dgm:if name="Name11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1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15">
                      <dgm:choose name="Name116">
                        <dgm:if name="Name11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1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19">
                    <dgm:if name="Name12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2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22" axis="ch" ptType="node" st="4" cnt="1">
                <dgm:layoutNode name="bullet4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4d" styleLbl="revTx">
                  <dgm:varLst>
                    <dgm:bulletEnabled val="1"/>
                  </dgm:varLst>
                  <dgm:choose name="Name123">
                    <dgm:if name="Name124" func="var" arg="dir" op="equ" val="norm">
                      <dgm:choose name="Name125">
                        <dgm:if name="Name12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2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28">
                      <dgm:choose name="Name129">
                        <dgm:if name="Name13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3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32">
                    <dgm:if name="Name13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3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if>
          <dgm:else name="Name135">
            <dgm:layoutNode name="arrowDiagram5">
              <dgm:alg type="composite">
                <dgm:param type="vertAlign" val="none"/>
                <dgm:param type="horzAlign" val="none"/>
              </dgm:alg>
              <dgm:shape xmlns:r="http://schemas.openxmlformats.org/officeDocument/2006/relationships" r:blip="">
                <dgm:adjLst/>
              </dgm:shape>
              <dgm:presOf/>
              <dgm:choose name="Name136">
                <dgm:if name="Name137" func="var" arg="dir" op="equ" val="norm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l" for="ch" forName="textBox5a" refType="ctrX" refFor="ch" refForName="bullet5a"/>
                    <dgm:constr type="t" for="ch" forName="textBox5a" refType="ctrY" refFor="ch" refForName="bullet5a"/>
                    <dgm:constr type="w" for="ch" forName="textBox5a" refType="w" fact="0.131"/>
                    <dgm:constr type="h" for="ch" forName="textBox5a" refType="h" fact="0.238"/>
                    <dgm:constr type="userA" refType="h" refFor="ch" refForName="bullet5a" fact="0.53"/>
                    <dgm:constr type="l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l" for="ch" forName="textBox5b" refType="ctrX" refFor="ch" refForName="bullet5b"/>
                    <dgm:constr type="t" for="ch" forName="textBox5b" refType="ctrY" refFor="ch" refForName="bullet5b"/>
                    <dgm:constr type="w" for="ch" forName="textBox5b" refType="w" fact="0.166"/>
                    <dgm:constr type="h" for="ch" forName="textBox5b" refType="h" fact="0.419"/>
                    <dgm:constr type="userB" refType="h" refFor="ch" refForName="bullet5b" fact="0.53"/>
                    <dgm:constr type="l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l" for="ch" forName="textBox5c" refType="ctrX" refFor="ch" refForName="bullet5c"/>
                    <dgm:constr type="t" for="ch" forName="textBox5c" refType="ctrY" refFor="ch" refForName="bullet5c"/>
                    <dgm:constr type="w" for="ch" forName="textBox5c" refType="w" fact="0.193"/>
                    <dgm:constr type="h" for="ch" forName="textBox5c" refType="h" fact="0.562"/>
                    <dgm:constr type="userC" refType="h" refFor="ch" refForName="bullet5c" fact="0.53"/>
                    <dgm:constr type="l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l" for="ch" forName="textBox5d" refType="ctrX" refFor="ch" refForName="bullet5d"/>
                    <dgm:constr type="t" for="ch" forName="textBox5d" refType="ctrY" refFor="ch" refForName="bullet5d"/>
                    <dgm:constr type="w" for="ch" forName="textBox5d" refType="w" fact="0.2"/>
                    <dgm:constr type="h" for="ch" forName="textBox5d" refType="h" fact="0.67"/>
                    <dgm:constr type="userD" refType="h" refFor="ch" refForName="bullet5d" fact="0.53"/>
                    <dgm:constr type="l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l" for="ch" forName="textBox5e" refType="ctrX" refFor="ch" refForName="bullet5e"/>
                    <dgm:constr type="t" for="ch" forName="textBox5e" refType="ctrY" refFor="ch" refForName="bullet5e"/>
                    <dgm:constr type="w" for="ch" forName="textBox5e" refType="w" fact="0.2"/>
                    <dgm:constr type="h" for="ch" forName="textBox5e" refType="h" fact="0.736"/>
                    <dgm:constr type="userE" refType="h" refFor="ch" refForName="bullet5e" fact="0.53"/>
                    <dgm:constr type="lMarg" for="ch" forName="textBox5e" refType="userE" fact="2.834"/>
                    <dgm:constr type="primFontSz" for="ch" ptType="node" op="equ" val="65"/>
                  </dgm:constrLst>
                </dgm:if>
                <dgm:else name="Name138">
                  <dgm:constrLst>
                    <dgm:constr type="ctrX" for="ch" forName="bullet5a" refType="w" fact="0.11"/>
                    <dgm:constr type="ctrY" for="ch" forName="bullet5a" refType="h" fact="0.762"/>
                    <dgm:constr type="w" for="ch" forName="bullet5a" refType="w" fact="0.023"/>
                    <dgm:constr type="h" for="ch" forName="bullet5a" refType="w" refFor="ch" refForName="bullet5a"/>
                    <dgm:constr type="r" for="ch" forName="textBox5a" refType="ctrX" refFor="ch" refForName="bullet5a"/>
                    <dgm:constr type="b" for="ch" forName="textBox5a" refType="ctrY" refFor="ch" refForName="bullet5a"/>
                    <dgm:constr type="w" for="ch" forName="textBox5a" refType="w" fact="0.11"/>
                    <dgm:constr type="h" for="ch" forName="textBox5a" refType="h" fact="0.762"/>
                    <dgm:constr type="userA" refType="h" refFor="ch" refForName="bullet5a" fact="0.53"/>
                    <dgm:constr type="rMarg" for="ch" forName="textBox5a" refType="userA" fact="2.834"/>
                    <dgm:constr type="ctrX" for="ch" forName="bullet5b" refType="w" fact="0.241"/>
                    <dgm:constr type="ctrY" for="ch" forName="bullet5b" refType="h" fact="0.581"/>
                    <dgm:constr type="w" for="ch" forName="bullet5b" refType="w" fact="0.036"/>
                    <dgm:constr type="h" for="ch" forName="bullet5b" refType="w" refFor="ch" refForName="bullet5b"/>
                    <dgm:constr type="r" for="ch" forName="textBox5b" refType="ctrX" refFor="ch" refForName="bullet5b"/>
                    <dgm:constr type="b" for="ch" forName="textBox5b" refType="ctrY" refFor="ch" refForName="bullet5b"/>
                    <dgm:constr type="w" for="ch" forName="textBox5b" refType="w" fact="0.131"/>
                    <dgm:constr type="h" for="ch" forName="textBox5b" refType="h" fact="0.581"/>
                    <dgm:constr type="userB" refType="h" refFor="ch" refForName="bullet5b" fact="0.53"/>
                    <dgm:constr type="rMarg" for="ch" forName="textBox5b" refType="userB" fact="2.834"/>
                    <dgm:constr type="ctrX" for="ch" forName="bullet5c" refType="w" fact="0.407"/>
                    <dgm:constr type="ctrY" for="ch" forName="bullet5c" refType="h" fact="0.438"/>
                    <dgm:constr type="w" for="ch" forName="bullet5c" refType="w" fact="0.048"/>
                    <dgm:constr type="h" for="ch" forName="bullet5c" refType="w" refFor="ch" refForName="bullet5c"/>
                    <dgm:constr type="r" for="ch" forName="textBox5c" refType="ctrX" refFor="ch" refForName="bullet5c"/>
                    <dgm:constr type="b" for="ch" forName="textBox5c" refType="ctrY" refFor="ch" refForName="bullet5c"/>
                    <dgm:constr type="w" for="ch" forName="textBox5c" refType="w" fact="0.166"/>
                    <dgm:constr type="h" for="ch" forName="textBox5c" refType="h" fact="0.438"/>
                    <dgm:constr type="userC" refType="h" refFor="ch" refForName="bullet5c" fact="0.53"/>
                    <dgm:constr type="rMarg" for="ch" forName="textBox5c" refType="userC" fact="2.834"/>
                    <dgm:constr type="ctrX" for="ch" forName="bullet5d" refType="w" fact="0.6"/>
                    <dgm:constr type="ctrY" for="ch" forName="bullet5d" refType="h" fact="0.33"/>
                    <dgm:constr type="w" for="ch" forName="bullet5d" refType="w" fact="0.062"/>
                    <dgm:constr type="h" for="ch" forName="bullet5d" refType="w" refFor="ch" refForName="bullet5d"/>
                    <dgm:constr type="r" for="ch" forName="textBox5d" refType="ctrX" refFor="ch" refForName="bullet5d"/>
                    <dgm:constr type="b" for="ch" forName="textBox5d" refType="ctrY" refFor="ch" refForName="bullet5d"/>
                    <dgm:constr type="w" for="ch" forName="textBox5d" refType="w" fact="0.193"/>
                    <dgm:constr type="h" for="ch" forName="textBox5d" refType="h" fact="0.33"/>
                    <dgm:constr type="userD" refType="h" refFor="ch" refForName="bullet5d" fact="0.53"/>
                    <dgm:constr type="rMarg" for="ch" forName="textBox5d" refType="userD" fact="2.834"/>
                    <dgm:constr type="ctrX" for="ch" forName="bullet5e" refType="w" fact="0.8"/>
                    <dgm:constr type="ctrY" for="ch" forName="bullet5e" refType="h" fact="0.264"/>
                    <dgm:constr type="w" for="ch" forName="bullet5e" refType="w" fact="0.079"/>
                    <dgm:constr type="h" for="ch" forName="bullet5e" refType="w" refFor="ch" refForName="bullet5e"/>
                    <dgm:constr type="r" for="ch" forName="textBox5e" refType="ctrX" refFor="ch" refForName="bullet5e"/>
                    <dgm:constr type="b" for="ch" forName="textBox5e" refType="ctrY" refFor="ch" refForName="bullet5e"/>
                    <dgm:constr type="w" for="ch" forName="textBox5e" refType="w" fact="0.2"/>
                    <dgm:constr type="h" for="ch" forName="textBox5e" refType="h" fact="0.264"/>
                    <dgm:constr type="userE" refType="h" refFor="ch" refForName="bullet5e" fact="0.53"/>
                    <dgm:constr type="rMarg" for="ch" forName="textBox5e" refType="userE" fact="2.834"/>
                    <dgm:constr type="primFontSz" for="ch" ptType="node" op="equ" val="65"/>
                  </dgm:constrLst>
                </dgm:else>
              </dgm:choose>
              <dgm:ruleLst/>
              <dgm:forEach name="Name139" axis="ch" ptType="node" cnt="1">
                <dgm:layoutNode name="bullet5a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a" styleLbl="revTx">
                  <dgm:varLst>
                    <dgm:bulletEnabled val="1"/>
                  </dgm:varLst>
                  <dgm:choose name="Name140">
                    <dgm:if name="Name141" func="var" arg="dir" op="equ" val="norm">
                      <dgm:choose name="Name142">
                        <dgm:if name="Name143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44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45">
                      <dgm:choose name="Name146">
                        <dgm:if name="Name147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48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49">
                    <dgm:if name="Name150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51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52" axis="ch" ptType="node" st="2" cnt="1">
                <dgm:layoutNode name="bullet5b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b" styleLbl="revTx">
                  <dgm:varLst>
                    <dgm:bulletEnabled val="1"/>
                  </dgm:varLst>
                  <dgm:choose name="Name153">
                    <dgm:if name="Name154" func="var" arg="dir" op="equ" val="norm">
                      <dgm:choose name="Name155">
                        <dgm:if name="Name156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57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58">
                      <dgm:choose name="Name159">
                        <dgm:if name="Name160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61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62">
                    <dgm:if name="Name163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64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65" axis="ch" ptType="node" st="3" cnt="1">
                <dgm:layoutNode name="bullet5c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c" styleLbl="revTx">
                  <dgm:varLst>
                    <dgm:bulletEnabled val="1"/>
                  </dgm:varLst>
                  <dgm:choose name="Name166">
                    <dgm:if name="Name167" func="var" arg="dir" op="equ" val="norm">
                      <dgm:choose name="Name168">
                        <dgm:if name="Name169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70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71">
                      <dgm:choose name="Name172">
                        <dgm:if name="Name173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74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75">
                    <dgm:if name="Name176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77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78" axis="ch" ptType="node" st="4" cnt="1">
                <dgm:layoutNode name="bullet5d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d" styleLbl="revTx">
                  <dgm:varLst>
                    <dgm:bulletEnabled val="1"/>
                  </dgm:varLst>
                  <dgm:choose name="Name179">
                    <dgm:if name="Name180" func="var" arg="dir" op="equ" val="norm">
                      <dgm:choose name="Name181">
                        <dgm:if name="Name182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83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84">
                      <dgm:choose name="Name185">
                        <dgm:if name="Name186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187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188">
                    <dgm:if name="Name189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190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  <dgm:forEach name="Name191" axis="ch" ptType="node" st="5" cnt="1">
                <dgm:layoutNode name="bullet5e" styleLbl="node1">
                  <dgm:alg type="sp"/>
                  <dgm:shape xmlns:r="http://schemas.openxmlformats.org/officeDocument/2006/relationships" type="ellipse" r:blip="">
                    <dgm:adjLst/>
                  </dgm:shape>
                  <dgm:presOf/>
                  <dgm:constrLst/>
                  <dgm:ruleLst/>
                </dgm:layoutNode>
                <dgm:layoutNode name="textBox5e" styleLbl="revTx">
                  <dgm:varLst>
                    <dgm:bulletEnabled val="1"/>
                  </dgm:varLst>
                  <dgm:choose name="Name192">
                    <dgm:if name="Name193" func="var" arg="dir" op="equ" val="norm">
                      <dgm:choose name="Name194">
                        <dgm:if name="Name195" axis="root des" ptType="all node" func="maxDepth" op="gt" val="1">
                          <dgm:alg type="tx">
                            <dgm:param type="txAnchorVert" val="t"/>
                            <dgm:param type="parTxLTRAlign" val="l"/>
                            <dgm:param type="parTxRTLAlign" val="r"/>
                          </dgm:alg>
                        </dgm:if>
                        <dgm:else name="Name196">
                          <dgm:alg type="tx">
                            <dgm:param type="txAnchorVert" val="t"/>
                            <dgm:param type="parTxLTRAlign" val="l"/>
                            <dgm:param type="parTxRTLAlign" val="l"/>
                          </dgm:alg>
                        </dgm:else>
                      </dgm:choose>
                    </dgm:if>
                    <dgm:else name="Name197">
                      <dgm:choose name="Name198">
                        <dgm:if name="Name199" axis="root des" ptType="all node" func="maxDepth" op="gt" val="1">
                          <dgm:alg type="tx">
                            <dgm:param type="txAnchorVert" val="b"/>
                            <dgm:param type="txAnchorVertCh" val="b"/>
                            <dgm:param type="parTxLTRAlign" val="l"/>
                            <dgm:param type="parTxRTLAlign" val="r"/>
                          </dgm:alg>
                        </dgm:if>
                        <dgm:else name="Name200">
                          <dgm:alg type="tx">
                            <dgm:param type="txAnchorVert" val="b"/>
                            <dgm:param type="parTxLTRAlign" val="r"/>
                            <dgm:param type="parTxRTLAlign" val="r"/>
                          </dgm:alg>
                        </dgm:else>
                      </dgm:choose>
                    </dgm:else>
                  </dgm:choose>
                  <dgm:shape xmlns:r="http://schemas.openxmlformats.org/officeDocument/2006/relationships" type="rect" r:blip="">
                    <dgm:adjLst/>
                  </dgm:shape>
                  <dgm:presOf axis="desOrSelf" ptType="node"/>
                  <dgm:choose name="Name201">
                    <dgm:if name="Name202" func="var" arg="dir" op="equ" val="norm">
                      <dgm:constrLst>
                        <dgm:constr type="rMarg"/>
                        <dgm:constr type="tMarg"/>
                        <dgm:constr type="bMarg"/>
                      </dgm:constrLst>
                    </dgm:if>
                    <dgm:else name="Name203">
                      <dgm:constrLst>
                        <dgm:constr type="lMarg"/>
                        <dgm:constr type="tMarg"/>
                        <dgm:constr type="bMarg"/>
                      </dgm:constrLst>
                    </dgm:else>
                  </dgm:choose>
                  <dgm:ruleLst>
                    <dgm:rule type="primFontSz" val="5" fact="NaN" max="NaN"/>
                  </dgm:ruleLst>
                </dgm:layoutNode>
              </dgm:forEach>
            </dgm:layoutNode>
          </dgm:else>
        </dgm:choose>
      </dgm:if>
      <dgm:else name="Name204"/>
    </dgm:choose>
  </dgm:layoutNode>
</dgm:layoutDef>
</file>

<file path=ppt/diagrams/layout4.xml><?xml version="1.0" encoding="utf-8"?>
<dgm:layoutDef xmlns:dgm="http://schemas.openxmlformats.org/drawingml/2006/diagram" xmlns:a="http://schemas.openxmlformats.org/drawingml/2006/main" uniqueId="urn:microsoft.com/office/officeart/2005/8/layout/StepDownProcess">
  <dgm:title val=""/>
  <dgm:desc val=""/>
  <dgm:catLst>
    <dgm:cat type="process" pri="16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t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t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hoose name="Name3">
      <dgm:if name="Name4" func="var" arg="dir" op="equ" val="norm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if>
      <dgm:else name="Name5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else>
    </dgm:choose>
    <dgm:forEach name="nodesForEach" axis="ch" ptType="node">
      <dgm:layoutNode name="composite">
        <dgm:alg type="composite">
          <dgm:param type="ar" val="1.2439"/>
        </dgm:alg>
        <dgm:shape xmlns:r="http://schemas.openxmlformats.org/officeDocument/2006/relationships" r:blip="">
          <dgm:adjLst/>
        </dgm:shape>
        <dgm:choose name="Name6">
          <dgm:if name="Name7" func="var" arg="dir" op="equ" val="norm">
            <dgm:constrLst>
              <dgm:constr type="l" for="ch" forName="bentUpArrow1" refType="w" fact="0.0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refFor="ch" refForName="ParentText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refFor="ch" refForName="ParentText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if>
          <dgm:else name="Name8">
            <dgm:constrLst>
              <dgm:constr type="r" for="ch" forName="bentUpArrow1" refType="w" fact="0.9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.4316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fact="0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fact="0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else>
        </dgm:choose>
        <dgm:choose name="Name9">
          <dgm:if name="Name10" axis="followSib" ptType="node" func="cnt" op="gte" val="1">
            <dgm:layoutNode name="bentUpArrow1" styleLbl="alignImgPlace1">
              <dgm:alg type="sp"/>
              <dgm:choose name="Name11">
                <dgm:if name="Name12" func="var" arg="dir" op="equ" val="norm">
                  <dgm:shape xmlns:r="http://schemas.openxmlformats.org/officeDocument/2006/relationships" rot="90" type="bentUpArrow" r:blip="">
                    <dgm:adjLst>
                      <dgm:adj idx="1" val="0.3284"/>
                      <dgm:adj idx="2" val="0.25"/>
                      <dgm:adj idx="3" val="0.3578"/>
                    </dgm:adjLst>
                  </dgm:shape>
                </dgm:if>
                <dgm:else name="Name13">
                  <dgm:shape xmlns:r="http://schemas.openxmlformats.org/officeDocument/2006/relationships" rot="180" type="bentArrow" r:blip="">
                    <dgm:adjLst>
                      <dgm:adj idx="1" val="0.3284"/>
                      <dgm:adj idx="2" val="0.25"/>
                      <dgm:adj idx="3" val="0.3578"/>
                      <dgm:adj idx="4" val="0"/>
                    </dgm:adjLst>
                  </dgm:shape>
                </dgm:else>
              </dgm:choose>
              <dgm:presOf/>
            </dgm:layoutNode>
          </dgm:if>
          <dgm:else name="Name14"/>
        </dgm:choose>
        <dgm:layoutNode name="ParentText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66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15">
          <dgm:if name="Name16" axis="followSib" ptType="node" func="cnt" op="equ" val="0">
            <dgm:choose name="Name17">
              <dgm:if name="Name18" axis="ch" ptType="node" func="cnt" op="gte" val="1">
                <dgm:layoutNode name="FinalChildText" styleLbl="revTx">
                  <dgm:varLst>
                    <dgm:chMax val="0"/>
                    <dgm:chPref val="0"/>
                    <dgm:bulletEnabled val="1"/>
                  </dgm:varLst>
                  <dgm:alg type="tx">
                    <dgm:param type="stBulletLvl" val="1"/>
                    <dgm:param type="txAnchorVertCh" val="mid"/>
                    <dgm:param type="parTxLTRAlign" val="l"/>
                  </dgm:alg>
                  <dgm:shape xmlns:r="http://schemas.openxmlformats.org/officeDocument/2006/relationships" type="rect" r:blip="">
                    <dgm:adjLst/>
                  </dgm:shape>
                  <dgm:presOf axis="des" ptType="node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9"/>
            </dgm:choose>
          </dgm:if>
          <dgm:else name="Name20">
            <dgm:layoutNode name="ChildText" styleLbl="revTx">
              <dgm:varLst>
                <dgm:chMax val="0"/>
                <dgm:chPref val="0"/>
                <dgm:bulletEnabled val="1"/>
              </dgm:varLst>
              <dgm:alg type="tx">
                <dgm:param type="stBulletLvl" val="1"/>
                <dgm:param type="txAnchorVertCh" val="mid"/>
                <dgm:param type="parTxLTRAlign" val="l"/>
              </dgm:alg>
              <dgm:shape xmlns:r="http://schemas.openxmlformats.org/officeDocument/2006/relationships" type="rect" r:blip="">
                <dgm:adjLst/>
              </dgm:shape>
              <dgm:presOf axis="des" ptType="node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else>
        </dgm:choos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layout5.xml><?xml version="1.0" encoding="utf-8"?>
<dgm:layoutDef xmlns:dgm="http://schemas.openxmlformats.org/drawingml/2006/diagram" xmlns:a="http://schemas.openxmlformats.org/drawingml/2006/main" uniqueId="urn:microsoft.com/office/officeart/2005/8/layout/StepDownProcess">
  <dgm:title val=""/>
  <dgm:desc val=""/>
  <dgm:catLst>
    <dgm:cat type="process" pri="16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t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t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hoose name="Name3">
      <dgm:if name="Name4" func="var" arg="dir" op="equ" val="norm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if>
      <dgm:else name="Name5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else>
    </dgm:choose>
    <dgm:forEach name="nodesForEach" axis="ch" ptType="node">
      <dgm:layoutNode name="composite">
        <dgm:alg type="composite">
          <dgm:param type="ar" val="1.2439"/>
        </dgm:alg>
        <dgm:shape xmlns:r="http://schemas.openxmlformats.org/officeDocument/2006/relationships" r:blip="">
          <dgm:adjLst/>
        </dgm:shape>
        <dgm:choose name="Name6">
          <dgm:if name="Name7" func="var" arg="dir" op="equ" val="norm">
            <dgm:constrLst>
              <dgm:constr type="l" for="ch" forName="bentUpArrow1" refType="w" fact="0.0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refFor="ch" refForName="ParentText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refFor="ch" refForName="ParentText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if>
          <dgm:else name="Name8">
            <dgm:constrLst>
              <dgm:constr type="r" for="ch" forName="bentUpArrow1" refType="w" fact="0.9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.4316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fact="0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fact="0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else>
        </dgm:choose>
        <dgm:choose name="Name9">
          <dgm:if name="Name10" axis="followSib" ptType="node" func="cnt" op="gte" val="1">
            <dgm:layoutNode name="bentUpArrow1" styleLbl="alignImgPlace1">
              <dgm:alg type="sp"/>
              <dgm:choose name="Name11">
                <dgm:if name="Name12" func="var" arg="dir" op="equ" val="norm">
                  <dgm:shape xmlns:r="http://schemas.openxmlformats.org/officeDocument/2006/relationships" rot="90" type="bentUpArrow" r:blip="">
                    <dgm:adjLst>
                      <dgm:adj idx="1" val="0.3284"/>
                      <dgm:adj idx="2" val="0.25"/>
                      <dgm:adj idx="3" val="0.3578"/>
                    </dgm:adjLst>
                  </dgm:shape>
                </dgm:if>
                <dgm:else name="Name13">
                  <dgm:shape xmlns:r="http://schemas.openxmlformats.org/officeDocument/2006/relationships" rot="180" type="bentArrow" r:blip="">
                    <dgm:adjLst>
                      <dgm:adj idx="1" val="0.3284"/>
                      <dgm:adj idx="2" val="0.25"/>
                      <dgm:adj idx="3" val="0.3578"/>
                      <dgm:adj idx="4" val="0"/>
                    </dgm:adjLst>
                  </dgm:shape>
                </dgm:else>
              </dgm:choose>
              <dgm:presOf/>
            </dgm:layoutNode>
          </dgm:if>
          <dgm:else name="Name14"/>
        </dgm:choose>
        <dgm:layoutNode name="ParentText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66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15">
          <dgm:if name="Name16" axis="followSib" ptType="node" func="cnt" op="equ" val="0">
            <dgm:choose name="Name17">
              <dgm:if name="Name18" axis="ch" ptType="node" func="cnt" op="gte" val="1">
                <dgm:layoutNode name="FinalChildText" styleLbl="revTx">
                  <dgm:varLst>
                    <dgm:chMax val="0"/>
                    <dgm:chPref val="0"/>
                    <dgm:bulletEnabled val="1"/>
                  </dgm:varLst>
                  <dgm:alg type="tx">
                    <dgm:param type="stBulletLvl" val="1"/>
                    <dgm:param type="txAnchorVertCh" val="mid"/>
                    <dgm:param type="parTxLTRAlign" val="l"/>
                  </dgm:alg>
                  <dgm:shape xmlns:r="http://schemas.openxmlformats.org/officeDocument/2006/relationships" type="rect" r:blip="">
                    <dgm:adjLst/>
                  </dgm:shape>
                  <dgm:presOf axis="des" ptType="node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9"/>
            </dgm:choose>
          </dgm:if>
          <dgm:else name="Name20">
            <dgm:layoutNode name="ChildText" styleLbl="revTx">
              <dgm:varLst>
                <dgm:chMax val="0"/>
                <dgm:chPref val="0"/>
                <dgm:bulletEnabled val="1"/>
              </dgm:varLst>
              <dgm:alg type="tx">
                <dgm:param type="stBulletLvl" val="1"/>
                <dgm:param type="txAnchorVertCh" val="mid"/>
                <dgm:param type="parTxLTRAlign" val="l"/>
              </dgm:alg>
              <dgm:shape xmlns:r="http://schemas.openxmlformats.org/officeDocument/2006/relationships" type="rect" r:blip="">
                <dgm:adjLst/>
              </dgm:shape>
              <dgm:presOf axis="des" ptType="node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else>
        </dgm:choos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layout6.xml><?xml version="1.0" encoding="utf-8"?>
<dgm:layoutDef xmlns:dgm="http://schemas.openxmlformats.org/drawingml/2006/diagram" xmlns:a="http://schemas.openxmlformats.org/drawingml/2006/main" uniqueId="urn:microsoft.com/office/officeart/2005/8/layout/StepDownProcess">
  <dgm:title val=""/>
  <dgm:desc val=""/>
  <dgm:catLst>
    <dgm:cat type="process" pri="16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t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t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hoose name="Name3">
      <dgm:if name="Name4" func="var" arg="dir" op="equ" val="norm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if>
      <dgm:else name="Name5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else>
    </dgm:choose>
    <dgm:forEach name="nodesForEach" axis="ch" ptType="node">
      <dgm:layoutNode name="composite">
        <dgm:alg type="composite">
          <dgm:param type="ar" val="1.2439"/>
        </dgm:alg>
        <dgm:shape xmlns:r="http://schemas.openxmlformats.org/officeDocument/2006/relationships" r:blip="">
          <dgm:adjLst/>
        </dgm:shape>
        <dgm:choose name="Name6">
          <dgm:if name="Name7" func="var" arg="dir" op="equ" val="norm">
            <dgm:constrLst>
              <dgm:constr type="l" for="ch" forName="bentUpArrow1" refType="w" fact="0.0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refFor="ch" refForName="ParentText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refFor="ch" refForName="ParentText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if>
          <dgm:else name="Name8">
            <dgm:constrLst>
              <dgm:constr type="r" for="ch" forName="bentUpArrow1" refType="w" fact="0.9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.4316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fact="0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fact="0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else>
        </dgm:choose>
        <dgm:choose name="Name9">
          <dgm:if name="Name10" axis="followSib" ptType="node" func="cnt" op="gte" val="1">
            <dgm:layoutNode name="bentUpArrow1" styleLbl="alignImgPlace1">
              <dgm:alg type="sp"/>
              <dgm:choose name="Name11">
                <dgm:if name="Name12" func="var" arg="dir" op="equ" val="norm">
                  <dgm:shape xmlns:r="http://schemas.openxmlformats.org/officeDocument/2006/relationships" rot="90" type="bentUpArrow" r:blip="">
                    <dgm:adjLst>
                      <dgm:adj idx="1" val="0.3284"/>
                      <dgm:adj idx="2" val="0.25"/>
                      <dgm:adj idx="3" val="0.3578"/>
                    </dgm:adjLst>
                  </dgm:shape>
                </dgm:if>
                <dgm:else name="Name13">
                  <dgm:shape xmlns:r="http://schemas.openxmlformats.org/officeDocument/2006/relationships" rot="180" type="bentArrow" r:blip="">
                    <dgm:adjLst>
                      <dgm:adj idx="1" val="0.3284"/>
                      <dgm:adj idx="2" val="0.25"/>
                      <dgm:adj idx="3" val="0.3578"/>
                      <dgm:adj idx="4" val="0"/>
                    </dgm:adjLst>
                  </dgm:shape>
                </dgm:else>
              </dgm:choose>
              <dgm:presOf/>
            </dgm:layoutNode>
          </dgm:if>
          <dgm:else name="Name14"/>
        </dgm:choose>
        <dgm:layoutNode name="ParentText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66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15">
          <dgm:if name="Name16" axis="followSib" ptType="node" func="cnt" op="equ" val="0">
            <dgm:choose name="Name17">
              <dgm:if name="Name18" axis="ch" ptType="node" func="cnt" op="gte" val="1">
                <dgm:layoutNode name="FinalChildText" styleLbl="revTx">
                  <dgm:varLst>
                    <dgm:chMax val="0"/>
                    <dgm:chPref val="0"/>
                    <dgm:bulletEnabled val="1"/>
                  </dgm:varLst>
                  <dgm:alg type="tx">
                    <dgm:param type="stBulletLvl" val="1"/>
                    <dgm:param type="txAnchorVertCh" val="mid"/>
                    <dgm:param type="parTxLTRAlign" val="l"/>
                  </dgm:alg>
                  <dgm:shape xmlns:r="http://schemas.openxmlformats.org/officeDocument/2006/relationships" type="rect" r:blip="">
                    <dgm:adjLst/>
                  </dgm:shape>
                  <dgm:presOf axis="des" ptType="node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9"/>
            </dgm:choose>
          </dgm:if>
          <dgm:else name="Name20">
            <dgm:layoutNode name="ChildText" styleLbl="revTx">
              <dgm:varLst>
                <dgm:chMax val="0"/>
                <dgm:chPref val="0"/>
                <dgm:bulletEnabled val="1"/>
              </dgm:varLst>
              <dgm:alg type="tx">
                <dgm:param type="stBulletLvl" val="1"/>
                <dgm:param type="txAnchorVertCh" val="mid"/>
                <dgm:param type="parTxLTRAlign" val="l"/>
              </dgm:alg>
              <dgm:shape xmlns:r="http://schemas.openxmlformats.org/officeDocument/2006/relationships" type="rect" r:blip="">
                <dgm:adjLst/>
              </dgm:shape>
              <dgm:presOf axis="des" ptType="node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else>
        </dgm:choos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layout7.xml><?xml version="1.0" encoding="utf-8"?>
<dgm:layoutDef xmlns:dgm="http://schemas.openxmlformats.org/drawingml/2006/diagram" xmlns:a="http://schemas.openxmlformats.org/drawingml/2006/main" uniqueId="urn:microsoft.com/office/officeart/2005/8/layout/StepDownProcess">
  <dgm:title val=""/>
  <dgm:desc val=""/>
  <dgm:catLst>
    <dgm:cat type="process" pri="16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60" srcId="0" destId="10" srcOrd="0" destOrd="0"/>
        <dgm:cxn modelId="12" srcId="10" destId="11" srcOrd="0" destOrd="0"/>
        <dgm:cxn modelId="70" srcId="0" destId="20" srcOrd="1" destOrd="0"/>
        <dgm:cxn modelId="22" srcId="20" destId="21" srcOrd="0" destOrd="0"/>
        <dgm:cxn modelId="80" srcId="0" destId="30" srcOrd="2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rootnode">
    <dgm:varLst>
      <dgm:chMax/>
      <dgm:chPref/>
      <dgm:dir/>
      <dgm:animLvl val="lvl"/>
    </dgm:varLst>
    <dgm:choose name="Name0">
      <dgm:if name="Name1" func="var" arg="dir" op="equ" val="norm">
        <dgm:alg type="snake">
          <dgm:param type="grDir" val="tL"/>
          <dgm:param type="flowDir" val="row"/>
          <dgm:param type="off" val="off"/>
          <dgm:param type="bkpt" val="fixed"/>
          <dgm:param type="bkPtFixedVal" val="1"/>
        </dgm:alg>
      </dgm:if>
      <dgm:else name="Name2">
        <dgm:alg type="snake">
          <dgm:param type="grDir" val="tR"/>
          <dgm:param type="flowDir" val="row"/>
          <dgm:param type="off" val="off"/>
          <dgm:param type="bkpt" val="fixed"/>
          <dgm:param type="bkPtFixedVal" val="1"/>
        </dgm:alg>
      </dgm:else>
    </dgm:choose>
    <dgm:shape xmlns:r="http://schemas.openxmlformats.org/officeDocument/2006/relationships" r:blip="">
      <dgm:adjLst/>
    </dgm:shape>
    <dgm:choose name="Name3">
      <dgm:if name="Name4" func="var" arg="dir" op="equ" val="norm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if>
      <dgm:else name="Name5">
        <dgm:constrLst>
          <dgm:constr type="alignOff" forName="rootnode" val="0.48"/>
          <dgm:constr type="primFontSz" for="des" forName="ParentText" val="65"/>
          <dgm:constr type="primFontSz" for="des" forName="ChildText" refType="primFontSz" refFor="des" refForName="ParentText" op="lte"/>
          <dgm:constr type="w" for="ch" forName="composite" refType="w"/>
          <dgm:constr type="h" for="ch" forName="composite" refType="h"/>
          <dgm:constr type="sp" refType="h" refFor="ch" refForName="composite" op="equ" fact="-0.38"/>
        </dgm:constrLst>
      </dgm:else>
    </dgm:choose>
    <dgm:forEach name="nodesForEach" axis="ch" ptType="node">
      <dgm:layoutNode name="composite">
        <dgm:alg type="composite">
          <dgm:param type="ar" val="1.2439"/>
        </dgm:alg>
        <dgm:shape xmlns:r="http://schemas.openxmlformats.org/officeDocument/2006/relationships" r:blip="">
          <dgm:adjLst/>
        </dgm:shape>
        <dgm:choose name="Name6">
          <dgm:if name="Name7" func="var" arg="dir" op="equ" val="norm">
            <dgm:constrLst>
              <dgm:constr type="l" for="ch" forName="bentUpArrow1" refType="w" fact="0.0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refFor="ch" refForName="ParentText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refFor="ch" refForName="ParentText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if>
          <dgm:else name="Name8">
            <dgm:constrLst>
              <dgm:constr type="r" for="ch" forName="bentUpArrow1" refType="w" fact="0.97"/>
              <dgm:constr type="t" for="ch" forName="bentUpArrow1" refType="h" fact="0.524"/>
              <dgm:constr type="w" for="ch" forName="bentUpArrow1" refType="w" fact="0.3844"/>
              <dgm:constr type="h" for="ch" forName="bentUpArrow1" refType="h" fact="0.42"/>
              <dgm:constr type="l" for="ch" forName="ParentText" refType="w" fact="0.4316"/>
              <dgm:constr type="t" for="ch" forName="ParentText" refType="h" fact="0"/>
              <dgm:constr type="w" for="ch" forName="ParentText" refType="w" fact="0.5684"/>
              <dgm:constr type="h" for="ch" forName="ParentText" refType="h" fact="0.4949"/>
              <dgm:constr type="l" for="ch" forName="ChildText" refType="w" fact="0"/>
              <dgm:constr type="t" for="ch" forName="ChildText" refType="h" fact="0.05"/>
              <dgm:constr type="w" for="ch" forName="ChildText" refType="w" fact="0.4134"/>
              <dgm:constr type="h" for="ch" forName="ChildText" refType="h" fact="0.4"/>
              <dgm:constr type="l" for="ch" forName="FinalChildText" refType="w" fact="0"/>
              <dgm:constr type="t" for="ch" forName="FinalChildText" refType="h" fact="0.05"/>
              <dgm:constr type="w" for="ch" forName="FinalChildText" refType="w" fact="0.4134"/>
              <dgm:constr type="h" for="ch" forName="FinalChildText" refType="h" fact="0.4"/>
            </dgm:constrLst>
          </dgm:else>
        </dgm:choose>
        <dgm:choose name="Name9">
          <dgm:if name="Name10" axis="followSib" ptType="node" func="cnt" op="gte" val="1">
            <dgm:layoutNode name="bentUpArrow1" styleLbl="alignImgPlace1">
              <dgm:alg type="sp"/>
              <dgm:choose name="Name11">
                <dgm:if name="Name12" func="var" arg="dir" op="equ" val="norm">
                  <dgm:shape xmlns:r="http://schemas.openxmlformats.org/officeDocument/2006/relationships" rot="90" type="bentUpArrow" r:blip="">
                    <dgm:adjLst>
                      <dgm:adj idx="1" val="0.3284"/>
                      <dgm:adj idx="2" val="0.25"/>
                      <dgm:adj idx="3" val="0.3578"/>
                    </dgm:adjLst>
                  </dgm:shape>
                </dgm:if>
                <dgm:else name="Name13">
                  <dgm:shape xmlns:r="http://schemas.openxmlformats.org/officeDocument/2006/relationships" rot="180" type="bentArrow" r:blip="">
                    <dgm:adjLst>
                      <dgm:adj idx="1" val="0.3284"/>
                      <dgm:adj idx="2" val="0.25"/>
                      <dgm:adj idx="3" val="0.3578"/>
                      <dgm:adj idx="4" val="0"/>
                    </dgm:adjLst>
                  </dgm:shape>
                </dgm:else>
              </dgm:choose>
              <dgm:presOf/>
            </dgm:layoutNode>
          </dgm:if>
          <dgm:else name="Name14"/>
        </dgm:choose>
        <dgm:layoutNode name="ParentText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66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choose name="Name15">
          <dgm:if name="Name16" axis="followSib" ptType="node" func="cnt" op="equ" val="0">
            <dgm:choose name="Name17">
              <dgm:if name="Name18" axis="ch" ptType="node" func="cnt" op="gte" val="1">
                <dgm:layoutNode name="FinalChildText" styleLbl="revTx">
                  <dgm:varLst>
                    <dgm:chMax val="0"/>
                    <dgm:chPref val="0"/>
                    <dgm:bulletEnabled val="1"/>
                  </dgm:varLst>
                  <dgm:alg type="tx">
                    <dgm:param type="stBulletLvl" val="1"/>
                    <dgm:param type="txAnchorVertCh" val="mid"/>
                    <dgm:param type="parTxLTRAlign" val="l"/>
                  </dgm:alg>
                  <dgm:shape xmlns:r="http://schemas.openxmlformats.org/officeDocument/2006/relationships" type="rect" r:blip="">
                    <dgm:adjLst/>
                  </dgm:shape>
                  <dgm:presOf axis="des" ptType="node"/>
                  <dgm:constrLst>
                    <dgm:constr type="lMarg" refType="primFontSz" fact="0.3"/>
                    <dgm:constr type="rMarg" refType="primFontSz" fact="0.3"/>
                    <dgm:constr type="tMarg" refType="primFontSz" fact="0.3"/>
                    <dgm:constr type="bMarg" refType="primFontSz" fact="0.3"/>
                  </dgm:constrLst>
                  <dgm:ruleLst>
                    <dgm:rule type="primFontSz" val="5" fact="NaN" max="NaN"/>
                  </dgm:ruleLst>
                </dgm:layoutNode>
              </dgm:if>
              <dgm:else name="Name19"/>
            </dgm:choose>
          </dgm:if>
          <dgm:else name="Name20">
            <dgm:layoutNode name="ChildText" styleLbl="revTx">
              <dgm:varLst>
                <dgm:chMax val="0"/>
                <dgm:chPref val="0"/>
                <dgm:bulletEnabled val="1"/>
              </dgm:varLst>
              <dgm:alg type="tx">
                <dgm:param type="stBulletLvl" val="1"/>
                <dgm:param type="txAnchorVertCh" val="mid"/>
                <dgm:param type="parTxLTRAlign" val="l"/>
              </dgm:alg>
              <dgm:shape xmlns:r="http://schemas.openxmlformats.org/officeDocument/2006/relationships" type="rect" r:blip="">
                <dgm:adjLst/>
              </dgm:shape>
              <dgm:presOf axis="des" ptType="node"/>
              <dgm:constrLst>
                <dgm:constr type="lMarg" refType="primFontSz" fact="0.3"/>
                <dgm:constr type="rMarg" refType="primFontSz" fact="0.3"/>
                <dgm:constr type="tMarg" refType="primFontSz" fact="0.3"/>
                <dgm:constr type="bMarg" refType="primFontSz" fact="0.3"/>
              </dgm:constrLst>
              <dgm:ruleLst>
                <dgm:rule type="primFontSz" val="5" fact="NaN" max="NaN"/>
              </dgm:ruleLst>
            </dgm:layoutNode>
          </dgm:else>
        </dgm:choose>
      </dgm:layoutNode>
      <dgm:forEach name="sibTransForEach" axis="followSib" ptType="sibTrans" cnt="1">
        <dgm:layoutNode name="sibTrans">
          <dgm:alg type="sp"/>
          <dgm:shape xmlns:r="http://schemas.openxmlformats.org/officeDocument/2006/relationships" r:blip="">
            <dgm:adjLst/>
          </dgm:shape>
        </dgm:layoutNode>
      </dgm:forEach>
    </dgm:forEach>
  </dgm:layoutNode>
</dgm:layoutDef>
</file>

<file path=ppt/diagrams/layout8.xml><?xml version="1.0" encoding="utf-8"?>
<dgm:layoutDef xmlns:dgm="http://schemas.openxmlformats.org/drawingml/2006/diagram" xmlns:a="http://schemas.openxmlformats.org/drawingml/2006/main" uniqueId="urn:microsoft.com/office/officeart/2005/8/layout/equation1">
  <dgm:title val=""/>
  <dgm:desc val=""/>
  <dgm:catLst>
    <dgm:cat type="relationship" pri="17000"/>
    <dgm:cat type="process" pri="25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choose name="Name0">
      <dgm:if name="Name1" func="var" arg="dir" op="equ" val="norm">
        <dgm:alg type="lin">
          <dgm:param type="fallback" val="2D"/>
        </dgm:alg>
      </dgm:if>
      <dgm:else name="Name2">
        <dgm:alg type="lin">
          <dgm:param type="linDir" val="fromR"/>
          <dgm:param type="fallback" val="2D"/>
        </dgm:alg>
      </dgm:else>
    </dgm:choose>
    <dgm:shape xmlns:r="http://schemas.openxmlformats.org/officeDocument/2006/relationships" r:blip="">
      <dgm:adjLst/>
    </dgm:shape>
    <dgm:presOf/>
    <dgm:constrLst>
      <dgm:constr type="w" for="ch" ptType="node" refType="w"/>
      <dgm:constr type="w" for="ch" ptType="sibTrans" refType="w" refFor="ch" refPtType="node" fact="0.58"/>
      <dgm:constr type="primFontSz" for="ch" ptType="node" op="equ" val="65"/>
      <dgm:constr type="primFontSz" for="ch" ptType="sibTrans" op="equ" val="55"/>
      <dgm:constr type="primFontSz" for="ch" ptType="sibTrans" refType="primFontSz" refFor="ch" refPtType="node" op="lte" fact="0.8"/>
      <dgm:constr type="w" for="ch" forName="spacerL" refType="w" refFor="ch" refPtType="sibTrans" fact="0.14"/>
      <dgm:constr type="w" for="ch" forName="spacerR" refType="w" refFor="ch" refPtType="sibTrans" fact="0.14"/>
    </dgm:constrLst>
    <dgm:ruleLst/>
    <dgm:forEach name="nodesForEach" axis="ch" ptType="node">
      <dgm:layoutNode name="node">
        <dgm:varLst>
          <dgm:bulletEnabled val="1"/>
        </dgm:varLst>
        <dgm:alg type="tx">
          <dgm:param type="txAnchorVertCh" val="mid"/>
        </dgm:alg>
        <dgm:shape xmlns:r="http://schemas.openxmlformats.org/officeDocument/2006/relationships" type="ellipse" r:blip="">
          <dgm:adjLst/>
        </dgm:shape>
        <dgm:presOf axis="desOrSelf" ptType="node"/>
        <dgm:constrLst>
          <dgm:constr type="h" refType="w"/>
          <dgm:constr type="tMarg" refType="primFontSz" fact="0.1"/>
          <dgm:constr type="bMarg" refType="primFontSz" fact="0.1"/>
          <dgm:constr type="lMarg" refType="primFontSz" fact="0.1"/>
          <dgm:constr type="rMarg" refType="primFontSz" fact="0.1"/>
        </dgm:constrLst>
        <dgm:ruleLst>
          <dgm:rule type="primFontSz" val="5" fact="NaN" max="NaN"/>
        </dgm:ruleLst>
      </dgm:layoutNode>
      <dgm:forEach name="sibTransForEach" axis="followSib" ptType="sibTrans" cnt="1">
        <dgm:layoutNode name="spacerL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sibTrans">
          <dgm:alg type="tx"/>
          <dgm:choose name="Name3">
            <dgm:if name="Name4" axis="followSib" ptType="sibTrans" func="cnt" op="equ" val="0">
              <dgm:shape xmlns:r="http://schemas.openxmlformats.org/officeDocument/2006/relationships" type="mathEqual" r:blip="">
                <dgm:adjLst/>
              </dgm:shape>
            </dgm:if>
            <dgm:else name="Name5">
              <dgm:shape xmlns:r="http://schemas.openxmlformats.org/officeDocument/2006/relationships" type="mathPlus" r:blip="">
                <dgm:adjLst/>
              </dgm:shape>
            </dgm:else>
          </dgm:choose>
          <dgm:presOf axis="self"/>
          <dgm:constrLst>
            <dgm:constr type="h" refType="w"/>
            <dgm:constr type="lMarg"/>
            <dgm:constr type="rMarg"/>
            <dgm:constr type="tMarg"/>
            <dgm:constr type="bMarg"/>
          </dgm:constrLst>
          <dgm:ruleLst>
            <dgm:rule type="primFontSz" val="5" fact="NaN" max="NaN"/>
          </dgm:ruleLst>
        </dgm:layoutNode>
        <dgm:layoutNode name="spacerR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9.xml><?xml version="1.0" encoding="utf-8"?>
<dgm:layoutDef xmlns:dgm="http://schemas.openxmlformats.org/drawingml/2006/diagram" xmlns:a="http://schemas.openxmlformats.org/drawingml/2006/main" uniqueId="urn:microsoft.com/office/officeart/2008/layout/AlternatingHexagons">
  <dgm:title val=""/>
  <dgm:desc val=""/>
  <dgm:catLst>
    <dgm:cat type="list" pri="1500"/>
  </dgm:catLst>
  <dgm:sampData>
    <dgm:dataModel>
      <dgm:ptLst>
        <dgm:pt modelId="0" type="doc"/>
        <dgm:pt modelId="10">
          <dgm:prSet phldr="1"/>
        </dgm:pt>
        <dgm:pt modelId="11">
          <dgm:prSet phldr="1"/>
        </dgm:pt>
        <dgm:pt modelId="20">
          <dgm:prSet phldr="1"/>
        </dgm:pt>
        <dgm:pt modelId="21">
          <dgm:prSet phldr="1"/>
        </dgm:pt>
        <dgm:pt modelId="30">
          <dgm:prSet phldr="1"/>
        </dgm:pt>
        <dgm:pt modelId="31">
          <dgm:prSet phldr="1"/>
        </dgm:pt>
      </dgm:ptLst>
      <dgm:cxnLst>
        <dgm:cxn modelId="40" srcId="0" destId="10" srcOrd="0" destOrd="0"/>
        <dgm:cxn modelId="12" srcId="10" destId="11" srcOrd="0" destOrd="0"/>
        <dgm:cxn modelId="50" srcId="0" destId="20" srcOrd="1" destOrd="0"/>
        <dgm:cxn modelId="22" srcId="20" destId="21" srcOrd="0" destOrd="0"/>
        <dgm:cxn modelId="60" srcId="0" destId="30" srcOrd="1" destOrd="0"/>
        <dgm:cxn modelId="32" srcId="30" destId="31" srcOrd="0" destOrd="0"/>
      </dgm:cxnLst>
      <dgm:bg/>
      <dgm:whole/>
    </dgm:dataModel>
  </dgm:sampData>
  <dgm:styleData>
    <dgm:dataModel>
      <dgm:ptLst>
        <dgm:pt modelId="0" type="doc"/>
        <dgm:pt modelId="10">
          <dgm:prSet phldr="1"/>
        </dgm:pt>
        <dgm:pt modelId="20">
          <dgm:prSet phldr="1"/>
        </dgm:pt>
      </dgm:ptLst>
      <dgm:cxnLst>
        <dgm:cxn modelId="60" srcId="0" destId="10" srcOrd="0" destOrd="0"/>
        <dgm:cxn modelId="70" srcId="0" destId="20" srcOrd="1" destOrd="0"/>
      </dgm:cxnLst>
      <dgm:bg/>
      <dgm:whole/>
    </dgm:dataModel>
  </dgm:styleData>
  <dgm:clrData>
    <dgm:dataModel>
      <dgm:ptLst>
        <dgm:pt modelId="0" type="doc"/>
        <dgm:pt modelId="10">
          <dgm:prSet phldr="1"/>
        </dgm:pt>
        <dgm:pt modelId="20">
          <dgm:prSet phldr="1"/>
        </dgm:pt>
        <dgm:pt modelId="30">
          <dgm:prSet phldr="1"/>
        </dgm:pt>
        <dgm:pt modelId="40">
          <dgm:prSet phldr="1"/>
        </dgm:pt>
      </dgm:ptLst>
      <dgm:cxnLst>
        <dgm:cxn modelId="60" srcId="0" destId="10" srcOrd="0" destOrd="0"/>
        <dgm:cxn modelId="70" srcId="0" destId="20" srcOrd="1" destOrd="0"/>
        <dgm:cxn modelId="80" srcId="0" destId="30" srcOrd="2" destOrd="0"/>
        <dgm:cxn modelId="90" srcId="0" destId="40" srcOrd="3" destOrd="0"/>
      </dgm:cxnLst>
      <dgm:bg/>
      <dgm:whole/>
    </dgm:dataModel>
  </dgm:clrData>
  <dgm:layoutNode name="Name0">
    <dgm:varLst>
      <dgm:chMax/>
      <dgm:chPref/>
      <dgm:dir/>
      <dgm:animLvl val="lvl"/>
    </dgm:varLst>
    <dgm:alg type="lin">
      <dgm:param type="linDir" val="fromT"/>
    </dgm:alg>
    <dgm:shape xmlns:r="http://schemas.openxmlformats.org/officeDocument/2006/relationships" r:blip="">
      <dgm:adjLst/>
    </dgm:shape>
    <dgm:constrLst>
      <dgm:constr type="primFontSz" for="des" forName="Parent1" val="65"/>
      <dgm:constr type="primFontSz" for="des" forName="Childtext1" refType="primFontSz" refFor="des" refForName="Parent1" op="lte"/>
      <dgm:constr type="w" for="ch" forName="composite" refType="w"/>
      <dgm:constr type="h" for="ch" forName="composite" refType="h"/>
      <dgm:constr type="h" for="ch" forName="spaceBetweenRectangles" refType="w" refFor="ch" refForName="composite" fact="-0.042"/>
      <dgm:constr type="sp" refType="h" refFor="ch" refForName="composite" op="equ" fact="0.1"/>
    </dgm:constrLst>
    <dgm:forEach name="nodesForEach" axis="ch" ptType="node">
      <dgm:layoutNode name="composite">
        <dgm:alg type="composite">
          <dgm:param type="ar" val="3.6"/>
        </dgm:alg>
        <dgm:shape xmlns:r="http://schemas.openxmlformats.org/officeDocument/2006/relationships" r:blip="">
          <dgm:adjLst/>
        </dgm:shape>
        <dgm:choose name="Name1">
          <dgm:if name="Name2" func="var" arg="dir" op="equ" val="norm">
            <dgm:choose name="Name3">
              <dgm:if name="Name4" axis="self" ptType="node" func="posOdd" op="equ" val="1">
                <dgm:constrLst>
                  <dgm:constr type="l" for="ch" forName="Accent1" refType="w" fact="0.18"/>
                  <dgm:constr type="t" for="ch" forName="Accent1" refType="h" fact="0"/>
                  <dgm:constr type="h" for="ch" forName="Accent1" refType="h"/>
                  <dgm:constr type="w" for="ch" forName="Accent1" refType="h" fact="0.87"/>
                  <dgm:constr type="l" for="ch" forName="Accent1Text" refType="w" fact="0.18"/>
                  <dgm:constr type="t" for="ch" forName="Accent1Text" refType="h" fact="0"/>
                  <dgm:constr type="h" for="ch" forName="Accent1Text" refType="h"/>
                  <dgm:constr type="w" for="ch" forName="Accent1Text" refType="h" fact="0.87"/>
                  <dgm:constr type="l" for="ch" forName="Parent1" refType="w" fact="0.441"/>
                  <dgm:constr type="t" for="ch" forName="Parent1" refType="h" fact="0"/>
                  <dgm:constr type="h" for="ch" forName="Parent1" refType="h"/>
                  <dgm:constr type="w" for="ch" forName="Parent1" refType="h" fact="0.87"/>
                  <dgm:constr type="l" for="ch" forName="Childtext1" refType="w" fact="0.69"/>
                  <dgm:constr type="t" for="ch" forName="Childtext1" refType="h" fact="0.2"/>
                  <dgm:constr type="w" for="ch" forName="Childtext1" refType="w" fact="0.31"/>
                  <dgm:constr type="h" for="ch" forName="Childtext1" refType="h" fact="0.6"/>
                  <dgm:constr type="l" for="ch" forName="BalanceSpacing" refType="w" fact="0"/>
                  <dgm:constr type="t" for="ch" forName="BalanceSpacing" refType="h" fact="0"/>
                  <dgm:constr type="w" for="ch" forName="BalanceSpacing" refType="w"/>
                  <dgm:constr type="h" for="ch" forName="BalanceSpacing" refType="h" fact="0.1"/>
                  <dgm:constr type="l" for="ch" forName="BalanceSpacing1" refType="w" fact="0.69"/>
                  <dgm:constr type="t" for="ch" forName="BalanceSpacing1" refType="h" fact="0.2"/>
                  <dgm:constr type="w" for="ch" forName="BalanceSpacing1" refType="w" fact="0.31"/>
                  <dgm:constr type="h" for="ch" forName="BalanceSpacing1" refType="h" fact="0.6"/>
                </dgm:constrLst>
              </dgm:if>
              <dgm:else name="Name5">
                <dgm:constrLst>
                  <dgm:constr type="l" for="ch" forName="Accent1" refType="w" fact="0.571"/>
                  <dgm:constr type="t" for="ch" forName="Accent1" refType="h" fact="0"/>
                  <dgm:constr type="h" for="ch" forName="Accent1" refType="h"/>
                  <dgm:constr type="w" for="ch" forName="Accent1" refType="h" fact="0.87"/>
                  <dgm:constr type="l" for="ch" forName="Accent1Text" refType="w" fact="0.571"/>
                  <dgm:constr type="t" for="ch" forName="Accent1Text" refType="h" fact="0"/>
                  <dgm:constr type="h" for="ch" forName="Accent1Text" refType="h"/>
                  <dgm:constr type="w" for="ch" forName="Accent1Text" refType="h" fact="0.87"/>
                  <dgm:constr type="l" for="ch" forName="Parent1" refType="w" fact="0.31"/>
                  <dgm:constr type="t" for="ch" forName="Parent1" refType="h" fact="0"/>
                  <dgm:constr type="h" for="ch" forName="Parent1" refType="h"/>
                  <dgm:constr type="w" for="ch" forName="Parent1" refType="h" fact="0.87"/>
                  <dgm:constr type="l" for="ch" forName="Childtext1" refType="w" fact="0"/>
                  <dgm:constr type="t" for="ch" forName="Childtext1" refType="h" fact="0.2"/>
                  <dgm:constr type="w" for="ch" forName="Childtext1" refType="w" fact="0.3"/>
                  <dgm:constr type="h" for="ch" forName="Childtext1" refType="h" fact="0.6"/>
                  <dgm:constr type="l" for="ch" forName="BalanceSpacing" refType="w" fact="0.82"/>
                  <dgm:constr type="t" for="ch" forName="BalanceSpacing" refType="h" fact="0"/>
                  <dgm:constr type="w" for="ch" forName="BalanceSpacing" refType="w" fact="0.18"/>
                  <dgm:constr type="h" for="ch" forName="BalanceSpacing" refType="h"/>
                  <dgm:constr type="l" for="ch" forName="BalanceSpacing1" refType="w" fact="0"/>
                  <dgm:constr type="t" for="ch" forName="BalanceSpacing1" refType="h" fact="0.2"/>
                  <dgm:constr type="w" for="ch" forName="BalanceSpacing1" refType="w" fact="0.3"/>
                  <dgm:constr type="h" for="ch" forName="BalanceSpacing1" refType="h" fact="0.6"/>
                </dgm:constrLst>
              </dgm:else>
            </dgm:choose>
          </dgm:if>
          <dgm:else name="Name6">
            <dgm:choose name="Name7">
              <dgm:if name="Name8" axis="self" ptType="node" func="posOdd" op="equ" val="1">
                <dgm:constrLst>
                  <dgm:constr type="l" for="ch" forName="Accent1" refType="w" fact="0.571"/>
                  <dgm:constr type="t" for="ch" forName="Accent1" refType="h" fact="0"/>
                  <dgm:constr type="h" for="ch" forName="Accent1" refType="h"/>
                  <dgm:constr type="w" for="ch" forName="Accent1" refType="h" fact="0.87"/>
                  <dgm:constr type="l" for="ch" forName="Accent1Text" refType="w" fact="0.571"/>
                  <dgm:constr type="t" for="ch" forName="Accent1Text" refType="h" fact="0"/>
                  <dgm:constr type="h" for="ch" forName="Accent1Text" refType="h"/>
                  <dgm:constr type="w" for="ch" forName="Accent1Text" refType="h" fact="0.87"/>
                  <dgm:constr type="l" for="ch" forName="Parent1" refType="w" fact="0.31"/>
                  <dgm:constr type="t" for="ch" forName="Parent1" refType="h" fact="0"/>
                  <dgm:constr type="h" for="ch" forName="Parent1" refType="h"/>
                  <dgm:constr type="w" for="ch" forName="Parent1" refType="h" fact="0.87"/>
                  <dgm:constr type="l" for="ch" forName="Childtext1" refType="w" fact="0"/>
                  <dgm:constr type="t" for="ch" forName="Childtext1" refType="h" fact="0.2"/>
                  <dgm:constr type="w" for="ch" forName="Childtext1" refType="w" fact="0.3"/>
                  <dgm:constr type="h" for="ch" forName="Childtext1" refType="h" fact="0.6"/>
                  <dgm:constr type="l" for="ch" forName="BalanceSpacing" refType="w" fact="0.82"/>
                  <dgm:constr type="t" for="ch" forName="BalanceSpacing" refType="h" fact="0"/>
                  <dgm:constr type="w" for="ch" forName="BalanceSpacing" refType="w" fact="0.18"/>
                  <dgm:constr type="h" for="ch" forName="BalanceSpacing" refType="h"/>
                </dgm:constrLst>
              </dgm:if>
              <dgm:else name="Name9">
                <dgm:constrLst>
                  <dgm:constr type="l" for="ch" forName="Accent1" refType="w" fact="0.18"/>
                  <dgm:constr type="t" for="ch" forName="Accent1" refType="h" fact="0"/>
                  <dgm:constr type="h" for="ch" forName="Accent1" refType="h"/>
                  <dgm:constr type="w" for="ch" forName="Accent1" refType="h" fact="0.87"/>
                  <dgm:constr type="l" for="ch" forName="Accent1Text" refType="w" fact="0.18"/>
                  <dgm:constr type="t" for="ch" forName="Accent1Text" refType="h" fact="0"/>
                  <dgm:constr type="h" for="ch" forName="Accent1Text" refType="h"/>
                  <dgm:constr type="w" for="ch" forName="Accent1Text" refType="h" fact="0.87"/>
                  <dgm:constr type="l" for="ch" forName="Parent1" refType="w" fact="0.441"/>
                  <dgm:constr type="t" for="ch" forName="Parent1" refType="h" fact="0"/>
                  <dgm:constr type="h" for="ch" forName="Parent1" refType="h"/>
                  <dgm:constr type="w" for="ch" forName="Parent1" refType="h" fact="0.87"/>
                  <dgm:constr type="l" for="ch" forName="Childtext1" refType="w" fact="0.69"/>
                  <dgm:constr type="t" for="ch" forName="Childtext1" refType="h" fact="0.2"/>
                  <dgm:constr type="w" for="ch" forName="Childtext1" refType="w" fact="0.31"/>
                  <dgm:constr type="h" for="ch" forName="Childtext1" refType="h" fact="0.6"/>
                  <dgm:constr type="l" for="ch" forName="BalanceSpacing" refType="w" fact="0"/>
                  <dgm:constr type="t" for="ch" forName="BalanceSpacing" refType="h" fact="0"/>
                  <dgm:constr type="w" for="ch" forName="BalanceSpacing" refType="w" fact="0.18"/>
                  <dgm:constr type="h" for="ch" forName="BalanceSpacing" refType="h"/>
                </dgm:constrLst>
              </dgm:else>
            </dgm:choose>
          </dgm:else>
        </dgm:choose>
        <dgm:layoutNode name="Parent1" styleLbl="node1">
          <dgm:varLst>
            <dgm:chMax val="1"/>
            <dgm:chPref val="1"/>
            <dgm:bulletEnabled val="1"/>
          </dgm:varLst>
          <dgm:alg type="tx"/>
          <dgm:shape xmlns:r="http://schemas.openxmlformats.org/officeDocument/2006/relationships" rot="90" type="hexagon" r:blip="">
            <dgm:adjLst>
              <dgm:adj idx="1" val="0.25"/>
              <dgm:adj idx="2" val="1.1547"/>
            </dgm:adjLst>
          </dgm:shape>
          <dgm:presOf axis="self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layoutNode name="Childtext1" styleLbl="revTx">
          <dgm:varLst>
            <dgm:chMax val="0"/>
            <dgm:chPref val="0"/>
            <dgm:bulletEnabled val="1"/>
          </dgm:varLst>
          <dgm:choose name="Name10">
            <dgm:if name="Name11" func="var" arg="dir" op="equ" val="norm">
              <dgm:choose name="Name12">
                <dgm:if name="Name13" axis="self" ptType="node" func="posOdd" op="equ" val="1">
                  <dgm:alg type="tx">
                    <dgm:param type="parTxLTRAlign" val="l"/>
                  </dgm:alg>
                </dgm:if>
                <dgm:else name="Name14">
                  <dgm:alg type="tx">
                    <dgm:param type="parTxLTRAlign" val="r"/>
                  </dgm:alg>
                </dgm:else>
              </dgm:choose>
            </dgm:if>
            <dgm:else name="Name15">
              <dgm:choose name="Name16">
                <dgm:if name="Name17" axis="self" ptType="node" func="posOdd" op="equ" val="1">
                  <dgm:alg type="tx">
                    <dgm:param type="parTxLTRAlign" val="r"/>
                  </dgm:alg>
                </dgm:if>
                <dgm:else name="Name18">
                  <dgm:alg type="tx">
                    <dgm:param type="parTxLTRAlign" val="l"/>
                  </dgm:alg>
                </dgm:else>
              </dgm:choose>
            </dgm:else>
          </dgm:choose>
          <dgm:shape xmlns:r="http://schemas.openxmlformats.org/officeDocument/2006/relationships" type="rect" r:blip="">
            <dgm:adjLst/>
          </dgm:shape>
          <dgm:presOf axis="des" ptType="node"/>
          <dgm:constrLst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layoutNode name="BalanceSpacing">
          <dgm:alg type="sp"/>
          <dgm:shape xmlns:r="http://schemas.openxmlformats.org/officeDocument/2006/relationships" r:blip="">
            <dgm:adjLst/>
          </dgm:shape>
        </dgm:layoutNode>
        <dgm:layoutNode name="BalanceSpacing1">
          <dgm:alg type="sp"/>
          <dgm:shape xmlns:r="http://schemas.openxmlformats.org/officeDocument/2006/relationships" r:blip="">
            <dgm:adjLst/>
          </dgm:shape>
        </dgm:layoutNode>
        <dgm:forEach name="Name19" axis="followSib" ptType="sibTrans" hideLastTrans="0" cnt="1">
          <dgm:layoutNode name="Accent1Text" styleLbl="node1">
            <dgm:alg type="tx"/>
            <dgm:shape xmlns:r="http://schemas.openxmlformats.org/officeDocument/2006/relationships" rot="90" type="hexagon" r:blip="">
              <dgm:adjLst>
                <dgm:adj idx="1" val="0.25"/>
                <dgm:adj idx="2" val="1.1547"/>
              </dgm:adjLst>
            </dgm:shape>
            <dgm:presOf axis="self" ptType="sibTrans"/>
            <dgm:constrLst>
              <dgm:constr type="lMarg"/>
              <dgm:constr type="rMarg"/>
              <dgm:constr type="tMarg"/>
              <dgm:constr type="bMarg"/>
            </dgm:constrLst>
            <dgm:ruleLst>
              <dgm:rule type="primFontSz" val="5" fact="NaN" max="NaN"/>
            </dgm:ruleLst>
          </dgm:layoutNode>
        </dgm:forEach>
      </dgm:layoutNode>
      <dgm:forEach name="Name20" axis="followSib" ptType="sibTrans" cnt="1">
        <dgm:layoutNode name="spaceBetweenRectangles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4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5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6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7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8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9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4D4345-4859-4F65-8030-6D6C3D497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5EE2AE-5795-4BF6-917E-90AC07F80EF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018379-416D-4976-A4C3-EAE8AA55D2F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205DEB-5FCA-4E4F-8E0C-B6A4C267F2B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5F0990-5D0D-4AEA-9B28-128F190FF8B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ACB88-956A-42AC-BA8F-3C190EE6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EE280-AC50-4B14-BC4F-13208C69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D966D-9B8F-4AEB-B863-DA7691FC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1F284-76A6-4C7C-8E25-012989E5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9649C-4762-4DBE-95A8-4C22BC76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91000" y="1535040"/>
            <a:ext cx="480816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82D51-FA2A-4DAB-820A-5BF1B9C7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18029-6624-454C-867D-A49B2E30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457FE-423F-4EBA-B6C5-A57B5EC6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04004-C96E-40DF-81F1-895AAA88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FBB3D-D2AA-4E2B-B894-E2EC31E4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92759-61A7-4213-97A9-AAC673DF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56841-0E2A-41AF-85FE-96BB90280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591000" y="1535040"/>
            <a:ext cx="4808160" cy="511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"/>
          <p:cNvPicPr/>
          <p:nvPr/>
        </p:nvPicPr>
        <p:blipFill>
          <a:blip r:embed="rId2"/>
          <a:srcRect l="0" t="0" r="0" b="61696"/>
          <a:stretch/>
        </p:blipFill>
        <p:spPr>
          <a:xfrm>
            <a:off x="0" y="0"/>
            <a:ext cx="9143640" cy="9914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green-only-plane.eps"/>
          <p:cNvPicPr/>
          <p:nvPr/>
        </p:nvPicPr>
        <p:blipFill>
          <a:blip r:embed="rId3"/>
          <a:stretch/>
        </p:blipFill>
        <p:spPr>
          <a:xfrm>
            <a:off x="8484480" y="233280"/>
            <a:ext cx="475560" cy="285480"/>
          </a:xfrm>
          <a:prstGeom prst="rect">
            <a:avLst/>
          </a:prstGeom>
          <a:ln w="0">
            <a:noFill/>
          </a:ln>
        </p:spPr>
      </p:pic>
      <p:sp>
        <p:nvSpPr>
          <p:cNvPr id="2" name="Прямоугольник 11"/>
          <p:cNvSpPr/>
          <p:nvPr/>
        </p:nvSpPr>
        <p:spPr>
          <a:xfrm>
            <a:off x="0" y="0"/>
            <a:ext cx="9143640" cy="51433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4"/>
          <a:srcRect l="0" t="0" r="0" b="61696"/>
          <a:stretch/>
        </p:blipFill>
        <p:spPr>
          <a:xfrm>
            <a:off x="0" y="0"/>
            <a:ext cx="3353400" cy="51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591000" y="1535040"/>
            <a:ext cx="480816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ffffff"/>
                </a:solidFill>
                <a:latin typeface="PT Sans"/>
              </a:rPr>
              <a:t>Образец заголов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5" descr=""/>
          <p:cNvPicPr/>
          <p:nvPr/>
        </p:nvPicPr>
        <p:blipFill>
          <a:blip r:embed="rId5"/>
          <a:stretch/>
        </p:blipFill>
        <p:spPr>
          <a:xfrm>
            <a:off x="508320" y="1581120"/>
            <a:ext cx="2062440" cy="505080"/>
          </a:xfrm>
          <a:prstGeom prst="rect">
            <a:avLst/>
          </a:prstGeom>
          <a:ln w="0">
            <a:noFill/>
          </a:ln>
        </p:spPr>
      </p:pic>
      <p:sp>
        <p:nvSpPr>
          <p:cNvPr id="8" name="TextBox 8"/>
          <p:cNvSpPr/>
          <p:nvPr/>
        </p:nvSpPr>
        <p:spPr>
          <a:xfrm>
            <a:off x="417240" y="2136960"/>
            <a:ext cx="24094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ffffff"/>
                </a:solidFill>
                <a:latin typeface="PT Sans"/>
                <a:ea typeface="PT Sans"/>
              </a:rPr>
              <a:t>Маркетинговое агент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" name="Прямая соединительная линия 9"/>
          <p:cNvCxnSpPr/>
          <p:nvPr/>
        </p:nvCxnSpPr>
        <p:spPr>
          <a:xfrm>
            <a:off x="3674160" y="2774160"/>
            <a:ext cx="1987920" cy="36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404040"/>
                </a:solidFill>
                <a:latin typeface="PT Sans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2"/>
          <a:srcRect l="0" t="0" r="0" b="61696"/>
          <a:stretch/>
        </p:blipFill>
        <p:spPr>
          <a:xfrm>
            <a:off x="0" y="0"/>
            <a:ext cx="9143640" cy="99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green-only-plane.eps"/>
          <p:cNvPicPr/>
          <p:nvPr/>
        </p:nvPicPr>
        <p:blipFill>
          <a:blip r:embed="rId3"/>
          <a:stretch/>
        </p:blipFill>
        <p:spPr>
          <a:xfrm>
            <a:off x="8484480" y="233280"/>
            <a:ext cx="475560" cy="285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Образец заголов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PT Sans"/>
              </a:rPr>
              <a:t>Click to edit Master text styles</a:t>
            </a:r>
            <a:endParaRPr b="0" lang="en-US" sz="2400" spc="-1" strike="noStrike">
              <a:solidFill>
                <a:srgbClr val="404040"/>
              </a:solidFill>
              <a:latin typeface="PT Sans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54b64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PT Sans"/>
              </a:rPr>
              <a:t>Third level</a:t>
            </a:r>
            <a:endParaRPr b="0" lang="en-US" sz="20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5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C2EB72-7CAA-4734-9C51-4E3E2FBE0AD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diagramData" Target="../diagrams/data4.xml"/><Relationship Id="rId2" Type="http://schemas.openxmlformats.org/officeDocument/2006/relationships/diagramLayout" Target="../diagrams/layout4.xml"/><Relationship Id="rId3" Type="http://schemas.openxmlformats.org/officeDocument/2006/relationships/diagramQuickStyle" Target="../diagrams/quickStyle4.xml"/><Relationship Id="rId4" Type="http://schemas.openxmlformats.org/officeDocument/2006/relationships/diagramColors" Target="../diagrams/colors4.xml"/><Relationship Id="rId5" Type="http://schemas.openxmlformats.org/officeDocument/2006/relationships/diagramData" Target="../diagrams/data5.xml"/><Relationship Id="rId6" Type="http://schemas.openxmlformats.org/officeDocument/2006/relationships/diagramLayout" Target="../diagrams/layout5.xml"/><Relationship Id="rId7" Type="http://schemas.openxmlformats.org/officeDocument/2006/relationships/diagramQuickStyle" Target="../diagrams/quickStyle5.xml"/><Relationship Id="rId8" Type="http://schemas.openxmlformats.org/officeDocument/2006/relationships/diagramColors" Target="../diagrams/colors5.xml"/><Relationship Id="rId9" Type="http://schemas.openxmlformats.org/officeDocument/2006/relationships/diagramData" Target="../diagrams/data6.xml"/><Relationship Id="rId10" Type="http://schemas.openxmlformats.org/officeDocument/2006/relationships/diagramLayout" Target="../diagrams/layout6.xml"/><Relationship Id="rId11" Type="http://schemas.openxmlformats.org/officeDocument/2006/relationships/diagramQuickStyle" Target="../diagrams/quickStyle6.xml"/><Relationship Id="rId12" Type="http://schemas.openxmlformats.org/officeDocument/2006/relationships/diagramColors" Target="../diagrams/colors6.xml"/><Relationship Id="rId13" Type="http://schemas.openxmlformats.org/officeDocument/2006/relationships/diagramData" Target="../diagrams/data7.xml"/><Relationship Id="rId14" Type="http://schemas.openxmlformats.org/officeDocument/2006/relationships/diagramLayout" Target="../diagrams/layout7.xml"/><Relationship Id="rId15" Type="http://schemas.openxmlformats.org/officeDocument/2006/relationships/diagramQuickStyle" Target="../diagrams/quickStyle7.xml"/><Relationship Id="rId16" Type="http://schemas.openxmlformats.org/officeDocument/2006/relationships/diagramColors" Target="../diagrams/colors7.xml"/><Relationship Id="rId1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8.xml"/><Relationship Id="rId2" Type="http://schemas.openxmlformats.org/officeDocument/2006/relationships/diagramLayout" Target="../diagrams/layout8.xml"/><Relationship Id="rId3" Type="http://schemas.openxmlformats.org/officeDocument/2006/relationships/diagramQuickStyle" Target="../diagrams/quickStyle8.xml"/><Relationship Id="rId4" Type="http://schemas.openxmlformats.org/officeDocument/2006/relationships/diagramColors" Target="../diagrams/colors8.xm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diagramData" Target="../diagrams/data9.xml"/><Relationship Id="rId2" Type="http://schemas.openxmlformats.org/officeDocument/2006/relationships/diagramLayout" Target="../diagrams/layout9.xml"/><Relationship Id="rId3" Type="http://schemas.openxmlformats.org/officeDocument/2006/relationships/diagramQuickStyle" Target="../diagrams/quickStyle9.xml"/><Relationship Id="rId4" Type="http://schemas.openxmlformats.org/officeDocument/2006/relationships/diagramColors" Target="../diagrams/colors9.xml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азвание 1"/>
          <p:cNvSpPr/>
          <p:nvPr/>
        </p:nvSpPr>
        <p:spPr>
          <a:xfrm>
            <a:off x="3538440" y="1484280"/>
            <a:ext cx="534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0" lang="ru-RU" sz="3600" spc="-1" strike="noStrike" cap="all">
                <a:solidFill>
                  <a:srgbClr val="404040"/>
                </a:solidFill>
                <a:latin typeface="PT Sans"/>
              </a:rPr>
              <a:t>Тонкости производства контен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6877080" y="4086360"/>
            <a:ext cx="2037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404040"/>
                </a:solidFill>
                <a:latin typeface="PT Sans"/>
              </a:rPr>
              <a:t>SEO </a:t>
            </a:r>
            <a:r>
              <a:rPr b="0" lang="ru-RU" sz="1800" spc="-1" strike="noStrike">
                <a:solidFill>
                  <a:srgbClr val="404040"/>
                </a:solidFill>
                <a:latin typeface="PT Sans"/>
              </a:rPr>
              <a:t>специа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404040"/>
                </a:solidFill>
                <a:latin typeface="PT Sans"/>
              </a:rPr>
              <a:t>Михаил Шко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Корректная структура заголов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5" name="Прямая соединительная линия 5"/>
          <p:cNvCxnSpPr/>
          <p:nvPr/>
        </p:nvCxnSpPr>
        <p:spPr>
          <a:xfrm>
            <a:off x="4321440" y="1430280"/>
            <a:ext cx="12600" cy="329256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graphicFrame>
        <p:nvGraphicFramePr>
          <p:cNvPr id="4" name="Diagram4"/>
          <p:cNvGraphicFramePr/>
          <p:nvPr>
            <p:extLst>
              <p:ext uri="{D42A27DB-BD31-4B8C-83A1-F6EECF244321}">
                <p14:modId xmlns:p14="http://schemas.microsoft.com/office/powerpoint/2010/main" val="2763846713"/>
              </p:ext>
            </p:extLst>
          </p:nvPr>
        </p:nvGraphicFramePr>
        <p:xfrm>
          <a:off x="-208440" y="1212480"/>
          <a:ext cx="4529520" cy="159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aphicFrame>
        <p:nvGraphicFramePr>
          <p:cNvPr id="5" name="Diagram5"/>
          <p:cNvGraphicFramePr/>
          <p:nvPr>
            <p:extLst>
              <p:ext uri="{D42A27DB-BD31-4B8C-83A1-F6EECF244321}">
                <p14:modId xmlns:p14="http://schemas.microsoft.com/office/powerpoint/2010/main" val="335606687"/>
              </p:ext>
            </p:extLst>
          </p:nvPr>
        </p:nvGraphicFramePr>
        <p:xfrm>
          <a:off x="99000" y="3234240"/>
          <a:ext cx="5057640" cy="1582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5" r:lo="rId6" r:qs="rId7" r:cs="rId8"/>
          </a:graphicData>
        </a:graphic>
      </p:graphicFrame>
      <p:graphicFrame>
        <p:nvGraphicFramePr>
          <p:cNvPr id="6" name="Diagram6"/>
          <p:cNvGraphicFramePr/>
          <p:nvPr>
            <p:extLst>
              <p:ext uri="{D42A27DB-BD31-4B8C-83A1-F6EECF244321}">
                <p14:modId xmlns:p14="http://schemas.microsoft.com/office/powerpoint/2010/main" val="351638860"/>
              </p:ext>
            </p:extLst>
          </p:nvPr>
        </p:nvGraphicFramePr>
        <p:xfrm>
          <a:off x="4438800" y="1299600"/>
          <a:ext cx="4529520" cy="15901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9" r:lo="rId10" r:qs="rId11" r:cs="rId12"/>
          </a:graphicData>
        </a:graphic>
      </p:graphicFrame>
      <p:graphicFrame>
        <p:nvGraphicFramePr>
          <p:cNvPr id="7" name="Diagram7"/>
          <p:cNvGraphicFramePr/>
          <p:nvPr>
            <p:extLst>
              <p:ext uri="{D42A27DB-BD31-4B8C-83A1-F6EECF244321}">
                <p14:modId xmlns:p14="http://schemas.microsoft.com/office/powerpoint/2010/main" val="637045900"/>
              </p:ext>
            </p:extLst>
          </p:nvPr>
        </p:nvGraphicFramePr>
        <p:xfrm>
          <a:off x="4769640" y="3229200"/>
          <a:ext cx="5057640" cy="15822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3" r:lo="rId14" r:qs="rId15" r:cs="rId16"/>
          </a:graphicData>
        </a:graphic>
      </p:graphicFrame>
      <p:cxnSp>
        <p:nvCxnSpPr>
          <p:cNvPr id="136" name="Прямая соединительная линия 15"/>
          <p:cNvCxnSpPr/>
          <p:nvPr/>
        </p:nvCxnSpPr>
        <p:spPr>
          <a:xfrm>
            <a:off x="1730160" y="2286000"/>
            <a:ext cx="360" cy="943200"/>
          </a:xfrm>
          <a:prstGeom prst="straightConnector1">
            <a:avLst/>
          </a:prstGeom>
          <a:ln>
            <a:solidFill>
              <a:srgbClr val="9bbb59">
                <a:lumMod val="60000"/>
                <a:lumOff val="40000"/>
              </a:srgbClr>
            </a:solidFill>
            <a:round/>
          </a:ln>
        </p:spPr>
      </p:cxnSp>
      <p:cxnSp>
        <p:nvCxnSpPr>
          <p:cNvPr id="137" name="Прямая соединительная линия 16"/>
          <p:cNvCxnSpPr/>
          <p:nvPr/>
        </p:nvCxnSpPr>
        <p:spPr>
          <a:xfrm>
            <a:off x="5790960" y="2291040"/>
            <a:ext cx="360" cy="943560"/>
          </a:xfrm>
          <a:prstGeom prst="straightConnector1">
            <a:avLst/>
          </a:prstGeom>
          <a:ln>
            <a:solidFill>
              <a:srgbClr val="9bbb59">
                <a:lumMod val="60000"/>
                <a:lumOff val="40000"/>
              </a:srgbClr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Золотая форму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" name="Diagram8"/>
          <p:cNvGraphicFramePr/>
          <p:nvPr>
            <p:extLst>
              <p:ext uri="{D42A27DB-BD31-4B8C-83A1-F6EECF244321}">
                <p14:modId xmlns:p14="http://schemas.microsoft.com/office/powerpoint/2010/main" val="2291261815"/>
              </p:ext>
            </p:extLst>
          </p:nvPr>
        </p:nvGraphicFramePr>
        <p:xfrm>
          <a:off x="457200" y="1200240"/>
          <a:ext cx="8229240" cy="3393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ТЗ гот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Объект 3" descr=""/>
          <p:cNvPicPr/>
          <p:nvPr/>
        </p:nvPicPr>
        <p:blipFill>
          <a:blip r:embed="rId1"/>
          <a:stretch/>
        </p:blipFill>
        <p:spPr>
          <a:xfrm>
            <a:off x="1434600" y="954720"/>
            <a:ext cx="6274800" cy="41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Выбор исполните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" name="Diagram9"/>
          <p:cNvGraphicFramePr/>
          <p:nvPr>
            <p:extLst>
              <p:ext uri="{D42A27DB-BD31-4B8C-83A1-F6EECF244321}">
                <p14:modId xmlns:p14="http://schemas.microsoft.com/office/powerpoint/2010/main" val="4154832014"/>
              </p:ext>
            </p:extLst>
          </p:nvPr>
        </p:nvGraphicFramePr>
        <p:xfrm>
          <a:off x="108720" y="1062000"/>
          <a:ext cx="8926560" cy="4081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равда в негати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Объект 3" descr=""/>
          <p:cNvPicPr/>
          <p:nvPr/>
        </p:nvPicPr>
        <p:blipFill>
          <a:blip r:embed="rId1"/>
          <a:stretch/>
        </p:blipFill>
        <p:spPr>
          <a:xfrm>
            <a:off x="1829160" y="954720"/>
            <a:ext cx="54849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роверка конт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Объект 3" descr=""/>
          <p:cNvPicPr/>
          <p:nvPr/>
        </p:nvPicPr>
        <p:blipFill>
          <a:blip r:embed="rId1"/>
          <a:stretch/>
        </p:blipFill>
        <p:spPr>
          <a:xfrm>
            <a:off x="1101600" y="954720"/>
            <a:ext cx="694044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Требования к уникаль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70080" y="2428200"/>
            <a:ext cx="2863800" cy="5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80"/>
              </a:spcBef>
              <a:buNone/>
              <a:tabLst>
                <a:tab algn="l" pos="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T Sans"/>
              </a:rPr>
              <a:t>&lt;85% </a:t>
            </a:r>
            <a:endParaRPr b="0" lang="en-US" sz="5400" spc="-1" strike="noStrike">
              <a:solidFill>
                <a:srgbClr val="404040"/>
              </a:solidFill>
              <a:latin typeface="PT Sans"/>
            </a:endParaRPr>
          </a:p>
        </p:txBody>
      </p:sp>
      <p:sp>
        <p:nvSpPr>
          <p:cNvPr id="148" name="Стрелка вправо 3"/>
          <p:cNvSpPr/>
          <p:nvPr/>
        </p:nvSpPr>
        <p:spPr>
          <a:xfrm>
            <a:off x="3368520" y="2490840"/>
            <a:ext cx="2828880" cy="815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4b64e"/>
          </a:solidFill>
          <a:ln>
            <a:solidFill>
              <a:srgbClr val="54b64e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6206400" y="1920600"/>
            <a:ext cx="181944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Низкая информативность конте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Объект 4" descr=""/>
          <p:cNvPicPr/>
          <p:nvPr/>
        </p:nvPicPr>
        <p:blipFill>
          <a:blip r:embed="rId1"/>
          <a:stretch/>
        </p:blipFill>
        <p:spPr>
          <a:xfrm>
            <a:off x="1103760" y="954720"/>
            <a:ext cx="6936120" cy="41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Ключевые метр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Oval 1"/>
          <p:cNvSpPr/>
          <p:nvPr/>
        </p:nvSpPr>
        <p:spPr>
          <a:xfrm>
            <a:off x="607680" y="2088000"/>
            <a:ext cx="1119600" cy="112824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812880" y="2757600"/>
            <a:ext cx="45360" cy="976320"/>
          </a:xfrm>
          <a:prstGeom prst="rect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974520" y="3355560"/>
            <a:ext cx="22446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ВРЕМ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НА СТРАНИЦ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"/>
          <p:cNvSpPr/>
          <p:nvPr/>
        </p:nvSpPr>
        <p:spPr>
          <a:xfrm>
            <a:off x="3096000" y="2088000"/>
            <a:ext cx="1119600" cy="112824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301200" y="2757600"/>
            <a:ext cx="45360" cy="976320"/>
          </a:xfrm>
          <a:prstGeom prst="rect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TextBox 20"/>
          <p:cNvSpPr/>
          <p:nvPr/>
        </p:nvSpPr>
        <p:spPr>
          <a:xfrm>
            <a:off x="3438360" y="3355560"/>
            <a:ext cx="235908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ГЛУБИНА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ПРОСМО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"/>
          <p:cNvSpPr/>
          <p:nvPr/>
        </p:nvSpPr>
        <p:spPr>
          <a:xfrm>
            <a:off x="5584320" y="2093040"/>
            <a:ext cx="1119600" cy="112824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789160" y="2762640"/>
            <a:ext cx="45360" cy="976320"/>
          </a:xfrm>
          <a:prstGeom prst="rect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TextBox 31"/>
          <p:cNvSpPr/>
          <p:nvPr/>
        </p:nvSpPr>
        <p:spPr>
          <a:xfrm>
            <a:off x="5930640" y="3389040"/>
            <a:ext cx="3255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ПОКАЗАНИЯ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ТЕПЛОВОЙ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КАР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Тепловая кар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Объект 4" descr=""/>
          <p:cNvPicPr/>
          <p:nvPr/>
        </p:nvPicPr>
        <p:blipFill>
          <a:blip r:embed="rId1"/>
          <a:stretch/>
        </p:blipFill>
        <p:spPr>
          <a:xfrm>
            <a:off x="0" y="970920"/>
            <a:ext cx="9143640" cy="4172400"/>
          </a:xfrm>
          <a:prstGeom prst="rect">
            <a:avLst/>
          </a:prstGeom>
          <a:ln w="0">
            <a:noFill/>
          </a:ln>
        </p:spPr>
      </p:pic>
      <p:sp>
        <p:nvSpPr>
          <p:cNvPr id="164" name="Стрелка вправо 5"/>
          <p:cNvSpPr/>
          <p:nvPr/>
        </p:nvSpPr>
        <p:spPr>
          <a:xfrm rot="11106000">
            <a:off x="3551400" y="2697840"/>
            <a:ext cx="1357920" cy="347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4b64e"/>
          </a:solidFill>
          <a:ln>
            <a:solidFill>
              <a:srgbClr val="54b64e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"/>
          <p:cNvSpPr/>
          <p:nvPr/>
        </p:nvSpPr>
        <p:spPr>
          <a:xfrm>
            <a:off x="457200" y="1549080"/>
            <a:ext cx="1119600" cy="1128240"/>
          </a:xfrm>
          <a:prstGeom prst="ellipse">
            <a:avLst/>
          </a:prstGeom>
          <a:solidFill>
            <a:srgbClr val="ebed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79880" y="2219040"/>
            <a:ext cx="45360" cy="976320"/>
          </a:xfrm>
          <a:prstGeom prst="rect">
            <a:avLst/>
          </a:prstGeom>
          <a:solidFill>
            <a:srgbClr val="ebed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682200" y="2902680"/>
            <a:ext cx="309276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УНИК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РЕЛЕВА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ОБН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456800" y="2219040"/>
            <a:ext cx="45360" cy="976320"/>
          </a:xfrm>
          <a:prstGeom prst="rect">
            <a:avLst/>
          </a:prstGeom>
          <a:solidFill>
            <a:srgbClr val="ebede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2" name="TextBox 20"/>
          <p:cNvSpPr/>
          <p:nvPr/>
        </p:nvSpPr>
        <p:spPr>
          <a:xfrm>
            <a:off x="4570920" y="2902680"/>
            <a:ext cx="46213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ЛОЯ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ПОЛЕЗНА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0404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404040"/>
                </a:solidFill>
                <a:latin typeface="PT Sans"/>
              </a:rPr>
              <a:t>УЛУЧШЕНИЕ П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очему необход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457200" y="1542960"/>
            <a:ext cx="1134720" cy="1134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6" descr=""/>
          <p:cNvPicPr/>
          <p:nvPr/>
        </p:nvPicPr>
        <p:blipFill>
          <a:blip r:embed="rId2"/>
          <a:stretch/>
        </p:blipFill>
        <p:spPr>
          <a:xfrm>
            <a:off x="4456800" y="1524240"/>
            <a:ext cx="1153080" cy="11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оказания тепловой кар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Объект 3" descr=""/>
          <p:cNvPicPr/>
          <p:nvPr/>
        </p:nvPicPr>
        <p:blipFill>
          <a:blip r:embed="rId1"/>
          <a:stretch/>
        </p:blipFill>
        <p:spPr>
          <a:xfrm>
            <a:off x="0" y="954720"/>
            <a:ext cx="9143640" cy="4177800"/>
          </a:xfrm>
          <a:prstGeom prst="rect">
            <a:avLst/>
          </a:prstGeom>
          <a:ln w="0">
            <a:noFill/>
          </a:ln>
        </p:spPr>
      </p:pic>
      <p:sp>
        <p:nvSpPr>
          <p:cNvPr id="167" name="Стрелка вправо 6"/>
          <p:cNvSpPr/>
          <p:nvPr/>
        </p:nvSpPr>
        <p:spPr>
          <a:xfrm rot="1996800">
            <a:off x="7776720" y="3674880"/>
            <a:ext cx="1064880" cy="381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54b64e"/>
          </a:solidFill>
          <a:ln>
            <a:solidFill>
              <a:srgbClr val="54b64e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риорите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Рисунок 9" descr=""/>
          <p:cNvPicPr/>
          <p:nvPr/>
        </p:nvPicPr>
        <p:blipFill>
          <a:blip r:embed="rId1"/>
          <a:stretch/>
        </p:blipFill>
        <p:spPr>
          <a:xfrm>
            <a:off x="2138760" y="2282040"/>
            <a:ext cx="4866480" cy="22377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5834160" y="2691000"/>
            <a:ext cx="2089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PT Sans"/>
              </a:rPr>
              <a:t>ПОЛЬЗОВ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1258560" y="1912680"/>
            <a:ext cx="2901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404040"/>
                </a:solidFill>
                <a:latin typeface="PT Sans"/>
              </a:rPr>
              <a:t>ПОИСКОВЫ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PT Sans"/>
              </a:rPr>
              <a:t>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азвание 1"/>
          <p:cNvSpPr/>
          <p:nvPr/>
        </p:nvSpPr>
        <p:spPr>
          <a:xfrm>
            <a:off x="3490200" y="1236960"/>
            <a:ext cx="550332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</a:pPr>
            <a:r>
              <a:rPr b="1" lang="ru-RU" sz="3600" spc="-1" strike="noStrike" cap="all">
                <a:solidFill>
                  <a:srgbClr val="404040"/>
                </a:solidFill>
                <a:latin typeface="PT Sans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3406680" y="2941200"/>
            <a:ext cx="34228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54b64e"/>
                </a:solidFill>
                <a:latin typeface="PT Sans"/>
              </a:rPr>
              <a:t>m.shkodin@biplane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" y="6660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орядок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val 1"/>
          <p:cNvSpPr/>
          <p:nvPr/>
        </p:nvSpPr>
        <p:spPr>
          <a:xfrm>
            <a:off x="1051920" y="1172160"/>
            <a:ext cx="594360" cy="59436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PT San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7"/>
          <p:cNvSpPr/>
          <p:nvPr/>
        </p:nvSpPr>
        <p:spPr>
          <a:xfrm>
            <a:off x="1051920" y="1984680"/>
            <a:ext cx="594360" cy="59436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PT San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8"/>
          <p:cNvSpPr/>
          <p:nvPr/>
        </p:nvSpPr>
        <p:spPr>
          <a:xfrm>
            <a:off x="1051920" y="3610080"/>
            <a:ext cx="594360" cy="59436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PT San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9"/>
          <p:cNvSpPr/>
          <p:nvPr/>
        </p:nvSpPr>
        <p:spPr>
          <a:xfrm>
            <a:off x="1051920" y="2801520"/>
            <a:ext cx="594360" cy="59436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PT San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7"/>
          <p:cNvSpPr/>
          <p:nvPr/>
        </p:nvSpPr>
        <p:spPr>
          <a:xfrm>
            <a:off x="1822320" y="1287360"/>
            <a:ext cx="3165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СБОР СЕМАНТИЧЕСКОГО ЯД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8"/>
          <p:cNvSpPr/>
          <p:nvPr/>
        </p:nvSpPr>
        <p:spPr>
          <a:xfrm>
            <a:off x="1775520" y="2117880"/>
            <a:ext cx="39956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АНАЛИЗ</a:t>
            </a:r>
            <a:r>
              <a:rPr b="1" lang="ru-RU" sz="1500" spc="-1" strike="noStrike">
                <a:solidFill>
                  <a:srgbClr val="262626"/>
                </a:solidFill>
                <a:latin typeface="PT Sans"/>
              </a:rPr>
              <a:t> КОНКУРЕНТОВ ПО ЗАПРОСА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"/>
          <p:cNvSpPr/>
          <p:nvPr/>
        </p:nvSpPr>
        <p:spPr>
          <a:xfrm>
            <a:off x="1782720" y="2904480"/>
            <a:ext cx="179676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ПОДГОТОВКА</a:t>
            </a:r>
            <a:r>
              <a:rPr b="1" lang="en-US" sz="1500" spc="-1" strike="noStrike">
                <a:solidFill>
                  <a:srgbClr val="404040"/>
                </a:solidFill>
                <a:latin typeface="PT Sans"/>
              </a:rPr>
              <a:t> </a:t>
            </a: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ТЗ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"/>
          <p:cNvSpPr/>
          <p:nvPr/>
        </p:nvSpPr>
        <p:spPr>
          <a:xfrm>
            <a:off x="1051920" y="4415400"/>
            <a:ext cx="594360" cy="594360"/>
          </a:xfrm>
          <a:prstGeom prst="ellipse">
            <a:avLst/>
          </a:prstGeom>
          <a:solidFill>
            <a:srgbClr val="54b64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PT San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3"/>
          <p:cNvSpPr/>
          <p:nvPr/>
        </p:nvSpPr>
        <p:spPr>
          <a:xfrm>
            <a:off x="1786320" y="4530240"/>
            <a:ext cx="271080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КОНТРОЛЬ ВЫПОЛН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1799280" y="3743640"/>
            <a:ext cx="24242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500" spc="-1" strike="noStrike">
                <a:solidFill>
                  <a:srgbClr val="404040"/>
                </a:solidFill>
                <a:latin typeface="PT Sans"/>
              </a:rPr>
              <a:t>ВЫБОР ИСПОЛНИТЕЛ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анализ конкуре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4742714"/>
              </p:ext>
            </p:extLst>
          </p:nvPr>
        </p:nvGraphicFramePr>
        <p:xfrm>
          <a:off x="457200" y="1578600"/>
          <a:ext cx="8229240" cy="3393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Создание редакционной политики и т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408312225"/>
              </p:ext>
            </p:extLst>
          </p:nvPr>
        </p:nvGraphicFramePr>
        <p:xfrm>
          <a:off x="457200" y="1200240"/>
          <a:ext cx="8229240" cy="3393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Поиск смежных запро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4" descr=""/>
          <p:cNvPicPr/>
          <p:nvPr/>
        </p:nvPicPr>
        <p:blipFill>
          <a:blip r:embed="rId1"/>
          <a:stretch/>
        </p:blipFill>
        <p:spPr>
          <a:xfrm>
            <a:off x="1323360" y="1033200"/>
            <a:ext cx="6927120" cy="4109760"/>
          </a:xfrm>
          <a:prstGeom prst="rect">
            <a:avLst/>
          </a:prstGeom>
          <a:ln w="0">
            <a:noFill/>
          </a:ln>
        </p:spPr>
      </p:pic>
      <p:cxnSp>
        <p:nvCxnSpPr>
          <p:cNvPr id="121" name="Прямая соединительная линия 7"/>
          <p:cNvCxnSpPr/>
          <p:nvPr/>
        </p:nvCxnSpPr>
        <p:spPr>
          <a:xfrm>
            <a:off x="4786920" y="4492440"/>
            <a:ext cx="3142440" cy="36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cxnSp>
        <p:nvCxnSpPr>
          <p:cNvPr id="122" name="Прямая соединительная линия 10"/>
          <p:cNvCxnSpPr/>
          <p:nvPr/>
        </p:nvCxnSpPr>
        <p:spPr>
          <a:xfrm>
            <a:off x="4786920" y="4300920"/>
            <a:ext cx="3142440" cy="36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cxnSp>
        <p:nvCxnSpPr>
          <p:cNvPr id="123" name="Прямая соединительная линия 14"/>
          <p:cNvCxnSpPr/>
          <p:nvPr/>
        </p:nvCxnSpPr>
        <p:spPr>
          <a:xfrm>
            <a:off x="4786920" y="4300920"/>
            <a:ext cx="360" cy="19188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cxnSp>
        <p:nvCxnSpPr>
          <p:cNvPr id="124" name="Прямая соединительная линия 19"/>
          <p:cNvCxnSpPr/>
          <p:nvPr/>
        </p:nvCxnSpPr>
        <p:spPr>
          <a:xfrm>
            <a:off x="7929000" y="4300920"/>
            <a:ext cx="360" cy="19188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Никакого </a:t>
            </a:r>
            <a:r>
              <a:rPr b="0" lang="en-US" sz="2400" spc="-1" strike="noStrike" cap="all">
                <a:solidFill>
                  <a:srgbClr val="ffffff"/>
                </a:solidFill>
                <a:latin typeface="PT Sans"/>
              </a:rPr>
              <a:t>SEO </a:t>
            </a: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КОпирайт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Объект 3" descr=""/>
          <p:cNvPicPr/>
          <p:nvPr/>
        </p:nvPicPr>
        <p:blipFill>
          <a:blip r:embed="rId1"/>
          <a:stretch/>
        </p:blipFill>
        <p:spPr>
          <a:xfrm>
            <a:off x="2933640" y="1879560"/>
            <a:ext cx="3276360" cy="2047680"/>
          </a:xfrm>
          <a:prstGeom prst="rect">
            <a:avLst/>
          </a:prstGeom>
          <a:ln w="0">
            <a:noFill/>
          </a:ln>
        </p:spPr>
      </p:pic>
      <p:cxnSp>
        <p:nvCxnSpPr>
          <p:cNvPr id="127" name="Прямая соединительная линия 4"/>
          <p:cNvCxnSpPr/>
          <p:nvPr/>
        </p:nvCxnSpPr>
        <p:spPr>
          <a:xfrm>
            <a:off x="2258640" y="1414440"/>
            <a:ext cx="4681440" cy="287640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  <p:cxnSp>
        <p:nvCxnSpPr>
          <p:cNvPr id="128" name="Прямая соединительная линия 12"/>
          <p:cNvCxnSpPr/>
          <p:nvPr/>
        </p:nvCxnSpPr>
        <p:spPr>
          <a:xfrm flipH="1">
            <a:off x="2258640" y="1414440"/>
            <a:ext cx="4626720" cy="2939040"/>
          </a:xfrm>
          <a:prstGeom prst="straightConnector1">
            <a:avLst/>
          </a:prstGeom>
          <a:ln>
            <a:solidFill>
              <a:srgbClr val="54b64e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1350360" y="1994400"/>
            <a:ext cx="699228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ы хотите купить ноутбук? Хотите купить ноутбук высокого качества и приемлемой цены? Тогда вам следует обратиться нашу фирму “ПродаемНоутбук” (название выдумано для примера). Здесь можно купить ноутбук одного из ведущих производителей значительно дешевле, чем в других магазинах. Купить ноутбук в “ПродамНоутбук” значит сделать выбор в пользу идеального соотношения цены и качества. Для того, чтобы купить ноутбук в кредит, следует взять с собой только паспорт и тогда вы сможете купить ноутбук в кредит быстро и с малой процентной став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816840" y="1744200"/>
            <a:ext cx="533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b050"/>
                </a:solidFill>
                <a:latin typeface="PT Sans"/>
                <a:ea typeface="PT Sans"/>
              </a:rPr>
              <a:t>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8267760" y="3953160"/>
            <a:ext cx="418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2800" spc="-1" strike="noStrike">
                <a:solidFill>
                  <a:srgbClr val="00b050"/>
                </a:solidFill>
                <a:latin typeface="PT Sans"/>
                <a:ea typeface="PT Sans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Так нельз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756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ffffff"/>
                </a:solidFill>
                <a:latin typeface="PT Sans"/>
              </a:rPr>
              <a:t>Зачем нужны ключевые запрос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1426348099"/>
              </p:ext>
            </p:extLst>
          </p:nvPr>
        </p:nvGraphicFramePr>
        <p:xfrm>
          <a:off x="-234360" y="1117440"/>
          <a:ext cx="9378000" cy="3843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iplane_Powerpoint_Template (1)</Template>
  <TotalTime>4834</TotalTime>
  <Application>LibreOffice/7.4.7.2$Linux_X86_64 LibreOffice_project/40$Build-2</Application>
  <AppVersion>15.0000</AppVersion>
  <Words>260</Words>
  <Paragraphs>83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9T12:32:04Z</dcterms:created>
  <dc:creator>m.shkodin</dc:creator>
  <dc:description/>
  <dc:language>en-US</dc:language>
  <cp:lastModifiedBy>m.shkodin</cp:lastModifiedBy>
  <dcterms:modified xsi:type="dcterms:W3CDTF">2017-03-13T14:23:23Z</dcterms:modified>
  <cp:revision>63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16:9)</vt:lpwstr>
  </property>
  <property fmtid="{D5CDD505-2E9C-101B-9397-08002B2CF9AE}" pid="4" name="Slides">
    <vt:r8>22</vt:r8>
  </property>
</Properties>
</file>