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6D4-FADD-43F3-8BE5-7E01FBCB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F28-59BE-4555-A2DF-5C07567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E66-05BB-4663-8062-45C357A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36F-6044-4A1D-A861-CB742599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2B7F-45A2-44F1-AFEE-FCD9BC89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6B41-8942-4A7E-B8DA-C6FF7559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035D-7DDA-4DB4-A9B5-58AE8EC3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69F-74BF-4840-AABF-03561BE1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C59A-7B22-47DA-8701-2AF9F48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725-BA68-410B-A6B7-D1C2F784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2F9-A808-420E-ACDF-10B12DB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F33-C92D-45F3-BBDD-D1199040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CC28-ADFE-497D-AB86-700D972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0D26-9FCF-4BA8-B844-5645A2C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965-8740-4A27-889C-5C91F88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955-371E-4034-8939-BA37827A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826-7C0F-4023-8D6C-03CCCD62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390-4E35-4ABF-BE52-9539CBF3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EBD-3EF9-45E9-9F00-CD6B0896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613-2EBA-4ED0-9F1E-F5E43416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7D6-A718-40E4-A6C5-7C5B826E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A61-5AD8-4237-A714-9F11750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58C-1957-45C5-A33E-7B64066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532-139E-4537-A85D-043908E4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6CC-15D7-42B0-9618-56E8D0125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2498-21FA-4CF5-A325-106FA1985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Багатогранна творчість І.Я.Фран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24280" y="2708280"/>
            <a:ext cx="69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ЛЬТИМЕДІЙНА ПРЕЗЕНТАЦ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 української літерату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D2F-589D-4FA3-A12E-D807DD18E8AA}" type="slidenum">
              <a:t>1</a:t>
            </a:fld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066920" y="14126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Шедевром світової літератури визнано збірку "Зі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ле листя", яку сам автор назвав "ліричною драмою"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69108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D04-B754-4DE1-B5B6-C680273A9529}" type="slidenum">
              <a:t>10</a:t>
            </a:fld>
          </a:p>
        </p:txBody>
      </p:sp>
    </p:spTree>
  </p:cSld>
  <p:transition spd="slow" advTm="900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5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3280" y="476280"/>
            <a:ext cx="389916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оман "Перехресні стежки" друкувався на сторінках львівського журналу "Літературно-науковий вісник" упродовж усього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1900 року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03800" cy="568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9917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853-0655-4E3B-BB81-0AEA456325D2}" type="slidenum">
              <a:t>11</a:t>
            </a:fld>
          </a:p>
        </p:txBody>
      </p:sp>
    </p:spTree>
  </p:cSld>
  <p:transition spd="slow" advTm="11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15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47960" y="692280"/>
            <a:ext cx="42447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ценах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наших театрів ось уже багато років з незмінним успіхом іде спектакль “Украдене щастя”   за однойменною п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’єсою Івана Фра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970440" cy="604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19E-B030-476B-A130-72D22D135C05}" type="slidenum">
              <a:t>12</a:t>
            </a:fld>
          </a:p>
        </p:txBody>
      </p:sp>
    </p:spTree>
  </p:cSld>
  <p:transition spd="slow" advTm="1100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2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42764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 дослідженнях фольклору Франко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е лише очолював передову науку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Україні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ін робив помітний внесок у розвиток світової фольклористики.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1460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FAF-D245-4F50-BC15-5108BD18B8AB}" type="slidenum">
              <a:t>13</a:t>
            </a:fld>
          </a:p>
        </p:txBody>
      </p:sp>
    </p:spTree>
  </p:cSld>
  <p:transition spd="slow" advTm="10000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4859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спадок нашій фольклористичній науці Іван Франко залишив найбільший скарб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051360" cy="4608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5680" y="558972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"Студії над українськими народними піснями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2EF-8683-4E09-A8B6-3A8BA131537C}" type="slidenum">
              <a:t>14</a:t>
            </a:fld>
          </a:p>
        </p:txBody>
      </p:sp>
    </p:spTree>
  </p:cSld>
  <p:transition spd="slow" advTm="15000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2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720"/>
                            </p:stCondLst>
                            <p:childTnLst>
                              <p:par>
                                <p:cTn id="36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2,-75,5)"/>
                                      </p:to>
                                    </p:set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2,-75,5)"/>
                                      </p:to>
                                    </p:set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76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300280"/>
            <a:ext cx="80758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Журнал “Громадський друг” (“Дзвін”, “Молот”), який видавали Іван Франко та Михайло Павлик у 1878 р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530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E7D-FED5-4294-AA96-3C70B0A50C99}" type="slidenum">
              <a:t>15</a:t>
            </a:fld>
          </a:p>
        </p:txBody>
      </p:sp>
    </p:spTree>
  </p:cSld>
  <p:transition spd="slow" advTm="6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Clr clrSpc="hsl" dir="cw">
                                      <p:cBhvr>
                                        <p:cTn id="3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300280"/>
            <a:ext cx="80758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країнські журнали, у виданні яких брав участь І. Франко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89592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6DB-F23B-4E5F-A3FC-1CE041E3B5A5}" type="slidenum">
              <a:t>16</a:t>
            </a:fld>
          </a:p>
        </p:txBody>
      </p:sp>
    </p:spTree>
  </p:cSld>
  <p:transition spd="slow" advTm="7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708000" y="259920"/>
            <a:ext cx="497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исьменник переклав українською твори близько 200 авторів        із 14 мов та 37 національних літератур, у т.ч. зразки вавилонської, єгипетської, староіндійської, староарабської словесності, античного письмен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6716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303-D165-4166-A917-645F66773C79}" type="slidenum">
              <a:t>17</a:t>
            </a:fld>
          </a:p>
        </p:txBody>
      </p:sp>
    </p:spTree>
  </p:cSld>
  <p:transition spd="slow" advTm="12000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18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еличезною історико-культурною подією в нашому житті стало видання 50-томного зібрання творів письменника.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62280" cy="465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171960" cy="465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08000" y="64674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ОМ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360" y="64674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ОМ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F15-839A-443D-B229-003BB3B2F2A6}" type="slidenum">
              <a:t>18</a:t>
            </a:fld>
          </a:p>
        </p:txBody>
      </p:sp>
    </p:spTree>
  </p:cSld>
  <p:transition spd="slow" advTm="11000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200"/>
                            </p:stCondLst>
                            <p:childTnLst>
                              <p:par>
                                <p:cTn id="4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20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5637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"Каменярі" –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один з найвідоміших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віршів І.Франка.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 нього він уклав усю пристрасть громадянина,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сю палкість патріота,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весь талант поета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51280" cy="381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87280" y="422100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</a:rPr>
              <a:t>І всі ми вірили, що своїми 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</a:rPr>
              <a:t>Розіб</a:t>
            </a: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’ємо скалу, роздробимо грані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Що кров’ю власною і власними кіст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вердий змуруємо гостинець і за 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ийде нове життя, добро нове у сві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DD2-3ED5-452C-B89A-A2E8E2F40138}" type="slidenum">
              <a:t>19</a:t>
            </a:fld>
          </a:p>
        </p:txBody>
      </p:sp>
    </p:spTree>
  </p:cSld>
  <p:transition spd="slow" advTm="2800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600"/>
                            </p:stCondLst>
                            <p:childTnLst>
                              <p:par>
                                <p:cTn id="4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700"/>
                            </p:stCondLst>
                            <p:childTnLst>
                              <p:par>
                                <p:cTn id="4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7800"/>
                            </p:stCondLst>
                            <p:childTnLst>
                              <p:par>
                                <p:cTn id="4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18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Багатогранна творчість І.Я.Фран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Іван Франко – трибун народни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Пророк-ватаг, ратай-співец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І громадянин благородний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</a:rPr>
              <a:t>М.Воро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8A7-C60E-4652-A721-3DC6A2BD01C4}" type="slidenum">
              <a:t>2</a:t>
            </a:fld>
          </a:p>
        </p:txBody>
      </p:sp>
    </p:spTree>
  </p:cSld>
  <p:transition spd="slow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д могилою Івана Яковича Франка на Личаківському цвинтарі Львова височить гранітний Каменяр, що розбиває молотом ске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я фігура ніби символізує життєвий шлях незламного духом Івана Фра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84640" y="260280"/>
            <a:ext cx="4800600" cy="64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150-53E6-489E-878B-B140C287D13C}" type="slidenum">
              <a:t>20</a:t>
            </a:fld>
          </a:p>
        </p:txBody>
      </p:sp>
    </p:spTree>
  </p:cSld>
  <p:transition spd="slow" advTm="17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4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2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ворчість Івана Франка становить унікальне явище, цілу духовну епоху у вітчизняній історії і водночас є вселюдським надбанн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датний письменник, критик, перекладач, журналіст, соціолог, фольклорист, етнограф, історик, філософ – його багатющу спадщину не вмісти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і сотня томі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77B-8427-4A66-9BE7-5880EC3759DC}" type="slidenum">
              <a:t>21</a:t>
            </a:fld>
          </a:p>
        </p:txBody>
      </p:sp>
    </p:spTree>
  </p:cSld>
  <p:transition spd="slow" advTm="15000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8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0" y="47628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"Іван Франко - це розум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і серце нашого народу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Це боротьба, мука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і передчуття щастя України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України і людськості"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Максим Рильсь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7664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08C-1D2E-4D9C-8F51-C92B69F01EA4}" type="slidenum">
              <a:t>22</a:t>
            </a:fld>
          </a:p>
        </p:txBody>
      </p:sp>
    </p:spTree>
  </p:cSld>
  <p:transition spd="slow" advTm="16000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Іван Якович Франко (1856 – 1916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48000" y="404280"/>
            <a:ext cx="48960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к син селяни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годуваний тверди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ужицьким хлібом,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 почуваю себ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 обов'язку відда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цю свого житт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ому простому народові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Іван Фран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436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DD2-417C-4525-9D5B-DBFF372A74D5}" type="slidenum">
              <a:t>3</a:t>
            </a:fld>
          </a:p>
        </p:txBody>
      </p:sp>
    </p:spTree>
  </p:cSld>
  <p:transition spd="slow" advTm="1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25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5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825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8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225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425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75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Іван Франко написав майже 50 казо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259080" cy="491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643200" cy="492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282600"/>
            <a:ext cx="8300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У світі Франкової каз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79C-8A92-4925-B468-CF03BBBCBB27}" type="slidenum">
              <a:t>4</a:t>
            </a:fld>
          </a:p>
        </p:txBody>
      </p:sp>
    </p:spTree>
  </p:cSld>
  <p:transition spd="slow" advTm="14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25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75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284720" y="476280"/>
            <a:ext cx="48592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и вже знаєт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що Іван Франк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исав дитячі казк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А ще оповіданн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яких легко можн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найти його спогад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 власне дитинств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08600" cy="56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79E-7CE6-4F59-BCFB-841E39E34DA7}" type="slidenum">
              <a:t>5</a:t>
            </a:fld>
          </a:p>
        </p:txBody>
      </p:sp>
    </p:spTree>
  </p:cSld>
  <p:transition spd="slow" advTm="12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779640" y="259920"/>
            <a:ext cx="5235480" cy="59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очете довідатись, яким було навчання українських дітей в Австро-Угорщині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оді почитайте "Олівець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Грицеву шкільну науку"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nschreiben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"Чистописання"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Отця-гумориста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а інші твори цього ав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367668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C18-6C13-46FD-BCB3-600192D69C3C}" type="slidenum">
              <a:t>6</a:t>
            </a:fld>
          </a:p>
        </p:txBody>
      </p:sp>
    </p:spTree>
  </p:cSld>
  <p:transition spd="slow" advTm="13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7640" y="404280"/>
            <a:ext cx="41050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ема "Мойсей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це запові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країнськом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народові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 метою нагадати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що навіт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з віковічног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раб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авжди є вихід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1720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728-98DC-4053-8110-3D7A8D1AEAFB}" type="slidenum">
              <a:t>7</a:t>
            </a:fld>
          </a:p>
        </p:txBody>
      </p:sp>
    </p:spTree>
  </p:cSld>
  <p:transition spd="slow" advTm="11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"/>
                            </p:stCondLst>
                            <p:childTnLst>
                              <p:par>
                                <p:cTn id="205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50"/>
                            </p:stCondLst>
                            <p:childTnLst>
                              <p:par>
                                <p:cTn id="21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"/>
                            </p:stCondLst>
                            <p:childTnLst>
                              <p:par>
                                <p:cTn id="229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150"/>
                            </p:stCondLst>
                            <p:childTnLst>
                              <p:par>
                                <p:cTn id="23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100"/>
                            </p:stCondLst>
                            <p:childTnLst>
                              <p:par>
                                <p:cTn id="25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900"/>
                            </p:stCondLst>
                            <p:childTnLst>
                              <p:par>
                                <p:cTn id="26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716360" y="1413000"/>
            <a:ext cx="41832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му й самого Франка часто називали українським Мойсеє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348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FBE-DD7B-4FA1-BF49-7C0AFA64A08F}" type="slidenum">
              <a:t>8</a:t>
            </a:fld>
          </a:p>
        </p:txBody>
      </p:sp>
    </p:spTree>
  </p:cSld>
  <p:transition spd="slow" advTm="11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780000" y="907560"/>
            <a:ext cx="5184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оема "Іван Вишенський" – твір про видатного письменника-полеміста українського середньовіччя, який своїм запальним словом будив у серцях людей почуття честі й гідност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911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DD7-9A36-40E8-ABE3-BA5F5C0FB837}" type="slidenum">
              <a:t>9</a:t>
            </a:fld>
          </a:p>
        </p:txBody>
      </p:sp>
    </p:spTree>
  </p:cSld>
  <p:transition spd="slow" advTm="1300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7.6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547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40:05Z</dcterms:created>
  <dc:creator>Admin</dc:creator>
  <dc:description/>
  <dc:language>en-US</dc:language>
  <cp:lastModifiedBy>Admin</cp:lastModifiedBy>
  <dcterms:modified xsi:type="dcterms:W3CDTF">2011-01-23T13:40:31Z</dcterms:modified>
  <cp:revision>1</cp:revision>
  <dc:subject/>
  <dc:title>Багатогранна творчість І.Я.Франка</dc:title>
</cp:coreProperties>
</file>