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6B7-C44C-4620-8847-4BC849B8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198-7BD7-4F09-AB41-8BACAFAA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449-7C2E-4F51-BD13-1BC97EC9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D85-F3F2-4DB4-AD9E-B36930A9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26E7-3AFE-4FAC-8065-B63BD7C4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FF99-1257-468E-867E-9959BFB2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A5E4-25E0-4B50-96A4-6762CC88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38A8-F139-4770-AC35-CA80ABD6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4872-3184-4B5A-BD3B-F68D8096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EA82-5461-4D4B-91D9-02C2C8CF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1539-D070-464E-BB04-2C7BDB2B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844-983F-455E-98AA-D1E84E4B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8E5B-07F6-41EF-817F-90CB8B59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CCEB-63CB-4759-9A05-485B3CC9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4DE1-54A1-469A-A903-C3D1BEBC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1E4D-58EE-472A-8476-0E456759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82C7-9235-45BC-A495-217AB91C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736-F053-4D6E-BE63-9682074C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3C4-DB9D-42AB-AE92-F96B69E5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6DA-95C6-4065-A0C0-F52F53FE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5D3-41D6-4A51-922C-F11F9C7D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9EA-6E03-46EB-9783-BC1DDB65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F65-E9F0-408C-8A95-B3CAB8D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C26-57C6-4C0B-8C54-D4871EE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1613-24DA-45CD-994E-EAB767B36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BD9F-D47F-4669-81DF-A31908760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Багатогранна творчість І.Я.Франк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24280" y="2708280"/>
            <a:ext cx="69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УЛЬТИМЕДІЙНА ПРЕЗЕНТАЦ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з української літерату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DC24-6B20-4B56-A3E8-1238F7939192}" type="slidenum">
              <a:t>1</a:t>
            </a:fld>
          </a:p>
        </p:txBody>
      </p:sp>
    </p:spTree>
  </p:cSld>
  <p:transition spd="slow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066920" y="14126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Шедевром світової літератури визнано збірку "Зів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ле листя", яку сам автор назвав "ліричною драмою"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69108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DF5-CD4D-4EB0-9AA8-470D4B3AA4A7}" type="slidenum">
              <a:t>10</a:t>
            </a:fld>
          </a:p>
        </p:txBody>
      </p:sp>
    </p:spTree>
  </p:cSld>
  <p:transition spd="slow" advTm="900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35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3280" y="476280"/>
            <a:ext cx="389916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Роман "Перехресні стежки" друкувався на сторінках львівського журналу "Літературно-науковий вісник" упродовж усього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1900 року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03800" cy="568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99172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9F0-1C94-438D-8E5A-8300BF56D874}" type="slidenum">
              <a:t>11</a:t>
            </a:fld>
          </a:p>
        </p:txBody>
      </p:sp>
    </p:spTree>
  </p:cSld>
  <p:transition spd="slow" advTm="11000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15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47960" y="692280"/>
            <a:ext cx="42447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ценах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наших театрів ось уже багато років з незмінним успіхом іде спектакль “Украдене щастя”   за однойменною п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’єсою Івана Фра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970440" cy="604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154-48DF-4BCE-A0A7-02D70E0F9D8E}" type="slidenum">
              <a:t>12</a:t>
            </a:fld>
          </a:p>
        </p:txBody>
      </p:sp>
    </p:spTree>
  </p:cSld>
  <p:transition spd="slow" advTm="11000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2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16000" y="333000"/>
            <a:ext cx="4427640" cy="61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 дослідженнях фольклору Франко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не лише очолював передову науку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Україні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ін робив помітний внесок у розвиток світової фольклористики.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314600" cy="63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B7F-34D1-4605-8FD7-23FFC14BFBC9}" type="slidenum">
              <a:t>13</a:t>
            </a:fld>
          </a:p>
        </p:txBody>
      </p:sp>
    </p:spTree>
  </p:cSld>
  <p:transition spd="slow" advTm="10000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48592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У спадок нашій фольклористичній науці Іван Франко залишив найбільший скарб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19640" y="476280"/>
            <a:ext cx="3051360" cy="4608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5680" y="5589720"/>
            <a:ext cx="89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"Студії над українськими народними піснями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C89-2CB0-45B3-BB14-D3E39443D6D9}" type="slidenum">
              <a:t>14</a:t>
            </a:fld>
          </a:p>
        </p:txBody>
      </p:sp>
    </p:spTree>
  </p:cSld>
  <p:transition spd="slow" advTm="15000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2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720"/>
                            </p:stCondLst>
                            <p:childTnLst>
                              <p:par>
                                <p:cTn id="361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22,-75,5)"/>
                                      </p:to>
                                    </p:set>
                                    <p:set>
                                      <p:cBhvr>
                                        <p:cTn id="36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2,-75,5)"/>
                                      </p:to>
                                    </p:set>
                                    <p:set>
                                      <p:cBhvr>
                                        <p:cTn id="36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76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300280"/>
            <a:ext cx="80758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Журнал “Громадський друг” (“Дзвін”, “Молот”), який видавали Іван Франко та Михайло Павлик у 1878 р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253040" cy="48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92B-EEB2-4D04-9826-B52F00D08F41}" type="slidenum">
              <a:t>15</a:t>
            </a:fld>
          </a:p>
        </p:txBody>
      </p:sp>
    </p:spTree>
  </p:cSld>
  <p:transition spd="slow" advTm="6000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mph" presetID="2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Clr clrSpc="hsl" dir="cw">
                                      <p:cBhvr>
                                        <p:cTn id="3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5300280"/>
            <a:ext cx="80758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країнські журнали, у виданні яких брав участь І. Франко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3895920" cy="50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EDB-5AE2-4CEF-BFAB-180B7E4A914C}" type="slidenum">
              <a:t>16</a:t>
            </a:fld>
          </a:p>
        </p:txBody>
      </p:sp>
    </p:spTree>
  </p:cSld>
  <p:transition spd="slow" advTm="7000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708000" y="259920"/>
            <a:ext cx="4978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исьменник переклав українською твори близько 200 авторів        із 14 мов та 37 національних літератур, у т.ч. зразки вавилонської, єгипетської, староіндійської, староарабської словесності, античного письмен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6716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B23-F4D1-4E7E-A962-C3E8399E3E12}" type="slidenum">
              <a:t>17</a:t>
            </a:fld>
          </a:p>
        </p:txBody>
      </p:sp>
    </p:spTree>
  </p:cSld>
  <p:transition spd="slow" advTm="12000"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mph" presetID="18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еличезною історико-культурною подією в нашому житті стало видання 50-томного зібрання творів письменника.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762280" cy="4653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171960" cy="465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908000" y="646740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ТОМ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360" y="64674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ТОМ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630-CDB2-402A-99E4-05F0AFD82799}" type="slidenum">
              <a:t>18</a:t>
            </a:fld>
          </a:p>
        </p:txBody>
      </p:sp>
    </p:spTree>
  </p:cSld>
  <p:transition spd="slow" advTm="11000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200"/>
                            </p:stCondLst>
                            <p:childTnLst>
                              <p:par>
                                <p:cTn id="4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8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200"/>
                            </p:stCondLst>
                            <p:childTnLst>
                              <p:par>
                                <p:cTn id="4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56372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"Каменярі" –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один з найвідоміших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віршів І.Франка.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У нього він уклав усю пристрасть громадянина,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усю палкість патріота,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увесь талант поета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951280" cy="3816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87280" y="4221000"/>
            <a:ext cx="741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ff00"/>
                </a:solidFill>
                <a:latin typeface="Times New Roman"/>
              </a:rPr>
              <a:t>І всі ми вірили, що своїми ру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ff00"/>
                </a:solidFill>
                <a:latin typeface="Times New Roman"/>
              </a:rPr>
              <a:t>Розіб</a:t>
            </a:r>
            <a:r>
              <a:rPr b="1" i="1" lang="uk-UA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’ємо скалу, роздробимо грані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Що кров’ю власною і власними кіст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Твердий змуруємо гостинець і за 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Прийде нове життя, добро нове у сві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62C-0FA9-4536-A632-64DD5E8C9EC2}" type="slidenum">
              <a:t>19</a:t>
            </a:fld>
          </a:p>
        </p:txBody>
      </p:sp>
    </p:spTree>
  </p:cSld>
  <p:transition spd="slow" advTm="28000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600"/>
                            </p:stCondLst>
                            <p:childTnLst>
                              <p:par>
                                <p:cTn id="4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700"/>
                            </p:stCondLst>
                            <p:childTnLst>
                              <p:par>
                                <p:cTn id="4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7800"/>
                            </p:stCondLst>
                            <p:childTnLst>
                              <p:par>
                                <p:cTn id="4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1800"/>
                            </p:stCondLst>
                            <p:childTnLst>
                              <p:par>
                                <p:cTn id="4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Багатогранна творчість І.Я.Франк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58560" y="3789360"/>
            <a:ext cx="6729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uk-UA" sz="3600" spc="-1" strike="noStrike">
                <a:solidFill>
                  <a:srgbClr val="ffffff"/>
                </a:solidFill>
                <a:latin typeface="Monotype Corsiva"/>
              </a:rPr>
              <a:t>Іван Франко – трибун народний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</a:rPr>
              <a:t>Пророк-ватаг, ратай-співец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Monotype Corsiva"/>
              </a:rPr>
              <a:t>І громадянин благородний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Times New Roman"/>
              </a:rPr>
              <a:t>М.Воро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0888-60CA-4109-8998-15EAD112F374}" type="slidenum">
              <a:t>2</a:t>
            </a:fld>
          </a:p>
        </p:txBody>
      </p:sp>
    </p:spTree>
  </p:cSld>
  <p:transition spd="slow"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д могилою Івана Яковича Франка на Личаківському цвинтарі Львова височить гранітний Каменяр, що розбиває молотом ске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Ця фігура ніби символізує життєвий шлях незламного духом Івана Фра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184640" y="260280"/>
            <a:ext cx="4800600" cy="64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C41-C959-427D-8208-9948BF0D3384}" type="slidenum">
              <a:t>20</a:t>
            </a:fld>
          </a:p>
        </p:txBody>
      </p:sp>
    </p:spTree>
  </p:cSld>
  <p:transition spd="slow" advTm="17000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4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2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Творчість Івана Франка становить унікальне явище, цілу духовну епоху у вітчизняній історії і водночас є вселюдським надбанн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идатний письменник, критик, перекладач, журналіст, соціолог, фольклорист, етнограф, історик, філософ – його багатющу спадщину не вмісти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і сотня томі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6B4-4D70-4AAA-A51D-4B2FF947EE54}" type="slidenum">
              <a:t>21</a:t>
            </a:fld>
          </a:p>
        </p:txBody>
      </p:sp>
    </p:spTree>
  </p:cSld>
  <p:transition spd="slow" advTm="15000"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8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26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0" y="476280"/>
            <a:ext cx="4392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"Іван Франко - це розум 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і серце нашого народу. 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Це боротьба, мука 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і передчуття щастя України. 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України і людськості"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Максим Рильсь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76640" cy="63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1CE-64DA-44F6-90A7-622496CB03E6}" type="slidenum">
              <a:t>22</a:t>
            </a:fld>
          </a:p>
        </p:txBody>
      </p:sp>
    </p:spTree>
  </p:cSld>
  <p:transition spd="slow" advTm="16000">
    <p:fad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1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1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Іван Якович Франко (1856 – 1916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48000" y="404280"/>
            <a:ext cx="48960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Як син селянин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игодуваний тверди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ужицьким хлібом,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я почуваю себ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 обов'язку відда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ацю свого житт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ому простому народові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Іван Франк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43692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B93-8B8A-41FE-A411-8F6AFAD25476}" type="slidenum">
              <a:t>3</a:t>
            </a:fld>
          </a:p>
        </p:txBody>
      </p:sp>
    </p:spTree>
  </p:cSld>
  <p:transition spd="slow" advTm="13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15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15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5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25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15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15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5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5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15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15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5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825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15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15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5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8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15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15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5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225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5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5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5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425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5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5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5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75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15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15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5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59497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Іван Франко написав майже 50 казо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3259080" cy="4913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643200" cy="4923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7840" y="282600"/>
            <a:ext cx="8300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У світі Франкової каз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142-581E-4282-8B48-7516796694B5}" type="slidenum">
              <a:t>4</a:t>
            </a:fld>
          </a:p>
        </p:txBody>
      </p:sp>
    </p:spTree>
  </p:cSld>
  <p:transition spd="slow" advTm="14000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25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750"/>
                            </p:stCondLst>
                            <p:childTnLst>
                              <p:par>
                                <p:cTn id="119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284720" y="476280"/>
            <a:ext cx="48592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Ви вже знаєте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що Іван Франк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исав дитячі казк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А ще оповідання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у яких легко можн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знайти його спогад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ро власне дитинств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008600" cy="56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9C9-A276-46EF-A832-EDAF2C87D3E7}" type="slidenum">
              <a:t>5</a:t>
            </a:fld>
          </a:p>
        </p:txBody>
      </p:sp>
    </p:spTree>
  </p:cSld>
  <p:transition spd="slow" advTm="12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779640" y="259920"/>
            <a:ext cx="5235480" cy="59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Хочете довідатись, яким було навчання українських дітей в Австро-Угорщині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оді почитайте "Олівець"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"Грицеву шкільну науку"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nschreiben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("Чистописання"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"Отця-гумориста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та інші твори цього авт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367668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FE3-94B7-433F-80F4-16A88A055B86}" type="slidenum">
              <a:t>6</a:t>
            </a:fld>
          </a:p>
        </p:txBody>
      </p:sp>
    </p:spTree>
  </p:cSld>
  <p:transition spd="slow" advTm="13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87640" y="404280"/>
            <a:ext cx="41050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оема "Мойсей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це запові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українському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народові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з метою нагадати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що навіть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із віковічного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раб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завжди є вихід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1720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0BE-B21B-45CF-A1D7-F7218C33DB7D}" type="slidenum">
              <a:t>7</a:t>
            </a:fld>
          </a:p>
        </p:txBody>
      </p:sp>
    </p:spTree>
  </p:cSld>
  <p:transition spd="slow" advTm="1100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"/>
                            </p:stCondLst>
                            <p:childTnLst>
                              <p:par>
                                <p:cTn id="205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50"/>
                            </p:stCondLst>
                            <p:childTnLst>
                              <p:par>
                                <p:cTn id="213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21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"/>
                            </p:stCondLst>
                            <p:childTnLst>
                              <p:par>
                                <p:cTn id="229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150"/>
                            </p:stCondLst>
                            <p:childTnLst>
                              <p:par>
                                <p:cTn id="237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100"/>
                            </p:stCondLst>
                            <p:childTnLst>
                              <p:par>
                                <p:cTn id="253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900"/>
                            </p:stCondLst>
                            <p:childTnLst>
                              <p:par>
                                <p:cTn id="261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716360" y="1413000"/>
            <a:ext cx="41832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Тому й самого Франка часто називали українським Мойсеє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7348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C2A-2BE8-45D5-B245-0F473D5BF642}" type="slidenum">
              <a:t>8</a:t>
            </a:fld>
          </a:p>
        </p:txBody>
      </p:sp>
    </p:spTree>
  </p:cSld>
  <p:transition spd="slow" advTm="11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6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780000" y="907560"/>
            <a:ext cx="5184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оема "Іван Вишенський" – твір про видатного письменника-полеміста українського середньовіччя, який своїм запальним словом будив у серцях людей почуття честі й гідност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2911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6E8-25B7-45E6-8D8A-5DCB2F7DE6E1}" type="slidenum">
              <a:t>9</a:t>
            </a:fld>
          </a:p>
        </p:txBody>
      </p:sp>
    </p:spTree>
  </p:cSld>
  <p:transition spd="slow" advTm="13000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7.6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547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3:40:05Z</dcterms:created>
  <dc:creator>Admin</dc:creator>
  <dc:description/>
  <dc:language>en-US</dc:language>
  <cp:lastModifiedBy>Admin</cp:lastModifiedBy>
  <dcterms:modified xsi:type="dcterms:W3CDTF">2011-01-23T13:40:31Z</dcterms:modified>
  <cp:revision>1</cp:revision>
  <dc:subject/>
  <dc:title>Багатогранна творчість І.Я.Франка</dc:title>
</cp:coreProperties>
</file>