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5.jpeg" ContentType="image/jpeg"/>
  <Override PartName="/ppt/media/image6.jpeg" ContentType="image/jpeg"/>
  <Override PartName="/ppt/media/image4.gif" ContentType="image/gif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14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23.jpeg" ContentType="image/jpeg"/>
  <Override PartName="/ppt/media/image2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6E40F-8F2A-48D8-984E-E9AB072AE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uk-UA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uk-UA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uk-UA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38447-89D1-4125-A522-33B7E7878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uk-UA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uk-UA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uk-UA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uk-UA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uk-UA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FCD3D-05D7-4419-9C25-274177DCC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uk-UA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uk-UA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uk-UA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uk-UA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uk-UA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uk-UA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uk-UA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B516B-1184-4DDF-8E78-B4F0C0D2D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8FE0A-A1C6-45E0-8A13-DD7E56B8B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uk-UA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1D378-8483-4366-91FC-C82538FFE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uk-UA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uk-UA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07CCA-EE4E-49AD-AE1B-4A18CC0F9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uk-UA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uk-UA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uk-UA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8CBB1-66B7-460D-B623-0CF37EBB2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uk-UA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B7C76-1A55-4C4F-BAF0-0D3AE7111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C7271-A1A1-4BA7-B622-EBBADF4A7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uk-UA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uk-UA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uk-UA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uk-UA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DE0A1-6305-4242-9335-BC5510148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uk-UA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A80C9-CABC-4488-9740-C0AB1EE82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uk-UA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uk-UA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uk-UA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uk-UA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7F54F-FC6B-42E8-9333-61D718B75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uk-UA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uk-UA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uk-UA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uk-UA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1A5D8-F6B8-48BD-B8FB-D6BFA3CC4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uk-UA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uk-UA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uk-UA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3FD3C-B804-4079-9A20-B7D1BCF69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uk-UA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uk-UA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uk-UA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uk-UA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uk-UA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26314-936A-4AFA-A7AE-87DE3684A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uk-UA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uk-UA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uk-UA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uk-UA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uk-UA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uk-UA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uk-UA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C4DEB-F259-4E25-8493-1689E129E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572867-455E-4063-A9C2-D59B8EC93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uk-UA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4A53C5-2C79-4744-98D1-0DAE849E1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uk-UA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uk-UA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F26C3E-D284-4F09-96C7-2C693D7C4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uk-UA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uk-UA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uk-UA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05F847-D6E7-45F3-ACF3-3C4CFDE60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uk-UA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5AB8D5-14EA-4F22-BEEB-F8E60CBB5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uk-UA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uk-UA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878C6-EC74-48F7-AFC6-31F0BA4D0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3DFAEF-5763-4E5A-B14A-0DA634ECA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uk-UA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uk-UA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uk-UA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uk-UA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489E03-A280-4240-9AF1-29FAD49DC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uk-UA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uk-UA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uk-UA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uk-UA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4169F3-05C0-4515-B6F4-E3E5556D5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uk-UA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uk-UA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uk-UA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uk-UA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8BABF7-91F6-4A96-810D-96A9BDFBB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uk-UA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uk-UA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uk-UA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D5CBA2-F943-4778-BA33-9703699EB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uk-UA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uk-UA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uk-UA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uk-UA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uk-UA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CD9307-A3DD-45F1-B3D0-08857A63C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uk-UA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uk-UA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uk-UA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uk-UA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uk-UA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uk-UA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uk-UA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9EE6E3-C4EC-41F1-ACF6-6A5971610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uk-UA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uk-UA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uk-UA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A237C-1EB6-4211-8C72-99DCD75B7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uk-UA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2B0B7-2C9C-4F2C-A3E8-4F10B2C6D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E2700-4FC2-4FD5-8453-7C10EA541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uk-UA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uk-UA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uk-UA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uk-UA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A8B99-9CB9-4971-8350-025F8B790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uk-UA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uk-UA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uk-UA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uk-UA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A661C-A720-46F5-B6DE-E2F0BFB00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uk-UA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uk-UA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uk-UA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uk-UA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DB521-A06B-4BFF-8064-5C765C195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89772" sy="89772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5760" y="-815760"/>
            <a:ext cx="1638360" cy="1638360"/>
          </a:xfrm>
          <a:prstGeom prst="pie">
            <a:avLst>
              <a:gd name="adj1" fmla="val 0"/>
              <a:gd name="adj2" fmla="val 5402120"/>
            </a:avLst>
          </a:prstGeom>
          <a:solidFill>
            <a:schemeClr val="bg2">
              <a:tint val="18000"/>
              <a:satMod val="220000"/>
              <a:alpha val="33000"/>
            </a:schemeClr>
          </a:solidFill>
          <a:ln cap="rnd" w="3175">
            <a:solidFill>
              <a:srgbClr val="e7dec9">
                <a:shade val="70000"/>
                <a:satMod val="200000"/>
                <a:alpha val="100000"/>
              </a:srgbClr>
            </a:solidFill>
            <a:round/>
          </a:ln>
          <a:effectLst>
            <a:outerShdw blurRad="63360" dir="5400000" dist="25560" rotWithShape="0">
              <a:srgbClr val="000000">
                <a:alpha val="43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840" y="21240"/>
            <a:ext cx="1701720" cy="1701720"/>
          </a:xfrm>
          <a:prstGeom prst="ellipse">
            <a:avLst/>
          </a:prstGeom>
          <a:noFill/>
          <a:ln cap="rnd" w="27305">
            <a:solidFill>
              <a:srgbClr val="e7dec9">
                <a:tint val="45000"/>
                <a:satMod val="325000"/>
                <a:alpha val="100000"/>
              </a:srgbClr>
            </a:solidFill>
            <a:round/>
          </a:ln>
          <a:effectLst>
            <a:outerShdw algn="tl" blurRad="25560" dir="5400000" dist="25560" rotWithShape="0">
              <a:schemeClr val="bg2">
                <a:shade val="50000"/>
                <a:satMod val="150000"/>
                <a:alpha val="85000"/>
              </a:scheme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2" name="Кольцо 10"/>
          <p:cNvSpPr/>
          <p:nvPr/>
        </p:nvSpPr>
        <p:spPr>
          <a:xfrm rot="2315400">
            <a:off x="182880" y="1054800"/>
            <a:ext cx="1125360" cy="1102320"/>
          </a:xfrm>
          <a:prstGeom prst="donut">
            <a:avLst>
              <a:gd name="adj" fmla="val 11833"/>
            </a:avLst>
          </a:prstGeom>
          <a:gradFill rotWithShape="0">
            <a:gsLst>
              <a:gs pos="0">
                <a:srgbClr val="eed18e">
                  <a:alpha val="60000"/>
                </a:srgbClr>
              </a:gs>
              <a:gs pos="100000">
                <a:srgbClr val="fefaf6">
                  <a:alpha val="70196"/>
                </a:srgbClr>
              </a:gs>
            </a:gsLst>
            <a:lin ang="13500000"/>
          </a:gradFill>
          <a:ln cap="rnd" w="7350">
            <a:solidFill>
              <a:srgbClr val="e7dec9">
                <a:shade val="60000"/>
                <a:satMod val="220000"/>
                <a:alpha val="100000"/>
              </a:srgbClr>
            </a:solidFill>
            <a:round/>
          </a:ln>
          <a:effectLst>
            <a:outerShdw algn="tl" blurRad="12600" dir="4557825" dist="14843" rotWithShape="0">
              <a:schemeClr val="bg2">
                <a:shade val="10000"/>
                <a:satMod val="200000"/>
                <a:alpha val="35000"/>
              </a:scheme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3" name="Прямоугольник 11"/>
          <p:cNvSpPr/>
          <p:nvPr/>
        </p:nvSpPr>
        <p:spPr>
          <a:xfrm>
            <a:off x="1013040" y="0"/>
            <a:ext cx="8130600" cy="6857640"/>
          </a:xfrm>
          <a:prstGeom prst="rect">
            <a:avLst/>
          </a:prstGeom>
          <a:solidFill>
            <a:schemeClr val="bg1"/>
          </a:solidFill>
          <a:ln>
            <a:noFill/>
          </a:ln>
          <a:effectLst>
            <a:outerShdw blurRad="63360" dir="5400000" dist="25560" rotWithShape="0">
              <a:srgbClr val="000000">
                <a:alpha val="43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4" name="Прямоугольник 14"/>
          <p:cNvSpPr/>
          <p:nvPr/>
        </p:nvSpPr>
        <p:spPr>
          <a:xfrm>
            <a:off x="1014840" y="0"/>
            <a:ext cx="72720" cy="6857640"/>
          </a:xfrm>
          <a:prstGeom prst="rect">
            <a:avLst/>
          </a:prstGeom>
          <a:solidFill>
            <a:schemeClr val="bg1"/>
          </a:solidFill>
          <a:ln>
            <a:noFill/>
          </a:ln>
          <a:effectLst>
            <a:outerShdw algn="tl" blurRad="38520" dir="10800000" dist="38160" rotWithShape="0">
              <a:schemeClr val="bg2">
                <a:shade val="20000"/>
                <a:satMod val="110000"/>
                <a:alpha val="25000"/>
              </a:scheme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32440" y="360000"/>
            <a:ext cx="740628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300" spc="-1" strike="noStrike">
                <a:solidFill>
                  <a:srgbClr val="572314"/>
                </a:solidFill>
                <a:latin typeface="Gill Sans MT"/>
              </a:rPr>
              <a:t>Образец заголовка</a:t>
            </a:r>
            <a:endParaRPr b="0" lang="uk-UA" sz="4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3581280" y="630540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b5a989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uk-UA" sz="1200" spc="-1" strike="noStrike">
                <a:solidFill>
                  <a:srgbClr val="b5a989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5715000" y="6305400"/>
            <a:ext cx="28951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8613720" y="6305400"/>
            <a:ext cx="4568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lnSpc>
                <a:spcPct val="100000"/>
              </a:lnSpc>
              <a:buNone/>
              <a:defRPr b="0" lang="uk-UA" sz="1200" spc="-1" strike="noStrike">
                <a:solidFill>
                  <a:srgbClr val="b5a989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DB563114-863B-4BDB-85A5-B85C110F60FD}" type="slidenum">
              <a:rPr b="0" lang="uk-UA" sz="1200" spc="-1" strike="noStrike">
                <a:solidFill>
                  <a:srgbClr val="b5a989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Овал 7"/>
          <p:cNvSpPr/>
          <p:nvPr/>
        </p:nvSpPr>
        <p:spPr>
          <a:xfrm>
            <a:off x="921600" y="1413720"/>
            <a:ext cx="209880" cy="209880"/>
          </a:xfrm>
          <a:prstGeom prst="ellipse">
            <a:avLst/>
          </a:prstGeom>
          <a:gradFill rotWithShape="0">
            <a:gsLst>
              <a:gs pos="0">
                <a:srgbClr val="daf5fe">
                  <a:alpha val="95294"/>
                </a:srgbClr>
              </a:gs>
              <a:gs pos="100000">
                <a:srgbClr val="00aad4">
                  <a:alpha val="85098"/>
                </a:srgbClr>
              </a:gs>
            </a:gsLst>
            <a:path path="circle">
              <a:fillToRect l="25000" t="12000" r="75000" b="88000"/>
            </a:path>
          </a:gradFill>
          <a:ln cap="rnd" w="2000">
            <a:solidFill>
              <a:srgbClr val="3891a7">
                <a:shade val="90000"/>
                <a:satMod val="110000"/>
                <a:alpha val="60000"/>
              </a:srgbClr>
            </a:solidFill>
            <a:round/>
          </a:ln>
          <a:effectLst>
            <a:outerShdw blurRad="63360" dir="5400000" dist="25560" rotWithShape="0">
              <a:srgbClr val="000000">
                <a:alpha val="43000"/>
              </a:srgbClr>
            </a:outerShdw>
          </a:effectLst>
        </p:spPr>
        <p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dk1"/>
              </a:solidFill>
              <a:latin typeface="Gill Sans MT"/>
            </a:endParaRPr>
          </a:p>
        </p:txBody>
      </p:sp>
      <p:sp>
        <p:nvSpPr>
          <p:cNvPr id="10" name="Овал 8"/>
          <p:cNvSpPr/>
          <p:nvPr/>
        </p:nvSpPr>
        <p:spPr>
          <a:xfrm>
            <a:off x="1157040" y="1344960"/>
            <a:ext cx="63720" cy="63720"/>
          </a:xfrm>
          <a:prstGeom prst="ellipse">
            <a:avLst/>
          </a:prstGeom>
          <a:noFill/>
          <a:ln cap="rnd" w="12700">
            <a:solidFill>
              <a:srgbClr val="3891a7">
                <a:shade val="75000"/>
                <a:alpha val="60000"/>
              </a:srgbClr>
            </a:solidFill>
            <a:round/>
          </a:ln>
          <a:effectLst>
            <a:outerShdw blurRad="63360" dir="5400000" dist="25560" rotWithShape="0">
              <a:srgbClr val="000000">
                <a:alpha val="43000"/>
              </a:srgbClr>
            </a:outerShdw>
          </a:effectLst>
        </p:spPr>
        <p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0" bIns="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dk1"/>
              </a:solidFill>
              <a:latin typeface="Gill Sans MT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uk-UA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uk-UA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uk-UA" sz="24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uk-UA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uk-UA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uk-UA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uk-UA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uk-UA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uk-UA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uk-UA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uk-UA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uk-UA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uk-UA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uk-UA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89772" sy="89772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5760" y="-815760"/>
            <a:ext cx="1638360" cy="1638360"/>
          </a:xfrm>
          <a:prstGeom prst="pie">
            <a:avLst>
              <a:gd name="adj1" fmla="val 0"/>
              <a:gd name="adj2" fmla="val 5402120"/>
            </a:avLst>
          </a:prstGeom>
          <a:solidFill>
            <a:schemeClr val="bg2">
              <a:tint val="18000"/>
              <a:satMod val="220000"/>
              <a:alpha val="33000"/>
            </a:schemeClr>
          </a:solidFill>
          <a:ln cap="rnd" w="3175">
            <a:solidFill>
              <a:srgbClr val="e7dec9">
                <a:shade val="70000"/>
                <a:satMod val="200000"/>
                <a:alpha val="100000"/>
              </a:srgbClr>
            </a:solidFill>
            <a:round/>
          </a:ln>
          <a:effectLst>
            <a:outerShdw blurRad="63360" dir="5400000" dist="25560" rotWithShape="0">
              <a:srgbClr val="000000">
                <a:alpha val="43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840" y="21240"/>
            <a:ext cx="1701720" cy="1701720"/>
          </a:xfrm>
          <a:prstGeom prst="ellipse">
            <a:avLst/>
          </a:prstGeom>
          <a:noFill/>
          <a:ln cap="rnd" w="27305">
            <a:solidFill>
              <a:srgbClr val="e7dec9">
                <a:tint val="45000"/>
                <a:satMod val="325000"/>
                <a:alpha val="100000"/>
              </a:srgbClr>
            </a:solidFill>
            <a:round/>
          </a:ln>
          <a:effectLst>
            <a:outerShdw algn="tl" blurRad="25560" dir="5400000" dist="25560" rotWithShape="0">
              <a:schemeClr val="bg2">
                <a:shade val="50000"/>
                <a:satMod val="150000"/>
                <a:alpha val="85000"/>
              </a:scheme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50" name="Кольцо 10"/>
          <p:cNvSpPr/>
          <p:nvPr/>
        </p:nvSpPr>
        <p:spPr>
          <a:xfrm rot="2315400">
            <a:off x="182880" y="1054800"/>
            <a:ext cx="1125360" cy="1102320"/>
          </a:xfrm>
          <a:prstGeom prst="donut">
            <a:avLst>
              <a:gd name="adj" fmla="val 11833"/>
            </a:avLst>
          </a:prstGeom>
          <a:gradFill rotWithShape="0">
            <a:gsLst>
              <a:gs pos="0">
                <a:srgbClr val="eed18e">
                  <a:alpha val="60000"/>
                </a:srgbClr>
              </a:gs>
              <a:gs pos="100000">
                <a:srgbClr val="fefaf6">
                  <a:alpha val="70196"/>
                </a:srgbClr>
              </a:gs>
            </a:gsLst>
            <a:lin ang="13500000"/>
          </a:gradFill>
          <a:ln cap="rnd" w="7350">
            <a:solidFill>
              <a:srgbClr val="e7dec9">
                <a:shade val="60000"/>
                <a:satMod val="220000"/>
                <a:alpha val="100000"/>
              </a:srgbClr>
            </a:solidFill>
            <a:round/>
          </a:ln>
          <a:effectLst>
            <a:outerShdw algn="tl" blurRad="12600" dir="4557825" dist="14843" rotWithShape="0">
              <a:schemeClr val="bg2">
                <a:shade val="10000"/>
                <a:satMod val="200000"/>
                <a:alpha val="35000"/>
              </a:scheme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51" name="Прямоугольник 11"/>
          <p:cNvSpPr/>
          <p:nvPr/>
        </p:nvSpPr>
        <p:spPr>
          <a:xfrm>
            <a:off x="1013040" y="0"/>
            <a:ext cx="8130600" cy="6857640"/>
          </a:xfrm>
          <a:prstGeom prst="rect">
            <a:avLst/>
          </a:prstGeom>
          <a:solidFill>
            <a:schemeClr val="bg1"/>
          </a:solidFill>
          <a:ln>
            <a:noFill/>
          </a:ln>
          <a:effectLst>
            <a:outerShdw blurRad="63360" dir="5400000" dist="25560" rotWithShape="0">
              <a:srgbClr val="000000">
                <a:alpha val="43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52" name="Прямоугольник 14"/>
          <p:cNvSpPr/>
          <p:nvPr/>
        </p:nvSpPr>
        <p:spPr>
          <a:xfrm>
            <a:off x="1014840" y="0"/>
            <a:ext cx="72720" cy="6857640"/>
          </a:xfrm>
          <a:prstGeom prst="rect">
            <a:avLst/>
          </a:prstGeom>
          <a:solidFill>
            <a:schemeClr val="bg1"/>
          </a:solidFill>
          <a:ln>
            <a:noFill/>
          </a:ln>
          <a:effectLst>
            <a:outerShdw algn="tl" blurRad="38520" dir="10800000" dist="38160" rotWithShape="0">
              <a:schemeClr val="bg2">
                <a:shade val="20000"/>
                <a:satMod val="110000"/>
                <a:alpha val="25000"/>
              </a:scheme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300" spc="-1" strike="noStrike">
                <a:solidFill>
                  <a:srgbClr val="572314"/>
                </a:solidFill>
                <a:latin typeface="Gill Sans MT"/>
              </a:rPr>
              <a:t>Образец заголовка</a:t>
            </a:r>
            <a:endParaRPr b="0" lang="uk-UA" sz="4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1435680" y="1447920"/>
            <a:ext cx="7497720" cy="48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lang="ru-RU" sz="3200" spc="-1" strike="noStrike">
                <a:solidFill>
                  <a:srgbClr val="000000"/>
                </a:solidFill>
                <a:latin typeface="Gill Sans MT"/>
              </a:rPr>
              <a:t>Образец текста</a:t>
            </a:r>
            <a:endParaRPr b="0" lang="uk-UA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40080" indent="-23760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</a:pP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Второй уровень</a:t>
            </a:r>
            <a:endParaRPr b="0" lang="uk-UA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7040" indent="-228600">
              <a:lnSpc>
                <a:spcPct val="100000"/>
              </a:lnSpc>
              <a:spcBef>
                <a:spcPts val="479"/>
              </a:spcBef>
              <a:buClr>
                <a:srgbClr val="feb80a"/>
              </a:buClr>
              <a:buFont typeface="Wingdings 2" charset="2"/>
              <a:buChar char=""/>
            </a:pPr>
            <a:r>
              <a:rPr b="0" lang="ru-RU" sz="2400" spc="-1" strike="noStrike">
                <a:solidFill>
                  <a:srgbClr val="000000"/>
                </a:solidFill>
                <a:latin typeface="Gill Sans MT"/>
              </a:rPr>
              <a:t>Третий уровень</a:t>
            </a:r>
            <a:endParaRPr b="0" lang="uk-UA" sz="2400" spc="-1" strike="noStrike">
              <a:solidFill>
                <a:srgbClr val="000000"/>
              </a:solidFill>
              <a:latin typeface="Gill Sans MT"/>
            </a:endParaRPr>
          </a:p>
          <a:p>
            <a:pPr lvl="3" marL="1097280" indent="-173880">
              <a:lnSpc>
                <a:spcPct val="100000"/>
              </a:lnSpc>
              <a:spcBef>
                <a:spcPts val="400"/>
              </a:spcBef>
              <a:buClr>
                <a:srgbClr val="c32d2e"/>
              </a:buClr>
              <a:buFont typeface="Wingdings 2" charset="2"/>
              <a:buChar char="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Четвертый уровень</a:t>
            </a:r>
            <a:endParaRPr b="0" lang="uk-UA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1298520" indent="-182880">
              <a:lnSpc>
                <a:spcPct val="100000"/>
              </a:lnSpc>
              <a:spcBef>
                <a:spcPts val="400"/>
              </a:spcBef>
              <a:buClr>
                <a:srgbClr val="84aa33"/>
              </a:buClr>
              <a:buFont typeface="Wingdings 2" charset="2"/>
              <a:buChar char="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Пятый уровень</a:t>
            </a:r>
            <a:endParaRPr b="0" lang="uk-UA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3581280" y="630540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b5a989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uk-UA" sz="1200" spc="-1" strike="noStrike">
                <a:solidFill>
                  <a:srgbClr val="b5a989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5715000" y="6305400"/>
            <a:ext cx="28951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400"/>
            <a:ext cx="4568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lnSpc>
                <a:spcPct val="100000"/>
              </a:lnSpc>
              <a:buNone/>
              <a:defRPr b="0" lang="uk-UA" sz="1200" spc="-1" strike="noStrike">
                <a:solidFill>
                  <a:srgbClr val="b5a989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234B38CA-5DBE-4C3A-942D-4FF032094D2A}" type="slidenum">
              <a:rPr b="0" lang="uk-UA" sz="1200" spc="-1" strike="noStrike">
                <a:solidFill>
                  <a:srgbClr val="b5a989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89772" sy="89772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Пирог 6" hidden="1"/>
          <p:cNvSpPr/>
          <p:nvPr/>
        </p:nvSpPr>
        <p:spPr>
          <a:xfrm>
            <a:off x="-815760" y="-815760"/>
            <a:ext cx="1638360" cy="1638360"/>
          </a:xfrm>
          <a:prstGeom prst="pie">
            <a:avLst>
              <a:gd name="adj1" fmla="val 0"/>
              <a:gd name="adj2" fmla="val 5402120"/>
            </a:avLst>
          </a:prstGeom>
          <a:solidFill>
            <a:schemeClr val="bg2">
              <a:tint val="18000"/>
              <a:satMod val="220000"/>
              <a:alpha val="33000"/>
            </a:schemeClr>
          </a:solidFill>
          <a:ln cap="rnd" w="3175">
            <a:solidFill>
              <a:srgbClr val="e7dec9">
                <a:shade val="70000"/>
                <a:satMod val="200000"/>
                <a:alpha val="100000"/>
              </a:srgbClr>
            </a:solidFill>
            <a:round/>
          </a:ln>
          <a:effectLst>
            <a:outerShdw blurRad="63360" dir="5400000" dist="25560" rotWithShape="0">
              <a:srgbClr val="000000">
                <a:alpha val="43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95" name="Овал 7" hidden="1"/>
          <p:cNvSpPr/>
          <p:nvPr/>
        </p:nvSpPr>
        <p:spPr>
          <a:xfrm>
            <a:off x="168840" y="21240"/>
            <a:ext cx="1701720" cy="1701720"/>
          </a:xfrm>
          <a:prstGeom prst="ellipse">
            <a:avLst/>
          </a:prstGeom>
          <a:noFill/>
          <a:ln cap="rnd" w="27305">
            <a:solidFill>
              <a:srgbClr val="e7dec9">
                <a:tint val="45000"/>
                <a:satMod val="325000"/>
                <a:alpha val="100000"/>
              </a:srgbClr>
            </a:solidFill>
            <a:round/>
          </a:ln>
          <a:effectLst>
            <a:outerShdw algn="tl" blurRad="25560" dir="5400000" dist="25560" rotWithShape="0">
              <a:schemeClr val="bg2">
                <a:shade val="50000"/>
                <a:satMod val="150000"/>
                <a:alpha val="85000"/>
              </a:scheme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96" name="Кольцо 10" hidden="1"/>
          <p:cNvSpPr/>
          <p:nvPr/>
        </p:nvSpPr>
        <p:spPr>
          <a:xfrm rot="2315400">
            <a:off x="182880" y="1054800"/>
            <a:ext cx="1125360" cy="1102320"/>
          </a:xfrm>
          <a:prstGeom prst="donut">
            <a:avLst>
              <a:gd name="adj" fmla="val 11833"/>
            </a:avLst>
          </a:prstGeom>
          <a:gradFill rotWithShape="0">
            <a:gsLst>
              <a:gs pos="0">
                <a:srgbClr val="eed18e">
                  <a:alpha val="60000"/>
                </a:srgbClr>
              </a:gs>
              <a:gs pos="100000">
                <a:srgbClr val="fefaf6">
                  <a:alpha val="70196"/>
                </a:srgbClr>
              </a:gs>
            </a:gsLst>
            <a:lin ang="13500000"/>
          </a:gradFill>
          <a:ln cap="rnd" w="7350">
            <a:solidFill>
              <a:srgbClr val="e7dec9">
                <a:shade val="60000"/>
                <a:satMod val="220000"/>
                <a:alpha val="100000"/>
              </a:srgbClr>
            </a:solidFill>
            <a:round/>
          </a:ln>
          <a:effectLst>
            <a:outerShdw algn="tl" blurRad="12600" dir="4557825" dist="14843" rotWithShape="0">
              <a:schemeClr val="bg2">
                <a:shade val="10000"/>
                <a:satMod val="200000"/>
                <a:alpha val="35000"/>
              </a:scheme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97" name="Прямоугольник 11" hidden="1"/>
          <p:cNvSpPr/>
          <p:nvPr/>
        </p:nvSpPr>
        <p:spPr>
          <a:xfrm>
            <a:off x="1013040" y="0"/>
            <a:ext cx="8130600" cy="6857640"/>
          </a:xfrm>
          <a:prstGeom prst="rect">
            <a:avLst/>
          </a:prstGeom>
          <a:solidFill>
            <a:schemeClr val="bg1"/>
          </a:solidFill>
          <a:ln>
            <a:noFill/>
          </a:ln>
          <a:effectLst>
            <a:outerShdw blurRad="63360" dir="5400000" dist="25560" rotWithShape="0">
              <a:srgbClr val="000000">
                <a:alpha val="43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98" name="Прямоугольник 14" hidden="1"/>
          <p:cNvSpPr/>
          <p:nvPr/>
        </p:nvSpPr>
        <p:spPr>
          <a:xfrm>
            <a:off x="1014840" y="0"/>
            <a:ext cx="72720" cy="6857640"/>
          </a:xfrm>
          <a:prstGeom prst="rect">
            <a:avLst/>
          </a:prstGeom>
          <a:solidFill>
            <a:schemeClr val="bg1"/>
          </a:solidFill>
          <a:ln>
            <a:noFill/>
          </a:ln>
          <a:effectLst>
            <a:outerShdw algn="tl" blurRad="38520" dir="10800000" dist="38160" rotWithShape="0">
              <a:schemeClr val="bg2">
                <a:shade val="20000"/>
                <a:satMod val="110000"/>
                <a:alpha val="25000"/>
              </a:scheme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99" name="Прямоугольник 4"/>
          <p:cNvSpPr/>
          <p:nvPr/>
        </p:nvSpPr>
        <p:spPr>
          <a:xfrm>
            <a:off x="1014840" y="0"/>
            <a:ext cx="8128800" cy="6857640"/>
          </a:xfrm>
          <a:prstGeom prst="rect">
            <a:avLst/>
          </a:prstGeom>
          <a:solidFill>
            <a:schemeClr val="bg1"/>
          </a:solidFill>
          <a:ln>
            <a:noFill/>
          </a:ln>
          <a:effectLst>
            <a:outerShdw blurRad="63360" dir="5400000" dist="25560" rotWithShape="0">
              <a:srgbClr val="000000">
                <a:alpha val="43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dt" idx="7"/>
          </p:nvPr>
        </p:nvSpPr>
        <p:spPr>
          <a:xfrm>
            <a:off x="3581280" y="630540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b5a989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uk-UA" sz="1200" spc="-1" strike="noStrike">
                <a:solidFill>
                  <a:srgbClr val="b5a989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ftr" idx="8"/>
          </p:nvPr>
        </p:nvSpPr>
        <p:spPr>
          <a:xfrm>
            <a:off x="5715000" y="6305400"/>
            <a:ext cx="28951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Num" idx="9"/>
          </p:nvPr>
        </p:nvSpPr>
        <p:spPr>
          <a:xfrm>
            <a:off x="8613720" y="6305400"/>
            <a:ext cx="4568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lnSpc>
                <a:spcPct val="100000"/>
              </a:lnSpc>
              <a:buNone/>
              <a:defRPr b="0" lang="uk-UA" sz="1200" spc="-1" strike="noStrike">
                <a:solidFill>
                  <a:srgbClr val="b5a989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33B691F4-2B8D-429C-B3D7-EA8111D09647}" type="slidenum">
              <a:rPr b="0" lang="uk-UA" sz="1200" spc="-1" strike="noStrike">
                <a:solidFill>
                  <a:srgbClr val="b5a989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Прямоугольник 5"/>
          <p:cNvSpPr/>
          <p:nvPr/>
        </p:nvSpPr>
        <p:spPr>
          <a:xfrm>
            <a:off x="1014840" y="0"/>
            <a:ext cx="72720" cy="6857640"/>
          </a:xfrm>
          <a:prstGeom prst="rect">
            <a:avLst/>
          </a:prstGeom>
          <a:solidFill>
            <a:schemeClr val="bg1"/>
          </a:solidFill>
          <a:ln>
            <a:noFill/>
          </a:ln>
          <a:effectLst>
            <a:outerShdw algn="tl" blurRad="38520" dir="10800000" dist="38160" rotWithShape="0">
              <a:schemeClr val="bg2">
                <a:shade val="20000"/>
                <a:satMod val="110000"/>
                <a:alpha val="25000"/>
              </a:scheme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uk-UA" sz="18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uk-UA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uk-UA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uk-UA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uk-UA" sz="24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uk-UA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uk-UA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uk-UA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uk-UA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uk-UA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uk-UA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uk-UA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uk-UA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uk-UA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uk-UA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uk-UA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image" Target="../media/image22.jpeg"/><Relationship Id="rId7" Type="http://schemas.openxmlformats.org/officeDocument/2006/relationships/image" Target="../media/image23.jpeg"/><Relationship Id="rId8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522080" y="9936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uk-UA" sz="4300" spc="-1" strike="noStrike">
                <a:solidFill>
                  <a:srgbClr val="572314"/>
                </a:solidFill>
                <a:latin typeface="Gill Sans MT"/>
              </a:rPr>
              <a:t>Значення творчості Івана Франка та її актуальність</a:t>
            </a:r>
            <a:endParaRPr b="0" lang="uk-UA" sz="4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296240" y="1837800"/>
            <a:ext cx="3133080" cy="270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5000" anchor="t">
            <a:noAutofit/>
          </a:bodyPr>
          <a:p>
            <a:pPr marL="27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uk-UA" sz="2800" spc="-1" strike="noStrike">
                <a:solidFill>
                  <a:srgbClr val="361309"/>
                </a:solidFill>
                <a:latin typeface="Gill Sans MT"/>
              </a:rPr>
              <a:t>Роботу викона</a:t>
            </a:r>
            <a:r>
              <a:rPr b="0" lang="ru-RU" sz="2800" spc="-1" strike="noStrike">
                <a:solidFill>
                  <a:srgbClr val="361309"/>
                </a:solidFill>
                <a:latin typeface="Gill Sans MT"/>
              </a:rPr>
              <a:t>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uk-UA" sz="2800" spc="-1" strike="noStrike">
                <a:solidFill>
                  <a:srgbClr val="361309"/>
                </a:solidFill>
                <a:latin typeface="Gill Sans MT"/>
              </a:rPr>
              <a:t>У</a:t>
            </a:r>
            <a:r>
              <a:rPr b="0" lang="ru-RU" sz="2800" spc="-1" strike="noStrike">
                <a:solidFill>
                  <a:srgbClr val="361309"/>
                </a:solidFill>
                <a:latin typeface="Gill Sans MT"/>
              </a:rPr>
              <a:t>чн</a:t>
            </a:r>
            <a:r>
              <a:rPr b="0" lang="uk-UA" sz="2800" spc="-1" strike="noStrike">
                <a:solidFill>
                  <a:srgbClr val="361309"/>
                </a:solidFill>
                <a:latin typeface="Gill Sans MT"/>
              </a:rPr>
              <a:t>І 10-А клас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uk-UA" sz="2800" spc="-1" strike="noStrike">
                <a:solidFill>
                  <a:srgbClr val="361309"/>
                </a:solidFill>
                <a:latin typeface="Gill Sans MT"/>
              </a:rPr>
              <a:t>Клименок Роман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uk-UA" sz="2800" spc="-1" strike="noStrike">
                <a:solidFill>
                  <a:srgbClr val="361309"/>
                </a:solidFill>
                <a:latin typeface="Gill Sans MT"/>
              </a:rPr>
              <a:t>Суворов Артем 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uk-UA" sz="2800" spc="-1" strike="noStrike">
                <a:solidFill>
                  <a:srgbClr val="361309"/>
                </a:solidFill>
                <a:latin typeface="Gill Sans MT"/>
              </a:rPr>
              <a:t>Салай Михайл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Рисунок 5" descr=""/>
          <p:cNvPicPr/>
          <p:nvPr/>
        </p:nvPicPr>
        <p:blipFill>
          <a:blip r:embed="rId1"/>
          <a:stretch/>
        </p:blipFill>
        <p:spPr>
          <a:xfrm>
            <a:off x="438120" y="1569600"/>
            <a:ext cx="2845440" cy="40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Box 1"/>
          <p:cNvSpPr/>
          <p:nvPr/>
        </p:nvSpPr>
        <p:spPr>
          <a:xfrm>
            <a:off x="1271160" y="142920"/>
            <a:ext cx="7372440" cy="29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Іван Франко залишив помітний слід в українській культурі і як критик та літературознавець. Важливу роль відіграли його теоретичні праці «Література, її завдання і найважніші ціхи», «Влада землі в сучасному романі», розвідки та нариси про Т. Шевченка, М. Старицького, В. Самійленка, Лесю Українку.</a:t>
            </a:r>
            <a:br>
              <a:rPr sz="18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2" descr="http://upload.wikimedia.org/wikipedia/commons/thumb/b/bc/%D0%A4%D1%80%D0%B0%D0%BD%D0%BA%D0%BE_%D0%9A%D0%BD%D1%8F%D0%B7%D1%8F_%D0%A0%D0%BE%D0%BC%D0%B0%D0%BD%D0%B0.png/150px-%D0%A4%D1%80%D0%B0%D0%BD%D0%BA%D0%BE_%D0%9A%D0%BD%D1%8F%D0%B7%D1%8F_%D0%A0%D0%BE%D0%BC%D0%B0%D0%BD%D0%B0.png"/>
          <p:cNvPicPr/>
          <p:nvPr/>
        </p:nvPicPr>
        <p:blipFill>
          <a:blip r:embed="rId1"/>
          <a:stretch/>
        </p:blipFill>
        <p:spPr>
          <a:xfrm>
            <a:off x="2225880" y="3799440"/>
            <a:ext cx="2214360" cy="295236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6" descr="http://upload.wikimedia.org/wikipedia/commons/thumb/e/ef/%D0%9B%D1%8C%D0%B2%D1%96%D0%B2%2C_%D0%BF%D0%B0%D0%BC._%D0%86.%D0%A4%D1%80%D0%B0%D0%BD%D0%BA%D1%83.jpg/210px-%D0%9B%D1%8C%D0%B2%D1%96%D0%B2%2C_%D0%BF%D0%B0%D0%BC._%D0%86.%D0%A4%D1%80%D0%B0%D0%BD%D0%BA%D1%83.jpg"/>
          <p:cNvPicPr/>
          <p:nvPr/>
        </p:nvPicPr>
        <p:blipFill>
          <a:blip r:embed="rId2"/>
          <a:stretch/>
        </p:blipFill>
        <p:spPr>
          <a:xfrm>
            <a:off x="4607640" y="2773080"/>
            <a:ext cx="1999800" cy="26665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8" descr="http://upload.wikimedia.org/wikipedia/uk/thumb/e/ec/%D0%9D%D0%B0%D0%B3%D1%83%D1%94%D0%B2%D0%B8%D1%87%D1%96_%D0%A4%D1%80%D0%B0%D0%BD%D0%BA%D0%BE.jpg/200px-%D0%9D%D0%B0%D0%B3%D1%83%D1%94%D0%B2%D0%B8%D1%87%D1%96_%D0%A4%D1%80%D0%B0%D0%BD%D0%BA%D0%BE.jpg"/>
          <p:cNvPicPr/>
          <p:nvPr/>
        </p:nvPicPr>
        <p:blipFill>
          <a:blip r:embed="rId3"/>
          <a:stretch/>
        </p:blipFill>
        <p:spPr>
          <a:xfrm>
            <a:off x="7052400" y="2657520"/>
            <a:ext cx="1904760" cy="254268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2" descr="http://upload.wikimedia.org/wikipedia/commons/thumb/a/a3/20-Hryvnia-2000-front.jpg/120px-20-Hryvnia-2000-front.jpg"/>
          <p:cNvPicPr/>
          <p:nvPr/>
        </p:nvPicPr>
        <p:blipFill>
          <a:blip r:embed="rId4"/>
          <a:stretch/>
        </p:blipFill>
        <p:spPr>
          <a:xfrm>
            <a:off x="122040" y="2950920"/>
            <a:ext cx="1876680" cy="9946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4" descr="http://upload.wikimedia.org/wikipedia/uk/thumb/6/6c/%D0%86%D0%B2%D0%B0%D0%BD%D0%B0_%D0%A4%D1%80%D0%B0%D0%BD%D0%BA%D0%B0_%D0%B1%D1%83%D0%B4%D0%B8%D0%BD%D0%BE%D0%BA.jpg/120px-%D0%86%D0%B2%D0%B0%D0%BD%D0%B0_%D0%A4%D1%80%D0%B0%D0%BD%D0%BA%D0%B0_%D0%B1%D1%83%D0%B4%D0%B8%D0%BD%D0%BE%D0%BA.jpg"/>
          <p:cNvPicPr/>
          <p:nvPr/>
        </p:nvPicPr>
        <p:blipFill>
          <a:blip r:embed="rId5"/>
          <a:stretch/>
        </p:blipFill>
        <p:spPr>
          <a:xfrm>
            <a:off x="115920" y="4448160"/>
            <a:ext cx="1785600" cy="169632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6" descr="http://upload.wikimedia.org/wikipedia/commons/thumb/3/3e/Museum_ivan_franko.jpg/120px-Museum_ivan_franko.jpg"/>
          <p:cNvPicPr/>
          <p:nvPr/>
        </p:nvPicPr>
        <p:blipFill>
          <a:blip r:embed="rId6"/>
          <a:stretch/>
        </p:blipFill>
        <p:spPr>
          <a:xfrm>
            <a:off x="4611240" y="5537880"/>
            <a:ext cx="1995840" cy="121392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8" descr="http://upload.wikimedia.org/wikipedia/commons/thumb/3/3c/S747.jpg/120px-S747.jpg"/>
          <p:cNvPicPr/>
          <p:nvPr/>
        </p:nvPicPr>
        <p:blipFill>
          <a:blip r:embed="rId7"/>
          <a:stretch/>
        </p:blipFill>
        <p:spPr>
          <a:xfrm>
            <a:off x="6834240" y="5284800"/>
            <a:ext cx="2071440" cy="14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Box 1"/>
          <p:cNvSpPr/>
          <p:nvPr/>
        </p:nvSpPr>
        <p:spPr>
          <a:xfrm>
            <a:off x="4811400" y="100800"/>
            <a:ext cx="433224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uk-UA" sz="2800" spc="-1" strike="noStrike">
                <a:solidFill>
                  <a:srgbClr val="808080"/>
                </a:solidFill>
                <a:latin typeface="Gill Sans MT"/>
              </a:rPr>
              <a:t>Іван Франко розкриває незламний дух у поемі «Мойсей»,який актуальний в теперішній час в Україні та в світі,адже перемагають завжди ті,хто борються та вірять в перемогу,ті,котрі готові чимось пожертвувати аби досягти мети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Box 2"/>
          <p:cNvSpPr/>
          <p:nvPr/>
        </p:nvSpPr>
        <p:spPr>
          <a:xfrm>
            <a:off x="2160000" y="5111640"/>
            <a:ext cx="626076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uk-UA" sz="2400" spc="-1" strike="noStrike">
                <a:solidFill>
                  <a:srgbClr val="0070c0"/>
                </a:solidFill>
                <a:latin typeface="Gill Sans MT"/>
              </a:rPr>
              <a:t>Як писав О.Білецький: « «Мойсей» Франка-це заповіт українському народові.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Рисунок 4" descr=""/>
          <p:cNvPicPr/>
          <p:nvPr/>
        </p:nvPicPr>
        <p:blipFill>
          <a:blip r:embed="rId1"/>
          <a:stretch/>
        </p:blipFill>
        <p:spPr>
          <a:xfrm>
            <a:off x="1336320" y="243720"/>
            <a:ext cx="3070080" cy="366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Box 3"/>
          <p:cNvSpPr/>
          <p:nvPr/>
        </p:nvSpPr>
        <p:spPr>
          <a:xfrm>
            <a:off x="1227960" y="357120"/>
            <a:ext cx="7486920" cy="15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Іван Франко — геніальний поет, що залишив своїм нащадкам коштовн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перлини в літературі усього світ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2" descr="Всі новини - Сторінка 1287 - Стрічка новин Львова"/>
          <p:cNvPicPr/>
          <p:nvPr/>
        </p:nvPicPr>
        <p:blipFill>
          <a:blip r:embed="rId1"/>
          <a:stretch/>
        </p:blipFill>
        <p:spPr>
          <a:xfrm>
            <a:off x="357120" y="2071800"/>
            <a:ext cx="6071760" cy="45460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4" descr="Форум - Історичне Прикарпаття :: Перегляд теми - Великі українці: Іван Франко"/>
          <p:cNvPicPr/>
          <p:nvPr/>
        </p:nvPicPr>
        <p:blipFill>
          <a:blip r:embed="rId2"/>
          <a:stretch/>
        </p:blipFill>
        <p:spPr>
          <a:xfrm>
            <a:off x="6429240" y="2143080"/>
            <a:ext cx="2428560" cy="33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Box 1"/>
          <p:cNvSpPr/>
          <p:nvPr/>
        </p:nvSpPr>
        <p:spPr>
          <a:xfrm>
            <a:off x="985320" y="500040"/>
            <a:ext cx="4276080" cy="264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Невтомним Каменярем на шляхах прогресу, Вічним революціонером і Титаном праці ввійшов Іван Франко в історю української та світової літератури і громадсько-політичної дум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2" descr="Фотографії українських письменників 44 фотографии ВКонтакте"/>
          <p:cNvPicPr/>
          <p:nvPr/>
        </p:nvPicPr>
        <p:blipFill>
          <a:blip r:embed="rId1"/>
          <a:stretch/>
        </p:blipFill>
        <p:spPr>
          <a:xfrm>
            <a:off x="5762160" y="0"/>
            <a:ext cx="3071520" cy="40518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4" descr="Великие украинцы. Иван Франко - Документальное кино - Телеканал &quot;Интер+&quot;"/>
          <p:cNvPicPr/>
          <p:nvPr/>
        </p:nvPicPr>
        <p:blipFill>
          <a:blip r:embed="rId2"/>
          <a:stretch/>
        </p:blipFill>
        <p:spPr>
          <a:xfrm>
            <a:off x="2440440" y="4192560"/>
            <a:ext cx="2666520" cy="17809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6" descr="&quot;Преданья старины глубокой...&quot; Газета &quot;День&quot;"/>
          <p:cNvPicPr/>
          <p:nvPr/>
        </p:nvPicPr>
        <p:blipFill>
          <a:blip r:embed="rId3"/>
          <a:stretch/>
        </p:blipFill>
        <p:spPr>
          <a:xfrm>
            <a:off x="6250320" y="3515760"/>
            <a:ext cx="2095200" cy="28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Box 4"/>
          <p:cNvSpPr/>
          <p:nvPr/>
        </p:nvSpPr>
        <p:spPr>
          <a:xfrm>
            <a:off x="3637800" y="758880"/>
            <a:ext cx="4865400" cy="374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TextBox 6"/>
          <p:cNvSpPr/>
          <p:nvPr/>
        </p:nvSpPr>
        <p:spPr>
          <a:xfrm>
            <a:off x="2157840" y="591120"/>
            <a:ext cx="6108840" cy="55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Gill Sans MT"/>
              </a:rPr>
              <a:t>Дмитро Павличко писав: «Астрономи твердять, що всесвіт виник із дрібного зер­нятка вогняної матерії, вибух якого наповнив простори зорями й планетами, хоч неможливо уявити силу, здатну вмістити про­граму космосу в одному зерні. Галактика творів Івана Франка так само народилася з пилинки вогню. На вигляд звичайна окалина, або, як кажуть бойки, дзиндра, а насправді незбагненна клітина божественного пломеню, «правдива іскра Прометея», злетіла… вибухнула вулканами любові до праці, до правди, до свободи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Box 1"/>
          <p:cNvSpPr/>
          <p:nvPr/>
        </p:nvSpPr>
        <p:spPr>
          <a:xfrm>
            <a:off x="1202040" y="571320"/>
            <a:ext cx="7298640" cy="35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изначаючи місце Івана Франка у літературному процесі, слід у першу чергу, вказати на те, що після Шевченка він був найвидатнішою постаттю в українській літературі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,оскільки він продовжив «місію» Шевченка,пишучи поза рамками встановленої цензури та розкриваючи людям тогочасну дійсніс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4" descr="Украина. Марки Петербурга - интернет-магазин"/>
          <p:cNvPicPr/>
          <p:nvPr/>
        </p:nvPicPr>
        <p:blipFill>
          <a:blip r:embed="rId1"/>
          <a:stretch/>
        </p:blipFill>
        <p:spPr>
          <a:xfrm>
            <a:off x="4071960" y="3744360"/>
            <a:ext cx="4809960" cy="311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Box 1"/>
          <p:cNvSpPr/>
          <p:nvPr/>
        </p:nvSpPr>
        <p:spPr>
          <a:xfrm>
            <a:off x="2808360" y="118080"/>
            <a:ext cx="6256440" cy="56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Ф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нко високо ставив поетичне слово, вимагав, щоб письменники підвищували свою поетичну майстерність і наполегливо працювали над збагаченням і вдосконаленням мов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исьменники вчаться у І. Франка, осмислюють секрети його творчості, дієвості його слова, але, як пише В. Коротич: «Поети лиш тоді стають Франками, Коли живуть, як він, Лиш так, як він…»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4" descr="Иван Франко :: Богдан Вовк - Социальная сеть о фотографии ФотоКто"/>
          <p:cNvPicPr/>
          <p:nvPr/>
        </p:nvPicPr>
        <p:blipFill>
          <a:blip r:embed="rId1"/>
          <a:stretch/>
        </p:blipFill>
        <p:spPr>
          <a:xfrm>
            <a:off x="187920" y="1219320"/>
            <a:ext cx="2619720" cy="378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Box 1"/>
          <p:cNvSpPr/>
          <p:nvPr/>
        </p:nvSpPr>
        <p:spPr>
          <a:xfrm>
            <a:off x="4857840" y="571320"/>
            <a:ext cx="3428640" cy="41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Франко художньо відтворив зародження революційної свідомості робітничого класу і перші організовані виступи робітників нафтових промислів у Галичині, показав сильні і слабкі сторони робітничого руху в Галичині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2" descr="Экскурсионные туры по Львову, отдых, путешествия, туры по Украине, экскурсии по Львову, организация корпоративов- Туроператор Вы"/>
          <p:cNvPicPr/>
          <p:nvPr/>
        </p:nvPicPr>
        <p:blipFill>
          <a:blip r:embed="rId1"/>
          <a:stretch/>
        </p:blipFill>
        <p:spPr>
          <a:xfrm>
            <a:off x="0" y="0"/>
            <a:ext cx="4474440" cy="335736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6" descr="mysldrv_ru - Новая фотография Ивана Франко"/>
          <p:cNvPicPr/>
          <p:nvPr/>
        </p:nvPicPr>
        <p:blipFill>
          <a:blip r:embed="rId2"/>
          <a:stretch/>
        </p:blipFill>
        <p:spPr>
          <a:xfrm>
            <a:off x="379440" y="3549600"/>
            <a:ext cx="2415960" cy="3168360"/>
          </a:xfrm>
          <a:prstGeom prst="rect">
            <a:avLst/>
          </a:prstGeom>
          <a:ln w="0">
            <a:noFill/>
          </a:ln>
        </p:spPr>
      </p:pic>
      <p:sp>
        <p:nvSpPr>
          <p:cNvPr id="161" name="TextBox 2"/>
          <p:cNvSpPr/>
          <p:nvPr/>
        </p:nvSpPr>
        <p:spPr>
          <a:xfrm>
            <a:off x="3281040" y="5025600"/>
            <a:ext cx="5970960" cy="10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uk-UA" sz="2000" spc="-1" strike="noStrike">
                <a:solidFill>
                  <a:srgbClr val="000000"/>
                </a:solidFill>
                <a:latin typeface="Gill Sans MT"/>
              </a:rPr>
              <a:t>Гарним прикладом можна назвати повість І.Я.Франка «Борислав сміється» та всім відомий «Гімн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Box 1"/>
          <p:cNvSpPr/>
          <p:nvPr/>
        </p:nvSpPr>
        <p:spPr>
          <a:xfrm>
            <a:off x="1369800" y="571320"/>
            <a:ext cx="7345440" cy="26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Вже на початку 80-х років ХІХ ст. Франко, завдяки своїй творчості і літературно-громадській діяльності, став найбільш популярним українським письменником, очолив революційно-демократичну течію в українській літературі.</a:t>
            </a:r>
            <a:r>
              <a:rPr b="0" lang="uk-UA" sz="1800" spc="-1" strike="noStrike">
                <a:solidFill>
                  <a:srgbClr val="000000"/>
                </a:solidFill>
                <a:latin typeface="Gill Sans MT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" descr="Иван Труш. Портрет Ивана Франко. 1913 г."/>
          <p:cNvPicPr/>
          <p:nvPr/>
        </p:nvPicPr>
        <p:blipFill>
          <a:blip r:embed="rId1"/>
          <a:stretch/>
        </p:blipFill>
        <p:spPr>
          <a:xfrm>
            <a:off x="428760" y="2786040"/>
            <a:ext cx="2642760" cy="396684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4" descr="Купить Художественная литература в интернет-магазине Comteh.com Художественная литература продажа в Донецке, Днепропетровске, Ха"/>
          <p:cNvPicPr/>
          <p:nvPr/>
        </p:nvPicPr>
        <p:blipFill>
          <a:blip r:embed="rId2"/>
          <a:stretch/>
        </p:blipFill>
        <p:spPr>
          <a:xfrm>
            <a:off x="6715080" y="2870280"/>
            <a:ext cx="2428560" cy="39873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" descr="varjag_2007: Сын Ивана Франко про 17 сентября 1939 года"/>
          <p:cNvPicPr/>
          <p:nvPr/>
        </p:nvPicPr>
        <p:blipFill>
          <a:blip r:embed="rId3"/>
          <a:stretch/>
        </p:blipFill>
        <p:spPr>
          <a:xfrm>
            <a:off x="3286080" y="3302280"/>
            <a:ext cx="2928600" cy="290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2" descr="Франкиана Газета &quot;День&quot;"/>
          <p:cNvPicPr/>
          <p:nvPr/>
        </p:nvPicPr>
        <p:blipFill>
          <a:blip r:embed="rId1"/>
          <a:stretch/>
        </p:blipFill>
        <p:spPr>
          <a:xfrm>
            <a:off x="6335640" y="3339720"/>
            <a:ext cx="2381040" cy="3428640"/>
          </a:xfrm>
          <a:prstGeom prst="rect">
            <a:avLst/>
          </a:prstGeom>
          <a:ln w="0">
            <a:noFill/>
          </a:ln>
        </p:spPr>
      </p:pic>
      <p:sp>
        <p:nvSpPr>
          <p:cNvPr id="167" name="TextBox 4"/>
          <p:cNvSpPr/>
          <p:nvPr/>
        </p:nvSpPr>
        <p:spPr>
          <a:xfrm>
            <a:off x="5805720" y="3436920"/>
            <a:ext cx="1828440" cy="18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68" name="Picture 2" descr="Архів новин - ЗНАТИ ЩОБ РОЗУМІТИ"/>
          <p:cNvPicPr/>
          <p:nvPr/>
        </p:nvPicPr>
        <p:blipFill>
          <a:blip r:embed="rId2"/>
          <a:stretch/>
        </p:blipFill>
        <p:spPr>
          <a:xfrm>
            <a:off x="1534680" y="4109040"/>
            <a:ext cx="3661920" cy="2463120"/>
          </a:xfrm>
          <a:prstGeom prst="rect">
            <a:avLst/>
          </a:prstGeom>
          <a:ln w="0">
            <a:noFill/>
          </a:ln>
        </p:spPr>
      </p:pic>
      <p:sp>
        <p:nvSpPr>
          <p:cNvPr id="169" name="TextBox 8"/>
          <p:cNvSpPr/>
          <p:nvPr/>
        </p:nvSpPr>
        <p:spPr>
          <a:xfrm>
            <a:off x="926280" y="-327600"/>
            <a:ext cx="6707880" cy="41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spAutoFit/>
          </a:bodyPr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Gill Sans MT"/>
              </a:rPr>
              <a:t>Іван Франко по праву займає особливе місце в українській літературі. Він відомий за межами України не тільки як поет, письменник, драматург, але й літературознавець, фольклорист, історик, перекладач. Із щедрої Франкової криниці черпають творчу наснагу нові покоління письменників, живописців, композиторів. «Які прекрасні сходи дає в наші дні те насіння, що його разом з іншими сіяв і</a:t>
            </a:r>
            <a:r>
              <a:rPr b="0" lang="uk-UA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Gill Sans MT"/>
              </a:rPr>
              <a:t>наш Франко», - писав Олесь Гонча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Солнцестояние">
  <a:themeElements>
    <a:clrScheme name="Солнцестояние">
      <a:dk1>
        <a:srgbClr val="000000"/>
      </a:dk1>
      <a:lt1>
        <a:srgbClr val="ffffff"/>
      </a:lt1>
      <a:dk2>
        <a:srgbClr val="4f271c"/>
      </a:dk2>
      <a:lt2>
        <a:srgbClr val="e7dec9"/>
      </a:lt2>
      <a:accent1>
        <a:srgbClr val="3891a7"/>
      </a:accent1>
      <a:accent2>
        <a:srgbClr val="feb80a"/>
      </a:accent2>
      <a:accent3>
        <a:srgbClr val="c32d2e"/>
      </a:accent3>
      <a:accent4>
        <a:srgbClr val="84aa33"/>
      </a:accent4>
      <a:accent5>
        <a:srgbClr val="964305"/>
      </a:accent5>
      <a:accent6>
        <a:srgbClr val="475a8d"/>
      </a:accent6>
      <a:hlink>
        <a:srgbClr val="8dc765"/>
      </a:hlink>
      <a:folHlink>
        <a:srgbClr val="aa8a1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Солнцестояние">
  <a:themeElements>
    <a:clrScheme name="Солнцестояние">
      <a:dk1>
        <a:srgbClr val="000000"/>
      </a:dk1>
      <a:lt1>
        <a:srgbClr val="ffffff"/>
      </a:lt1>
      <a:dk2>
        <a:srgbClr val="4f271c"/>
      </a:dk2>
      <a:lt2>
        <a:srgbClr val="e7dec9"/>
      </a:lt2>
      <a:accent1>
        <a:srgbClr val="3891a7"/>
      </a:accent1>
      <a:accent2>
        <a:srgbClr val="feb80a"/>
      </a:accent2>
      <a:accent3>
        <a:srgbClr val="c32d2e"/>
      </a:accent3>
      <a:accent4>
        <a:srgbClr val="84aa33"/>
      </a:accent4>
      <a:accent5>
        <a:srgbClr val="964305"/>
      </a:accent5>
      <a:accent6>
        <a:srgbClr val="475a8d"/>
      </a:accent6>
      <a:hlink>
        <a:srgbClr val="8dc765"/>
      </a:hlink>
      <a:folHlink>
        <a:srgbClr val="aa8a1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Солнцестояние">
  <a:themeElements>
    <a:clrScheme name="Солнцестояние">
      <a:dk1>
        <a:srgbClr val="000000"/>
      </a:dk1>
      <a:lt1>
        <a:srgbClr val="ffffff"/>
      </a:lt1>
      <a:dk2>
        <a:srgbClr val="4f271c"/>
      </a:dk2>
      <a:lt2>
        <a:srgbClr val="e7dec9"/>
      </a:lt2>
      <a:accent1>
        <a:srgbClr val="3891a7"/>
      </a:accent1>
      <a:accent2>
        <a:srgbClr val="feb80a"/>
      </a:accent2>
      <a:accent3>
        <a:srgbClr val="c32d2e"/>
      </a:accent3>
      <a:accent4>
        <a:srgbClr val="84aa33"/>
      </a:accent4>
      <a:accent5>
        <a:srgbClr val="964305"/>
      </a:accent5>
      <a:accent6>
        <a:srgbClr val="475a8d"/>
      </a:accent6>
      <a:hlink>
        <a:srgbClr val="8dc765"/>
      </a:hlink>
      <a:folHlink>
        <a:srgbClr val="aa8a1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Solstice</Template>
  <TotalTime>41</TotalTime>
  <Application>LibreOffice/7.4.7.2$Linux_X86_64 LibreOffice_project/40$Build-2</Application>
  <AppVersion>15.0000</AppVersion>
  <Words>365</Words>
  <Paragraphs>18</Paragraphs>
  <Company>DNA Project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8:16:41Z</dcterms:created>
  <dc:creator>DNA7 X86</dc:creator>
  <dc:description/>
  <dc:language>en-US</dc:language>
  <cp:lastModifiedBy>User</cp:lastModifiedBy>
  <dcterms:modified xsi:type="dcterms:W3CDTF">2017-01-17T20:30:50Z</dcterms:modified>
  <cp:revision>11</cp:revision>
  <dc:subject/>
  <dc:title>Значення творчості Івана Франк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11</vt:r8>
  </property>
</Properties>
</file>