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1CF-382D-44E5-97F3-4439036C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E2B-71F4-49BF-8A45-A5FD24AF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8FE-E624-4E73-8E4D-A46F4C4E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8C3-5659-435A-B78E-0B269F23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C8F7-B800-4974-893F-D701A071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C926-5A29-48E3-81F9-750841D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950C-A07B-44CE-BA0A-2DCA5AF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6813-18DC-4F3C-BF79-47B8671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E4CB-2D05-4C25-BDA9-BE9FF2A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DB5-2DA5-43CF-805D-6FEF68D4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30E5-2C08-4C5D-B2BD-E13BBD5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9DF-D28D-4BD0-8C6C-46D6D391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EDA2-95FE-47A8-94BC-BA32D9C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4CA-6C5A-4247-94B1-AAC9DEB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A454-4875-4977-9EAE-22141C6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206-DC5C-4829-9607-EB7A0C5C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06A-6FCB-41EB-BA00-EF32AF5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07CA-7AF9-4E09-BF2D-32B562B6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28C7-E0CD-4448-AB37-E7B1F550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0633-2353-4A2E-BD04-F9B25201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FDBD-F7CC-46B9-9813-AFB809AA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EB6A-6EAC-41C1-ABF5-89CD6FF4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AEE-E6AA-48E7-B71C-A80F3E79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A5DD-B97F-45A1-9E65-BE6DEA7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9579-9B51-4BEE-9E41-1806306C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F9D6-15F0-4FFE-BB12-C08EAD0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AF8E-1896-4C7E-A3D1-E1322B6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599D-B62E-42AF-AD5F-EDB4E0E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9F9A7-ABB1-4783-9C3D-420353D7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0855-6419-408C-906C-CC6DF6CE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45C-2678-48A0-98A3-BEFEDF10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A38-BD17-44BF-86F7-7A14D361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53E-A57D-4DB4-87A7-95F04BFA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DCD-CD61-4461-A0A3-A7E967E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44B-1C8F-4772-8668-277D6FC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5D5-1927-420A-8D78-BCC2F6E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87FE88-0C2E-40F2-8DF9-D6AE59310609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A57670-1AB8-4B53-A0B6-8243DE33ECA8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EBE93D-D51C-46CA-830D-B561BEB94BCF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080" y="99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uk-UA" sz="4300" spc="-1" strike="noStrike">
                <a:solidFill>
                  <a:srgbClr val="572314"/>
                </a:solidFill>
                <a:latin typeface="Gill Sans MT"/>
              </a:rPr>
              <a:t>Значення творчості Івана Франка та її актуальність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296240" y="1837800"/>
            <a:ext cx="3133080" cy="27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Роботу викона</a:t>
            </a:r>
            <a:r>
              <a:rPr b="0" lang="ru-RU" sz="2800" spc="-1" strike="noStrike">
                <a:solidFill>
                  <a:srgbClr val="361309"/>
                </a:solidFill>
                <a:latin typeface="Gill Sans MT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У</a:t>
            </a:r>
            <a:r>
              <a:rPr b="0" lang="ru-RU" sz="2800" spc="-1" strike="noStrike">
                <a:solidFill>
                  <a:srgbClr val="361309"/>
                </a:solidFill>
                <a:latin typeface="Gill Sans MT"/>
              </a:rPr>
              <a:t>чн</a:t>
            </a: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І 10-А кл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Клименок Ром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Суворов Артем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Салай Михай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"/>
          <p:cNvPicPr/>
          <p:nvPr/>
        </p:nvPicPr>
        <p:blipFill>
          <a:blip r:embed="rId1"/>
          <a:stretch/>
        </p:blipFill>
        <p:spPr>
          <a:xfrm>
            <a:off x="438120" y="1569600"/>
            <a:ext cx="2845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271160" y="142920"/>
            <a:ext cx="7372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ван Франко залишив помітний слід в українській культурі і як критик та літературознавець. Важливу роль відіграли його теоретичні праці «Література, її завдання і найважніші ціхи», «Влада землі в сучасному романі», розвідки та нариси про Т. Шевченка, М. Старицького, В. Самійленка, Лесю Українку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upload.wikimedia.org/wikipedia/commons/thumb/b/bc/%D0%A4%D1%80%D0%B0%D0%BD%D0%BA%D0%BE_%D0%9A%D0%BD%D1%8F%D0%B7%D1%8F_%D0%A0%D0%BE%D0%BC%D0%B0%D0%BD%D0%B0.png/150px-%D0%A4%D1%80%D0%B0%D0%BD%D0%BA%D0%BE_%D0%9A%D0%BD%D1%8F%D0%B7%D1%8F_%D0%A0%D0%BE%D0%BC%D0%B0%D0%BD%D0%B0.png"/>
          <p:cNvPicPr/>
          <p:nvPr/>
        </p:nvPicPr>
        <p:blipFill>
          <a:blip r:embed="rId1"/>
          <a:stretch/>
        </p:blipFill>
        <p:spPr>
          <a:xfrm>
            <a:off x="2225880" y="3799440"/>
            <a:ext cx="2214360" cy="295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upload.wikimedia.org/wikipedia/commons/thumb/e/ef/%D0%9B%D1%8C%D0%B2%D1%96%D0%B2%2C_%D0%BF%D0%B0%D0%BC._%D0%86.%D0%A4%D1%80%D0%B0%D0%BD%D0%BA%D1%83.jpg/210px-%D0%9B%D1%8C%D0%B2%D1%96%D0%B2%2C_%D0%BF%D0%B0%D0%BC._%D0%86.%D0%A4%D1%80%D0%B0%D0%BD%D0%BA%D1%83.jpg"/>
          <p:cNvPicPr/>
          <p:nvPr/>
        </p:nvPicPr>
        <p:blipFill>
          <a:blip r:embed="rId2"/>
          <a:stretch/>
        </p:blipFill>
        <p:spPr>
          <a:xfrm>
            <a:off x="4607640" y="2773080"/>
            <a:ext cx="1999800" cy="266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://upload.wikimedia.org/wikipedia/uk/thumb/e/ec/%D0%9D%D0%B0%D0%B3%D1%83%D1%94%D0%B2%D0%B8%D1%87%D1%96_%D0%A4%D1%80%D0%B0%D0%BD%D0%BA%D0%BE.jpg/200px-%D0%9D%D0%B0%D0%B3%D1%83%D1%94%D0%B2%D0%B8%D1%87%D1%96_%D0%A4%D1%80%D0%B0%D0%BD%D0%BA%D0%BE.jpg"/>
          <p:cNvPicPr/>
          <p:nvPr/>
        </p:nvPicPr>
        <p:blipFill>
          <a:blip r:embed="rId3"/>
          <a:stretch/>
        </p:blipFill>
        <p:spPr>
          <a:xfrm>
            <a:off x="7052400" y="2657520"/>
            <a:ext cx="1904760" cy="2542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upload.wikimedia.org/wikipedia/commons/thumb/a/a3/20-Hryvnia-2000-front.jpg/120px-20-Hryvnia-2000-front.jpg"/>
          <p:cNvPicPr/>
          <p:nvPr/>
        </p:nvPicPr>
        <p:blipFill>
          <a:blip r:embed="rId4"/>
          <a:stretch/>
        </p:blipFill>
        <p:spPr>
          <a:xfrm>
            <a:off x="122040" y="2950920"/>
            <a:ext cx="1876680" cy="99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http://upload.wikimedia.org/wikipedia/uk/thumb/6/6c/%D0%86%D0%B2%D0%B0%D0%BD%D0%B0_%D0%A4%D1%80%D0%B0%D0%BD%D0%BA%D0%B0_%D0%B1%D1%83%D0%B4%D0%B8%D0%BD%D0%BE%D0%BA.jpg/120px-%D0%86%D0%B2%D0%B0%D0%BD%D0%B0_%D0%A4%D1%80%D0%B0%D0%BD%D0%BA%D0%B0_%D0%B1%D1%83%D0%B4%D0%B8%D0%BD%D0%BE%D0%BA.jpg"/>
          <p:cNvPicPr/>
          <p:nvPr/>
        </p:nvPicPr>
        <p:blipFill>
          <a:blip r:embed="rId5"/>
          <a:stretch/>
        </p:blipFill>
        <p:spPr>
          <a:xfrm>
            <a:off x="115920" y="4448160"/>
            <a:ext cx="1785600" cy="1696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http://upload.wikimedia.org/wikipedia/commons/thumb/3/3e/Museum_ivan_franko.jpg/120px-Museum_ivan_franko.jpg"/>
          <p:cNvPicPr/>
          <p:nvPr/>
        </p:nvPicPr>
        <p:blipFill>
          <a:blip r:embed="rId6"/>
          <a:stretch/>
        </p:blipFill>
        <p:spPr>
          <a:xfrm>
            <a:off x="4611240" y="5537880"/>
            <a:ext cx="1995840" cy="121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http://upload.wikimedia.org/wikipedia/commons/thumb/3/3c/S747.jpg/120px-S747.jpg"/>
          <p:cNvPicPr/>
          <p:nvPr/>
        </p:nvPicPr>
        <p:blipFill>
          <a:blip r:embed="rId7"/>
          <a:stretch/>
        </p:blipFill>
        <p:spPr>
          <a:xfrm>
            <a:off x="6834240" y="5284800"/>
            <a:ext cx="2071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4811400" y="100800"/>
            <a:ext cx="4332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808080"/>
                </a:solidFill>
                <a:latin typeface="Gill Sans MT"/>
              </a:rPr>
              <a:t>Іван Франко розкриває незламний дух у поемі «Мойсей»,який актуальний в теперішній час в Україні та в світі,адже перемагають завжди ті,хто борються та вірять в перемогу,ті,котрі готові чимось пожертвувати аби досягти м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60000" y="5111640"/>
            <a:ext cx="6260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70c0"/>
                </a:solidFill>
                <a:latin typeface="Gill Sans MT"/>
              </a:rPr>
              <a:t>Як писав О.Білецький: « «Мойсей» Франка-це заповіт українському народові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336320" y="243720"/>
            <a:ext cx="307008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227960" y="357120"/>
            <a:ext cx="7486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ван Франко — геніальний поет, що залишив своїм нащадкам коштов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лини в літературі усього сві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Всі новини - Сторінка 1287 - Стрічка новин Львова"/>
          <p:cNvPicPr/>
          <p:nvPr/>
        </p:nvPicPr>
        <p:blipFill>
          <a:blip r:embed="rId1"/>
          <a:stretch/>
        </p:blipFill>
        <p:spPr>
          <a:xfrm>
            <a:off x="357120" y="2071800"/>
            <a:ext cx="6071760" cy="45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Форум - Історичне Прикарпаття :: Перегляд теми - Великі українці: Іван Франко"/>
          <p:cNvPicPr/>
          <p:nvPr/>
        </p:nvPicPr>
        <p:blipFill>
          <a:blip r:embed="rId2"/>
          <a:stretch/>
        </p:blipFill>
        <p:spPr>
          <a:xfrm>
            <a:off x="6429240" y="2143080"/>
            <a:ext cx="2428560" cy="33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985320" y="500040"/>
            <a:ext cx="42760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втомним Каменярем на шляхах прогресу, Вічним революціонером і Титаном праці ввійшов Іван Франко в історю української та світової літератури і громадсько-політичної ду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Фотографії українських письменників 44 фотографии ВКонтакте"/>
          <p:cNvPicPr/>
          <p:nvPr/>
        </p:nvPicPr>
        <p:blipFill>
          <a:blip r:embed="rId1"/>
          <a:stretch/>
        </p:blipFill>
        <p:spPr>
          <a:xfrm>
            <a:off x="5762160" y="0"/>
            <a:ext cx="3071520" cy="405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Великие украинцы. Иван Франко - Документальное кино - Телеканал &quot;Интер+&quot;"/>
          <p:cNvPicPr/>
          <p:nvPr/>
        </p:nvPicPr>
        <p:blipFill>
          <a:blip r:embed="rId2"/>
          <a:stretch/>
        </p:blipFill>
        <p:spPr>
          <a:xfrm>
            <a:off x="2440440" y="4192560"/>
            <a:ext cx="2666520" cy="178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&quot;Преданья старины глубокой...&quot; Газета &quot;День&quot;"/>
          <p:cNvPicPr/>
          <p:nvPr/>
        </p:nvPicPr>
        <p:blipFill>
          <a:blip r:embed="rId3"/>
          <a:stretch/>
        </p:blipFill>
        <p:spPr>
          <a:xfrm>
            <a:off x="6250320" y="3515760"/>
            <a:ext cx="2095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3637800" y="758880"/>
            <a:ext cx="486540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157840" y="591120"/>
            <a:ext cx="61088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Дмитро Павличко писав: «Астрономи твердять, що всесвіт виник із дрібного зер­нятка вогняної матерії, вибух якого наповнив простори зорями й планетами, хоч неможливо уявити силу, здатну вмістити про­граму космосу в одному зерні. Галактика творів Івана Франка так само народилася з пилинки вогню. На вигляд звичайна окалина, або, як кажуть бойки, дзиндра, а насправді незбагненна клітина божественного пломеню, «правдива іскра Прометея», злетіла… вибухнула вулканами любові до праці, до правди, до свобо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202040" y="571320"/>
            <a:ext cx="72986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начаючи місце Івана Франка у літературному процесі, слід у першу чергу, вказати на те, що після Шевченка він був найвидатнішою постаттю в українській літератур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оскільки він продовжив «місію» Шевченка,пишучи поза рамками встановленої цензури та розкриваючи людям тогочасну дійс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Украина. Марки Петербурга - интернет-магазин"/>
          <p:cNvPicPr/>
          <p:nvPr/>
        </p:nvPicPr>
        <p:blipFill>
          <a:blip r:embed="rId1"/>
          <a:stretch/>
        </p:blipFill>
        <p:spPr>
          <a:xfrm>
            <a:off x="4071960" y="3744360"/>
            <a:ext cx="480996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808360" y="118080"/>
            <a:ext cx="625644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ко високо ставив поетичне слово, вимагав, щоб письменники підвищували свою поетичну майстерність і наполегливо працювали над збагаченням і вдосконаленням м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енники вчаться у І. Франка, осмислюють секрети його творчості, дієвості його слова, але, як пише В. Коротич: «Поети лиш тоді стають Франками, Коли живуть, як він, Лиш так, як він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Иван Франко :: Богдан Вовк - Социальная сеть о фотографии ФотоКто"/>
          <p:cNvPicPr/>
          <p:nvPr/>
        </p:nvPicPr>
        <p:blipFill>
          <a:blip r:embed="rId1"/>
          <a:stretch/>
        </p:blipFill>
        <p:spPr>
          <a:xfrm>
            <a:off x="187920" y="1219320"/>
            <a:ext cx="261972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4857840" y="571320"/>
            <a:ext cx="3428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Франко художньо відтворив зародження революційної свідомості робітничого класу і перші організовані виступи робітників нафтових промислів у Галичині, показав сильні і слабкі сторони робітничого руху в Галичи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Экскурсионные туры по Львову, отдых, путешествия, туры по Украине, экскурсии по Львову, организация корпоративов- Туроператор Вы"/>
          <p:cNvPicPr/>
          <p:nvPr/>
        </p:nvPicPr>
        <p:blipFill>
          <a:blip r:embed="rId1"/>
          <a:stretch/>
        </p:blipFill>
        <p:spPr>
          <a:xfrm>
            <a:off x="0" y="0"/>
            <a:ext cx="4474440" cy="335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mysldrv_ru - Новая фотография Ивана Франко"/>
          <p:cNvPicPr/>
          <p:nvPr/>
        </p:nvPicPr>
        <p:blipFill>
          <a:blip r:embed="rId2"/>
          <a:stretch/>
        </p:blipFill>
        <p:spPr>
          <a:xfrm>
            <a:off x="379440" y="3549600"/>
            <a:ext cx="241596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281040" y="5025600"/>
            <a:ext cx="5970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Гарним прикладом можна назвати повість І.Я.Франка «Борислав сміється» та всім відомий «Гім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369800" y="571320"/>
            <a:ext cx="73454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же на початку 80-х років ХІХ ст. Франко, завдяки своїй творчості і літературно-громадській діяльності, став найбільш популярним українським письменником, очолив революційно-демократичну течію в українській літературі.</a:t>
            </a: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Иван Труш. Портрет Ивана Франко. 1913 г."/>
          <p:cNvPicPr/>
          <p:nvPr/>
        </p:nvPicPr>
        <p:blipFill>
          <a:blip r:embed="rId1"/>
          <a:stretch/>
        </p:blipFill>
        <p:spPr>
          <a:xfrm>
            <a:off x="428760" y="2786040"/>
            <a:ext cx="2642760" cy="3966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Купить Художественная литература в интернет-магазине Comteh.com Художественная литература продажа в Донецке, Днепропетровске, Ха"/>
          <p:cNvPicPr/>
          <p:nvPr/>
        </p:nvPicPr>
        <p:blipFill>
          <a:blip r:embed="rId2"/>
          <a:stretch/>
        </p:blipFill>
        <p:spPr>
          <a:xfrm>
            <a:off x="6715080" y="2870280"/>
            <a:ext cx="2428560" cy="398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varjag_2007: Сын Ивана Франко про 17 сентября 1939 года"/>
          <p:cNvPicPr/>
          <p:nvPr/>
        </p:nvPicPr>
        <p:blipFill>
          <a:blip r:embed="rId3"/>
          <a:stretch/>
        </p:blipFill>
        <p:spPr>
          <a:xfrm>
            <a:off x="3286080" y="3302280"/>
            <a:ext cx="2928600" cy="29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Франкиана Газета &quot;День&quot;"/>
          <p:cNvPicPr/>
          <p:nvPr/>
        </p:nvPicPr>
        <p:blipFill>
          <a:blip r:embed="rId1"/>
          <a:stretch/>
        </p:blipFill>
        <p:spPr>
          <a:xfrm>
            <a:off x="6335640" y="3339720"/>
            <a:ext cx="2381040" cy="3428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5805720" y="3436920"/>
            <a:ext cx="18284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8" name="Picture 2" descr="Архів новин - ЗНАТИ ЩОБ РОЗУМІТИ"/>
          <p:cNvPicPr/>
          <p:nvPr/>
        </p:nvPicPr>
        <p:blipFill>
          <a:blip r:embed="rId2"/>
          <a:stretch/>
        </p:blipFill>
        <p:spPr>
          <a:xfrm>
            <a:off x="1534680" y="4109040"/>
            <a:ext cx="3661920" cy="2463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926280" y="-327600"/>
            <a:ext cx="6707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Іван Франко по праву займає особливе місце в українській літературі. Він відомий за межами України не тільки як поет, письменник, драматург, але й літературознавець, фольклорист, історик, перекладач. Із щедрої Франкової криниці черпають творчу наснагу нові покоління письменників, живописців, композиторів. «Які прекрасні сходи дає в наші дні те насіння, що його разом з іншими сіяв і</a:t>
            </a: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ш Франко», - писав Олесь Гонч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41</TotalTime>
  <Application>LibreOffice/7.4.7.2$Linux_X86_64 LibreOffice_project/40$Build-2</Application>
  <AppVersion>15.0000</AppVersion>
  <Words>365</Words>
  <Paragraphs>18</Paragraphs>
  <Company>DNA Projec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8:16:41Z</dcterms:created>
  <dc:creator>DNA7 X86</dc:creator>
  <dc:description/>
  <dc:language>en-US</dc:language>
  <cp:lastModifiedBy>User</cp:lastModifiedBy>
  <dcterms:modified xsi:type="dcterms:W3CDTF">2017-01-17T20:30:50Z</dcterms:modified>
  <cp:revision>11</cp:revision>
  <dc:subject/>
  <dc:title>Значення творчості Івана Фра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